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28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29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0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3644-13E4-4F7D-90A5-C56FC5118B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EF65-E1E0-4923-818A-DE939BC60DF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8094-63D2-4115-B353-E8283280465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24A8-F1E5-4ADB-A6A0-18BBC7684F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510E-B9D7-4344-8E41-185CA57FC3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26A2-668F-4002-B01B-C85F468E64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7FFC-D9C3-44F7-A382-C1C60CA58B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87A1-27E3-40B7-8203-F290C74BEA3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7524-3058-46B5-ADCA-3EEE49BDE27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30F0-FFC3-4DEB-80A4-F2B62D0255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196F-9510-4ECE-8066-5E8963256A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FE73-F0E4-405A-9990-026868F22A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18A3-F453-43EA-9756-0F348A069D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C430-EB0A-4AF2-83C0-9879BC96786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0D27-6303-4AC2-A07A-64652A43108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61B1-B59A-4672-9D29-44A41A2ACA8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BDCA-CA74-4037-B084-9D60688667E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515-1E71-4231-BB9D-0F1CF49A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F35-867B-4762-BFCC-5F0FC3A1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101F0-2689-4268-805E-30127B3B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F1C3F-8030-4732-85FD-FABEB99D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FD12E-4B9E-4B12-9D5B-3EECA758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52D9B-A041-41D2-A97C-14D4EBA3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DB077-8E55-42BB-AAE4-3BB1F2E5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9728E-8101-4318-B2BC-CD71A35A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79722-C378-45E0-B347-02314A81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FC454-F64F-45C1-AD89-932E6681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4C37D-2D68-40D4-9627-C8E85A33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D30-3E3F-46AD-B585-3AFAF4A1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67A-D174-49B0-A773-90DCB6CE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B7E9-4E7D-4BD2-A4DF-CDE00215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1746-9AD1-454A-B181-63C223A4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090E-FAC5-4421-A7C4-F8B21C98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F6F0-F7B9-4445-9E05-D2BA71C4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1F5C-2EA9-40F2-89C3-F76C66CC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AFB6-898F-44C3-A094-3FA86B8D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2D0A-6D27-40DF-9210-1056BAF0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78D-AD36-4C0A-9B13-83EA652B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BEAE-18D6-4EC5-80D7-B72BA240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D9FF-37FC-47A1-840B-9708FEE4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FA78-FC3A-4AB6-91E1-A66DBF5A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87BF-A7B3-4E21-B424-F3C7C63A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1E87-ADD4-404C-B3FC-B65E6533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D8690-215D-4E15-81F9-816C0220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D7939-78D8-4C03-AFDC-0EED1F4D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A6F25-6547-42F6-9F0F-759DF74B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1C939-6705-4973-864F-A542C18F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10D81-3B9E-4141-90DA-8191CFDE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780-D732-4AA4-943C-B69E484A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D64DB-A384-4334-91FB-AFC34708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E2E7F-A339-4098-B6B2-EB765EDD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00CD4-63E0-4E3D-AD94-210A402F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76636-E14F-49C9-B7BB-7186D483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424BA-BC58-48B0-BB2C-4D9F874B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5ADC9-DE47-46CB-B437-7F854643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650D8-DF83-4806-9E72-77F03C4F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610CF-C45B-4637-8782-3A92ABD5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BA27A-0ABD-4A6E-A963-D073F8B8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F2691-34E5-49E2-BB7F-960B3C25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134F-E72F-47B0-8EDD-35B64BB5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0EDE1-25DF-4905-BAC5-6A1916B2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2BAC3-FEF8-4E18-BEC7-520D925E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0D9FA-F52F-49DC-84FE-24A471F2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A5E0C-833D-4827-A27A-1DA29AC0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242CC-0DC6-4C30-B77A-4A8D6C67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36AD7-7690-4494-AB6F-7027EECB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9347-FA7A-4770-A1B5-E0358A12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52ABE-1B80-4EAF-B7C1-3F9BB771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08422-B6CF-485E-8E64-EC4AB9EF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996E7-B30C-4F58-A472-85501554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336-6541-42C8-88C9-813BE59C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F63CB-4C07-498A-8BD9-8B453A92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8AF28-44FF-4BD4-A1EA-9AC7387C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51FACB-2F98-45C4-9EC5-2EB8BBD3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94E5D-F812-49DF-B447-E6ACFC1A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E95A5-46CF-45A2-984B-F241B086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39647-3E8F-40B8-9FDD-22E17643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D1120-AC52-4D2C-BA24-72F6A06D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3C265-53DF-45BD-879C-8814960D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CE986-262F-4CF3-A605-1CE6361E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45A38E-F838-44E0-9D69-E038068D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F61-E693-4DB7-B736-93929C9B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1B20D-0528-40DA-B92A-622418FC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AE886-21E0-4F26-995F-9CED26E3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CF4B4-6805-47BA-A3EF-B16DDBCC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CAA39C-BCF5-4CF1-AD82-37064738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7A3BB6-9A50-4808-B5B1-9A002E4D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54E359-21DD-4774-8FAE-350CA6C4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A6AA4C-31C7-4B78-ADA4-C77BE95D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32784-3B42-4E8D-9F57-1AE6B522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42295-67F6-43F0-AE79-99199230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99D49-4C28-4795-917A-53FCD9C5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B45-8B8D-41A0-96F2-83740A15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84F11-B3AD-409C-845B-F95AEDFC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01C87-4572-46AF-9B83-254A3FCB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45E23-C6A8-4684-B558-25CA88E0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92217-6729-4817-86AF-F7B75673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DD3BE-9A1B-4702-B3DF-39873A27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E9A574-B78C-4A07-B01E-EEEB99DE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526AC5-0069-48CD-9B58-40359163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729E56-17BB-4CFC-934A-60FDD8A6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C02DDB-0E34-4E59-BF92-214C3A72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5A48EA-1A46-409A-B6CA-8F13C8F7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D30-1C16-4E19-983D-A777BC6C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4D032-D7A1-44CC-A801-7CD9C91C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D8EA8C-BC1A-44E1-A790-33B462D5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510771-4B0E-4EC1-8125-29CBB493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9F818-F53F-492E-8620-50630C87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66369B-71DA-4F99-82F3-2CA5D8FC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7B095-814A-40BF-A35A-6A2AE841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5D1CE-B845-4B73-BAF8-8C876157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83488-980D-46FC-8049-71472CE1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12E59-1D7B-4EA9-80FD-BB693C98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9543A-BB06-4E72-9C9D-030C5224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EA7-B2C9-4CCF-9567-A7AB9A58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87B56-8882-413E-B2F7-D234E137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B493F-1245-4A06-B6E0-93CCD3E8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4D6CF-E0FA-40E6-AEA3-90655C1E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3E96E-A4D6-4BED-B3BA-B60B5217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4DA63-24F2-45D5-A4E4-F4F06417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EBAB1-46B2-4473-A5C7-1B0B8B5F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35DE6-110F-494F-B856-E110ACDA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440C6-4EBF-4F84-84B1-BDA430FC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27177-FF40-498D-B8F1-A70136F8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E085D-7CE0-4651-975B-7124A92B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A9E7-539E-4FAA-971E-F8CE539F20B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15E3-A06F-4462-B86C-4B77A77EFFB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2C95-411A-4AEF-9B57-5F778140039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76CA-72DB-4B91-A1D1-AD5D8D27319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09D4-D0FF-4354-B15C-C8CB93A4DD0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D598-24F5-42F8-A6B5-F316240F944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3488-DF29-4059-827B-91CE481A4BA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A101-47F9-4BC5-B706-D8918A0E428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F19F-D39D-4D36-9CBE-9387B1B7EC5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57200" y="-28584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e75c01"/>
                </a:solidFill>
                <a:latin typeface="Century Schoolbook"/>
                <a:cs typeface="Arial"/>
              </a:rPr>
              <a:t>بسم الله الرحمن الرحیم</a:t>
            </a:r>
            <a:br>
              <a:rPr sz="3000"/>
            </a:br>
            <a:br>
              <a:rPr sz="3000"/>
            </a:br>
            <a:r>
              <a:rPr b="1" lang="fa-IR" sz="36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غذیه و ورزشی</a:t>
            </a:r>
            <a:br>
              <a:rPr sz="3600"/>
            </a:br>
            <a:br>
              <a:rPr sz="36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( تربیت بدنی و علوم ورزشی )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نبع:تغذیه و ورزش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ولف:دکتر محمد رضا رمضان پور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عداد واحد: 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 واحد</a:t>
            </a:r>
            <a:br>
              <a:rPr sz="2400"/>
            </a:br>
            <a:br>
              <a:rPr sz="2400"/>
            </a:br>
            <a:r>
              <a:rPr b="1" lang="fa-IR" sz="3200" spc="-1" strike="noStrike">
                <a:solidFill>
                  <a:srgbClr val="e75c01"/>
                </a:solidFill>
                <a:latin typeface="Century Schoolbook"/>
                <a:cs typeface="Arial"/>
              </a:rPr>
              <a:t>استاد مربوطه: پریسا خیر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1403280" y="2349360"/>
          <a:ext cx="6553440" cy="3127680"/>
        </p:xfrm>
        <a:graphic>
          <a:graphicData uri="http://schemas.openxmlformats.org/drawingml/2006/table">
            <a:tbl>
              <a:tblPr/>
              <a:tblGrid>
                <a:gridCol w="4105440"/>
                <a:gridCol w="1439640"/>
                <a:gridCol w="1008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الری روزانه(سوخت و ساز پای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ن(سال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ن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 به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* 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) 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د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ن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22"/>
          <p:cNvSpPr/>
          <p:nvPr/>
        </p:nvSpPr>
        <p:spPr>
          <a:xfrm>
            <a:off x="622440" y="1428840"/>
            <a:ext cx="73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Times New Roman"/>
              </a:rPr>
              <a:t> برآورد میزان سوخت و ساز پایه (از سازمان بهداشت جهان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655560" y="1557360"/>
          <a:ext cx="7559640" cy="4986360"/>
        </p:xfrm>
        <a:graphic>
          <a:graphicData uri="http://schemas.openxmlformats.org/drawingml/2006/table">
            <a:tbl>
              <a:tblPr/>
              <a:tblGrid>
                <a:gridCol w="3229200"/>
                <a:gridCol w="4330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یلو کالری مورد نیا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روه سنی و شرایط فیزیولوژیک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یلو گرم وزن بدن *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کیلو گرم وزن بدن*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ودک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از تولید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ماهگی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هگی تا یک سالگی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سر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دان: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و بیشتر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ختر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نان 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 بیشتر                                                            آبستنی                                                                  شیردهی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Text Box 15"/>
          <p:cNvSpPr/>
          <p:nvPr/>
        </p:nvSpPr>
        <p:spPr>
          <a:xfrm>
            <a:off x="928800" y="428760"/>
            <a:ext cx="71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Times New Roman"/>
              </a:rPr>
              <a:t> مقدار نیازهای روزانه انرژی به نسبت کالری در سنین و شرایط مختلف فیزیولوژیک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57120" y="642600"/>
            <a:ext cx="8175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         مستق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ندازه گیری ارزش حرارتی مواد غذای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         غیر مستق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سوختن غذاها در حضور اکسیژن در بمب حرارت سنج وتعیین کالری بر حسب حرارت تولید شده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رزش حرارتی هر گرم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Line 5"/>
          <p:cNvSpPr/>
          <p:nvPr/>
        </p:nvSpPr>
        <p:spPr>
          <a:xfrm flipH="1" flipV="1">
            <a:off x="3492000" y="1279080"/>
            <a:ext cx="57492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6"/>
          <p:cNvSpPr/>
          <p:nvPr/>
        </p:nvSpPr>
        <p:spPr>
          <a:xfrm flipH="1">
            <a:off x="3492000" y="1638360"/>
            <a:ext cx="57492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900000" y="4000680"/>
          <a:ext cx="4751640" cy="1828800"/>
        </p:xfrm>
        <a:graphic>
          <a:graphicData uri="http://schemas.openxmlformats.org/drawingml/2006/table">
            <a:tbl>
              <a:tblPr/>
              <a:tblGrid>
                <a:gridCol w="1619280"/>
                <a:gridCol w="1922400"/>
                <a:gridCol w="1209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بدن انس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بمب کالری سنج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قند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/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چربی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پروتئین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85840" y="2357280"/>
            <a:ext cx="82468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روش مستقیم: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طاقکی سرپوشیده که اطراف آن را حجم معینی از آب گرفته و فرد یا حیوان داخل اطاقک قرار می گیرد و با اندازه گیری تغییرات درجه حرارت آب میزان حرارت آزاد شده را تعیین می کن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روش غیرمستقیم:</a:t>
            </a:r>
            <a:r>
              <a:rPr b="0" lang="fa-IR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دلیل مشکلات روش مستقیم اندازه گیری تبادلات گازها مد نظر قرار گرف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TextBox 4"/>
          <p:cNvSpPr/>
          <p:nvPr/>
        </p:nvSpPr>
        <p:spPr>
          <a:xfrm>
            <a:off x="357120" y="504360"/>
            <a:ext cx="8072640" cy="183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19e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c00000"/>
                </a:solidFill>
                <a:latin typeface="Times New Roman"/>
              </a:rPr>
              <a:t>چون تمام انرژی تولید شده در بدن سرانجام به صورت حرارت آزاد می شود بنابراین اندازه گیری حرارت آزاد شده با یکی از روشهای زیرصورت می‌گیرد</a:t>
            </a:r>
            <a:r>
              <a:rPr b="0" lang="fa-IR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28400" y="12855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ندازه گیری تبادلات گازها (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،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← میزان حرارت دفع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عیین میزان دفع اوره (پروتئین ها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نسبت تنفسی غذاها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قندها     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→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+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1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=1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چربی ها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 →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3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3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→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213840" y="928440"/>
            <a:ext cx="83185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پروتئین ها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به دلیل نوع ساختمان شیمیایی و همچنین اوره دفعی نمی توان نسبت تنفسی مشخصی تعیین کرد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8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غذای مخلوط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82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یک گرم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انرزی به ازای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انرژی تولی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قند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5/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چرب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4/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پروتئی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/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6/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5"/>
          <p:cNvSpPr txBox="1"/>
          <p:nvPr/>
        </p:nvSpPr>
        <p:spPr>
          <a:xfrm>
            <a:off x="1500120" y="1714680"/>
            <a:ext cx="6215040" cy="39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پايان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SLIDE1_1"/>
          <p:cNvPicPr/>
          <p:nvPr/>
        </p:nvPicPr>
        <p:blipFill>
          <a:blip r:embed="rId1"/>
          <a:stretch/>
        </p:blipFill>
        <p:spPr>
          <a:xfrm>
            <a:off x="0" y="0"/>
            <a:ext cx="5500800" cy="6929280"/>
          </a:xfrm>
          <a:prstGeom prst="rect">
            <a:avLst/>
          </a:prstGeom>
          <a:ln w="0">
            <a:noFill/>
          </a:ln>
        </p:spPr>
      </p:pic>
      <p:sp>
        <p:nvSpPr>
          <p:cNvPr id="454" name="TextBox 7"/>
          <p:cNvSpPr/>
          <p:nvPr/>
        </p:nvSpPr>
        <p:spPr>
          <a:xfrm>
            <a:off x="6143760" y="90504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Times New Roman"/>
              </a:rPr>
              <a:t>بخش اول</a:t>
            </a:r>
            <a:r>
              <a:rPr b="1" lang="fa-IR" sz="36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5357880" y="1871640"/>
            <a:ext cx="36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imes New Roman"/>
              </a:rPr>
              <a:t>تاریخچه و شناخت مفاهیم مربوط به تغذی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5023800" y="3741840"/>
            <a:ext cx="46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</a:rPr>
              <a:t>فصل اول: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تاریخچه تغذی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</a:rPr>
              <a:t>فصل دوم: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مفاهیم تغذی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500040" y="907920"/>
            <a:ext cx="78487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یکی از ارتباط بین انسان و موجودات اطراف ← ارتباط تغذیه ای است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رکیب شیمیایی انسان بالغ 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آب  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مواد معدنی 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0%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واد آل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( گلوسیدها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ر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چربی 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7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پروتئین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Century Schoolbook"/>
                <a:ea typeface="Arial"/>
              </a:rPr>
              <a:t>	</a:t>
            </a:r>
            <a:r>
              <a:rPr b="1" lang="fa-IR" sz="2800" spc="-1" strike="noStrike">
                <a:solidFill>
                  <a:srgbClr val="ff0000"/>
                </a:solidFill>
                <a:latin typeface="Century Schoolbook"/>
                <a:cs typeface="Arial"/>
              </a:rPr>
              <a:t>سلول برای زنده ماندن باید مرتباً این مواد را به بدن برساند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142920" y="3834360"/>
            <a:ext cx="8501040" cy="2288520"/>
          </a:xfrm>
          <a:prstGeom prst="rect">
            <a:avLst/>
          </a:prstGeom>
          <a:gradFill rotWithShape="0">
            <a:gsLst>
              <a:gs pos="0">
                <a:srgbClr val="fe8637">
                  <a:alpha val="89019"/>
                </a:srgbClr>
              </a:gs>
              <a:gs pos="50000">
                <a:srgbClr val="ffe8d9">
                  <a:alpha val="92156"/>
                </a:srgbClr>
              </a:gs>
              <a:gs pos="100000">
                <a:srgbClr val="fe8637">
                  <a:alpha val="89019"/>
                </a:srgbClr>
              </a:gs>
            </a:gsLst>
            <a:lin ang="2700000"/>
          </a:gra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نوع ماده غذایی ← که همه را بدن سنتز نمی ک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ر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عواملی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یماری            ← نیاز انسان به غذا را افزایش می ده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فعالیت جسمان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حرک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684000" y="1699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همین خاطر تغذیه به صورت علم شناخته شده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لاوازیه پایه گذار علم تغذیه در قرن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ش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عریف علم تغذیه ← رساندن مواد غذایی به بدن به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مقدار مناسب</a:t>
            </a:r>
            <a:r>
              <a:rPr b="0" lang="fa-IR" sz="2400" spc="-1" strike="noStrike" u="sng">
                <a:solidFill>
                  <a:srgbClr val="000066"/>
                </a:solidFill>
                <a:uFillTx/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و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انتخاب غذاها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نحوی که احتیاجات روزانه انسان را برآورده ک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فعل و انفعالاتی که موجب می شود که سلول موجود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زنده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باشد،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رشد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کند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نگهدار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و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حرارت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جهت تأمین اعمال حیاتی را علم تغذیه گوی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213840" y="856800"/>
            <a:ext cx="83185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کارهایی که مواد غذایی انجام می دهد به شرح زیر اس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رفع گرسن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انرژ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مواد جهت رشد، نموو ترم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ویتامین ها و مواد معد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شش نوع ماده غذایی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قند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مواد غذایی انرژی زا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قند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402920" y="928800"/>
            <a:ext cx="6048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0" algn="ct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طبقه بندی عوامل مغذی براساس کاربرد آنها در بد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785880" y="2000160"/>
          <a:ext cx="7143840" cy="3429000"/>
        </p:xfrm>
        <a:graphic>
          <a:graphicData uri="http://schemas.openxmlformats.org/drawingml/2006/table">
            <a:tbl>
              <a:tblPr/>
              <a:tblGrid>
                <a:gridCol w="2427120"/>
                <a:gridCol w="2560680"/>
                <a:gridCol w="2156040"/>
              </a:tblGrid>
              <a:tr h="682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کاربرد در بد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رشد و ترمیم بافت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نظیم اعمال بد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بع انرژ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د معدن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یتام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 (آنزیمها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د معدن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یتام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کربوهیدرات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چربی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14200" y="1199880"/>
            <a:ext cx="8282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نظیم اعمال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و آنزیم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رشد و ترمیم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نبع غذایی برای انسا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حیوان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گیاه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عد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ه این غذاها را به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گروه طبقه بندی می کنند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دارای پروتئین (گوشت)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(گیاهی و حیوانی)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غلات و برن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شیر و فراورده های لبن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) سبزی ها و میوه ها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نوشیدنی 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684000" y="64260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متابولیسم پایه: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حداقل میزان انرژی که برای زنده ماندن لازم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که صرف (قلب، عروق، تنفس ، گوارش، اعصاب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ه تقریباً برابر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کالری برای یک متر مربع در یک ساعت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شرایط تعیین متابولیسم پایه عبارت اند ا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حالت استراحت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حالت ناشتا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درجه محیط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الری روزان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ردان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KC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2400 – 4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زنان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KC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1600 – 3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786120" y="4397760"/>
            <a:ext cx="448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مقدار محاسبه کالری براساس وزن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w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6/36 + 815 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مرد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w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1/31 + 580 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زن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684000" y="5713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آنابولیس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متابولیسم</a:t>
            </a:r>
            <a:r>
              <a:rPr b="0" lang="fa-IR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کاتابولیس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آنابولیسم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ذرات شیمیایی غذا به هم پیوسته و ملکول های بزرگ و درشت تر ساخته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می شون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بدیل گلوکز ← گلیکوژن         اسید آمینه ← پروتئی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این واکنش ها ← انرژی گیر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کاتابولیسم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ملکول های درشت به ذرات ریزتر تبدیل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گلوکز 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و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واکنش های انرژی ز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آنابولیسم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در دوره نمو اتفاق می افتد ← حجم ماده بالا می رود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اتابولیسم ← در هنگام فعالیت اتفاق می افتد. ← حجم ماده کمتر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Line 5"/>
          <p:cNvSpPr/>
          <p:nvPr/>
        </p:nvSpPr>
        <p:spPr>
          <a:xfrm flipH="1" flipV="1">
            <a:off x="6786720" y="782280"/>
            <a:ext cx="57456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H="1">
            <a:off x="6786720" y="1143000"/>
            <a:ext cx="57600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2:05:47Z</dcterms:created>
  <dc:creator>akbar</dc:creator>
  <dc:description/>
  <dc:language>en-US</dc:language>
  <cp:lastModifiedBy>Melisa Joon</cp:lastModifiedBy>
  <dcterms:modified xsi:type="dcterms:W3CDTF">2020-04-04T07:52:48Z</dcterms:modified>
  <cp:revision>84</cp:revision>
  <dc:subject/>
  <dc:title>Slide 1</dc:title>
</cp:coreProperties>
</file>