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DBAE-1DAA-436A-875B-1FDF249CE8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828-542D-49E1-A820-464679E19F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685-7980-4AEC-8911-D260AA0F0B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6002-E83C-4667-B57E-A338547618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B948-C13C-4674-BB4B-6DFB942750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72B-DDED-4019-9250-83ABE7A058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49B-3E3E-42FD-B7F5-045F64601D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853-B11A-42CF-9705-EF6901FE1E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FF11-8FD7-4D3F-A837-B05C4352CD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53B-6AD2-43C1-A06E-2C61921C3F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FE1D-8C2A-49BB-878E-88C914478B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C899-C8DC-4EBC-ACA1-D7758767D7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AF2-1C19-4D28-AD71-F3B22599C2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E870-B94A-448E-B9D3-A866250129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DB74-0FB7-4430-AAB9-67B7946711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6357-3ECA-422B-B76F-F380374857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B46-7539-4211-A4CB-DFE8AF4491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857-73B6-4770-9C5E-258F747B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D47-81EC-4A5B-99D9-19D2794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BC202-3B31-43A7-BDD5-22C5ACDF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1D144-7BC6-49C4-AC74-98FAE694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EF8D4-CC1A-4BB7-AF01-EA17524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CB15-6B1A-46D8-975A-D380D9D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A6CBB-E0C1-4205-879C-449E95E6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90D57-175B-44D3-99E4-5530964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91B24-941A-4EF5-8FC6-77288CA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B9EE8-C6A3-4A87-93DB-6021C5BF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5BAE3-623F-45E5-B02E-57FE6991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02B-45C7-4ABE-A785-00DED916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82A-F949-49B1-9C95-E239ACDA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9031-A46B-4B89-B35D-9D7D9D11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4ECB-1970-48D4-B0FA-2ED279FC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0A41-5330-487C-B753-4B38DCF8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D433-5529-4D73-8F1D-318F176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30B8-29DC-4E0C-BA66-7847D408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8B43-8549-45A7-83E9-C47BC9D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99E3-D99A-4EF6-AA1A-1950A5B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629-D25D-45CD-830D-D7FA5EDE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F6AB-7A2E-48C3-9137-5423313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3EF3-BFA0-412D-9E2C-6437F3C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2AB4-BFA7-4750-A6C2-8764903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10A1-0A2F-42CF-8901-D9616B0F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5E10-6DDB-4FDD-B7DD-13786EC5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EE257-BB23-423F-A55A-ABA8C304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21D0-0098-41B1-BECB-9FB85B9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B82F5-054A-4387-A331-8F7B7CA9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D6413-1DAD-4FB3-96E2-16B34FF8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3E321-14E4-49A1-BE7E-FA574A59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9AA-432A-4F28-9888-FDB996C0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7F146-DC37-4419-8066-8EAC466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F6507-679F-4B45-A125-DAA5377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95532-9826-4ADD-B7E2-D1BA808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01531-7EED-4D1C-A776-68B6D14D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549F3-82A3-419C-B398-EFED7712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5E950-5F7C-4395-ACAF-64EB06BA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61AF2-1EC2-407B-B6AF-E8C17958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456A-08E9-4BDE-8269-D42DC9C7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835A-5A7D-44F1-B61F-346BB9A6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CFB7-0040-4879-A5A5-FCD1ABE7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324-0FE5-47AA-84A0-5E50EE25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28F1-6EA1-45E5-A693-F5EEC695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A1D6-D77F-4213-8583-1CF3090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AA9D-641D-41BC-B538-0C9555F8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172C-1998-49CC-8BB8-065C79C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8F21-59B1-4A8B-BBB5-2E48A53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74E5-3BDC-4640-B99B-7BDB68C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8356-94B0-4555-9555-FAD21320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F07A-C087-48BB-BD03-BDB90ABA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4773-6D80-468D-A872-3AB149D4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3A328-DE17-4757-B624-BFCAF285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C02-C860-4F77-817D-5A71DF28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ED73C-9061-48C1-8E20-9147467F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F2313-325B-4CBD-82D2-72725845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394E9-DFB8-44CA-83FD-D9F50A9A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F66F9-ABC9-4370-A1CE-384404C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9EF54-ED1A-4032-B8BD-9D7709FB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41F00-0124-42E9-B5AC-2BB4099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D67AD-9223-4641-8E55-EB29D97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9BA13-B46D-49D3-BC82-8DE67A2E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A2B97-BEE3-4158-8EB5-ABBAC660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E06B0-AB1E-4357-B4A5-A9787690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5F9-216C-453C-974D-3BD8753A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8DCFB-ED9A-4995-84DC-B9DB576F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3373C-9C85-4BE2-8B63-610ADB02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9838A-7FCB-4A20-A5CB-9261E343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6C55A-B81B-49E0-9BF8-CC152B71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4EB34-BF56-4715-A29C-EF67358D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68D4A-0895-423E-839E-94BCFD9B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B7B87-C17C-4EAD-91D1-72FAF5EB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C96EC-7715-47F9-9933-C23F364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5629F-738D-49CD-853D-A14A54F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D9475-7B65-4F63-B068-C08D87F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7BD-7C4E-4481-B116-4DE9224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3F576-A179-4E16-9B5F-8EAB0607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C2948-CFAF-403A-A0E8-5493D897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41CCF-7A3F-4A4D-98EE-DB4AE36C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CC891-6042-406C-97AC-49698FCF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C9BDF-01A8-43F9-88EB-3F28E3DE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BCEBF-34DF-4475-BB74-F264406A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FA98F-EEE9-476B-A636-F9938A04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BCE2F-BF14-4228-B86F-464055AA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3EAC4-8705-4FC2-8DBE-8780BDC6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FD524-5C91-4697-8B7E-1690908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24E-761C-4BE0-9976-2072D06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326FD-A628-4707-BDAD-9F0A357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09DA3-6D98-4ECA-BA29-42C0712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C12B5-1D79-4BA7-AE16-CAB185B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8A92C-C5D0-4E08-8EB3-FB5FCEB8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72535-647C-420D-9A49-5D6835B9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88D65-B766-4612-97AA-A0D6601D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EC0B-0383-4E7B-AA32-C5EF3F30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857A8-368F-4D0C-A794-12866570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6733-3785-45EB-AC8A-CD1E6C20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E8B8-7F3C-4514-ADBE-6DC09756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988-AD1B-402D-8836-1421B948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BE40B-CB1A-44DF-AED5-2ABE62E9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CB25E-396D-4DE7-B4CC-AC1122F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02D2-A0BE-40DA-99E6-14CC1BEC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74C9-BA83-4DD2-BA55-7CA2878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DDD1-FB8E-4984-B7A6-E2405822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61AB5-0FB8-45B4-B1CC-71E32197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64FA-1A24-4BCD-8D28-56186EAA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8B176-D78B-4272-A576-68337234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6D938-9227-4EF8-B9D0-3B039FF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130D7-64D5-4BA5-9044-B091F55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87E0-ECC9-4A7C-8086-BA2A8C8E8EA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A860-7BA6-4163-89D0-C74C4E8CBF4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C956-AD15-4D53-9060-6A7A6338B17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2DB8-73DF-4567-AF8D-D848CB5E708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CA4-2E8F-44BD-A665-60BC9F5F833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E40F-18B8-4E05-B8E8-FD69ED80B40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C89D-56BF-4315-A13C-248E9F11561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811-B860-49A3-9FC5-1E1085941A1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E8E-98EA-4995-9066-E2A57DBEE8B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403280" y="2349360"/>
          <a:ext cx="6553440" cy="3127680"/>
        </p:xfrm>
        <a:graphic>
          <a:graphicData uri="http://schemas.openxmlformats.org/drawingml/2006/table">
            <a:tbl>
              <a:tblPr/>
              <a:tblGrid>
                <a:gridCol w="4105440"/>
                <a:gridCol w="1439640"/>
                <a:gridCol w="100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الری روزانه(سوخت و ساز پای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(سا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 به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*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 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2"/>
          <p:cNvSpPr/>
          <p:nvPr/>
        </p:nvSpPr>
        <p:spPr>
          <a:xfrm>
            <a:off x="622440" y="142884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برآورد میزان سوخت و ساز پایه (از سازمان بهداشت جهان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655560" y="1557360"/>
          <a:ext cx="7559640" cy="4986360"/>
        </p:xfrm>
        <a:graphic>
          <a:graphicData uri="http://schemas.openxmlformats.org/drawingml/2006/table">
            <a:tbl>
              <a:tblPr/>
              <a:tblGrid>
                <a:gridCol w="3229200"/>
                <a:gridCol w="43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کالری مورد نیا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وه سنی و شرایط فیزیولوژیک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گرم وزن بدن 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کیلو گرم وزن بدن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ودک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ز تولید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اهگی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هگی تا یک سالگی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س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: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بیشتر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خت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 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 بیشتر                                                            آبستنی                                                                  شیرده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15"/>
          <p:cNvSpPr/>
          <p:nvPr/>
        </p:nvSpPr>
        <p:spPr>
          <a:xfrm>
            <a:off x="928800" y="42876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مقدار نیازهای روزانه انرژی به نسبت کالری در سنین و شرایط مختلف فیزیولوژیک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57120" y="642600"/>
            <a:ext cx="8175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ارزش حرارتی مواد غذای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سوختن غذاها در حضور اکسیژن در بمب حرارت سنج وتعیین کالری بر حسب حرارت تولید شد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رزش حرارتی هر گرم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Line 5"/>
          <p:cNvSpPr/>
          <p:nvPr/>
        </p:nvSpPr>
        <p:spPr>
          <a:xfrm flipH="1" flipV="1">
            <a:off x="3492000" y="1279080"/>
            <a:ext cx="57492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"/>
          <p:cNvSpPr/>
          <p:nvPr/>
        </p:nvSpPr>
        <p:spPr>
          <a:xfrm flipH="1">
            <a:off x="3492000" y="1638360"/>
            <a:ext cx="57492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900000" y="4000680"/>
          <a:ext cx="4751640" cy="1828800"/>
        </p:xfrm>
        <a:graphic>
          <a:graphicData uri="http://schemas.openxmlformats.org/drawingml/2006/table">
            <a:tbl>
              <a:tblPr/>
              <a:tblGrid>
                <a:gridCol w="1619280"/>
                <a:gridCol w="1922400"/>
                <a:gridCol w="1209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دن ا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مب کالری سنج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قند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چربی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پروتئین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840" y="2357280"/>
            <a:ext cx="82468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مستقیم: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طاقکی سرپوشیده که اطراف آن را حجم معینی از آب گرفته و فرد یا حیوان داخل اطاقک قرار می گیرد و با اندازه گیری تغییرات درجه حرارت آب میزان حرارت آزاد شده را تعیین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غیرمستقیم: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دلیل مشکلات روش مستقیم اندازه گیری تبادلات گازها مد نظر قرار گرف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357120" y="504360"/>
            <a:ext cx="8072640" cy="183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19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چون تمام انرژی تولید شده در بدن سرانجام به صورت حرارت آزاد می شود بنابراین اندازه گیری حرارت آزاد شده با یکی از روشهای زیرصورت می‌گیرد</a:t>
            </a: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12855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تبادلات گازها (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،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← میزان حرارت دف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یین میزان دفع اوره (پروتئین ها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نسبت تنفسی غذاها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ها 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→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=1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 ها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→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3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3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→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3840" y="928440"/>
            <a:ext cx="8318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 ها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ه دلیل نوع ساختمان شیمیایی و همچنین اوره دفعی نمی توان نسبت تنفسی مشخصی تعیین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غذای مخلوط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2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 گرم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انرزی به ازای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انرژی تولی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5/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4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/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6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1500120" y="1714680"/>
            <a:ext cx="6215040" cy="39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SLIDE1_1"/>
          <p:cNvPicPr/>
          <p:nvPr/>
        </p:nvPicPr>
        <p:blipFill>
          <a:blip r:embed="rId1"/>
          <a:stretch/>
        </p:blipFill>
        <p:spPr>
          <a:xfrm>
            <a:off x="0" y="0"/>
            <a:ext cx="5500800" cy="6929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7"/>
          <p:cNvSpPr/>
          <p:nvPr/>
        </p:nvSpPr>
        <p:spPr>
          <a:xfrm>
            <a:off x="6143760" y="9050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بخش اول</a:t>
            </a: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357880" y="18716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mes New Roman"/>
              </a:rPr>
              <a:t>تاریخچه و شناخت مفاهیم مربوط به تغذی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5023800" y="3741840"/>
            <a:ext cx="46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اول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تاریخچه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دوم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مفاهیم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00040" y="90792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ی از ارتباط بین انسان و موجودات اطراف ← ارتباط تغذیه ای اس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رکیب شیمیایی انسان بالغ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آب  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مواد معدنی 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0%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واد آل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( گلوسید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چربی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7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پروتئین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cs typeface="Arial"/>
              </a:rPr>
              <a:t>سلول برای زنده ماندن باید مرتباً این مواد را به بدن برسان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42920" y="3834360"/>
            <a:ext cx="8501040" cy="2288520"/>
          </a:xfrm>
          <a:prstGeom prst="rect">
            <a:avLst/>
          </a:prstGeom>
          <a:gradFill rotWithShape="0">
            <a:gsLst>
              <a:gs pos="0">
                <a:srgbClr val="fe8637">
                  <a:alpha val="89019"/>
                </a:srgbClr>
              </a:gs>
              <a:gs pos="50000">
                <a:srgbClr val="ffe8d9">
                  <a:alpha val="92156"/>
                </a:srgbClr>
              </a:gs>
              <a:gs pos="100000">
                <a:srgbClr val="fe8637">
                  <a:alpha val="89019"/>
                </a:srgbClr>
              </a:gs>
            </a:gsLst>
            <a:lin ang="27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وع ماده غذایی ← که همه را بدن سنتز نمی ک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عواملی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یماری            ← نیاز انسان به غذا را افزایش می ده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فعالیت جسمان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حرک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684000" y="1699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همین خاطر تغذیه به صورت علم شناخته ش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لاوازیه پایه گذار علم تغذیه در قر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ریف علم تغذیه ← رساندن مواد غذایی به بدن به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مقدار مناسب</a:t>
            </a:r>
            <a:r>
              <a:rPr b="0" lang="fa-IR" sz="2400" spc="-1" strike="noStrike" u="sng">
                <a:solidFill>
                  <a:srgbClr val="000066"/>
                </a:solidFill>
                <a:uFillTx/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انتخاب غذاها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نحوی که احتیاجات روزانه انسان را برآورده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فعل و انفعالاتی که موجب می شود که سلول موجود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زنده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اشد،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رشد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ن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نگهدار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حرارت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جهت تأمین اعمال حیاتی را علم تغذیه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3840" y="856800"/>
            <a:ext cx="83185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کارهایی که مواد غذایی انجام می دهد به شرح زیر اس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رفع گرس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انرژ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مواد جهت رشد، نموو ترم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ویتامین ها و مواد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شش نوع ماده غذای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واد غذایی انرژی زا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02920" y="9288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 algn="ct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طبقه بندی عوامل مغذی براساس کاربرد آنها در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5880" y="2000160"/>
          <a:ext cx="7143840" cy="3429000"/>
        </p:xfrm>
        <a:graphic>
          <a:graphicData uri="http://schemas.openxmlformats.org/drawingml/2006/table">
            <a:tbl>
              <a:tblPr/>
              <a:tblGrid>
                <a:gridCol w="2427120"/>
                <a:gridCol w="2560680"/>
                <a:gridCol w="2156040"/>
              </a:tblGrid>
              <a:tr h="682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اربرد در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شد و ترمیم باف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نظیم اعمال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بع انرژ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 (آنزیمها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ربوهیدرا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چربی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4200" y="1199880"/>
            <a:ext cx="828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نظیم اعمال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و آنزیم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شد و ترمیم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نبع غذایی برای انسا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یوا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گیاه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این غذاها را به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گروه طبقه بندی می کنن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ارای پروتئین (گوشت)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(گیاهی و حیوانی)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غلات و برن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شیر و فراورده های لب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) سبزی ها و میوه 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نوشیدن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4000" y="6426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تابولیسم پایه: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حداقل میزان انرژی که برای زنده ماندن لاز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که صرف (قلب، عروق، تنفس ، گوارش، اعصاب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تقریباً برابر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الری برای یک متر مربع در یک ساع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رایط تعیین متابولیسم پایه عبارت اند ا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حالت استراحت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الت ناشتا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رجه محیط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لری روزان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ردان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2400 – 4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زنان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600 – 3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786120" y="4397760"/>
            <a:ext cx="44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قدار محاسبه کالری براساس وزن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6/36 + 815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مرد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1/31 + 580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ز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4000" y="5713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آن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متابولیسم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کات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آن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ذرات شیمیایی غذا به هم پیوسته و ملکول های بزرگ و درشت تر ساخته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ی شو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بدیل گلوکز ← گلیکوژن         اسید آمینه ← پروتئ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این واکنش ها ← انرژی گی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کات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ملکول های درشت به ذرات ریزتر تبدی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گلوکز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واکنش های انرژی ز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آنابولیسم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در دوره نمو اتفاق می افتد ← حجم ماده بالا می رود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تابولیسم ← در هنگام فعالیت اتفاق می افتد. ← حجم ماده کمتر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Line 5"/>
          <p:cNvSpPr/>
          <p:nvPr/>
        </p:nvSpPr>
        <p:spPr>
          <a:xfrm flipH="1" flipV="1">
            <a:off x="6786720" y="782280"/>
            <a:ext cx="57456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6786720" y="1143000"/>
            <a:ext cx="57600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2:48Z</dcterms:modified>
  <cp:revision>84</cp:revision>
  <dc:subject/>
  <dc:title>Slide 1</dc:title>
</cp:coreProperties>
</file>