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28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29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0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581C-C8D1-4DEA-96EA-5D2C56D3443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D27C-6434-4757-8EF5-F62512E4CD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2FC9-4981-4193-8F69-BBC8E6A3605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40E0-71C5-48BC-A579-02C39267F2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E5F1-88DE-49DC-9EF1-D7B33E5AC3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7D01-F8FB-4B2E-9801-66D32E8F03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1E2C-B582-4158-A705-ED799BA20B8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21C1-DB8B-4644-AF16-37FE91CD63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2AD7-2D18-4246-8567-172C76DFAD0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0DAE-4EA3-4318-9B86-331FA40380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5B8E-7344-4176-993F-C1146312EE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A8C5-AF2B-4120-94A7-FCF75FE5774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838-DEC7-4FED-90EF-4FB48EF0F1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FAF4-FB4A-44D2-805A-4B0027BEE4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B4DC-B5D8-43D5-BAB0-3DB1C3A23AB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6870-8A14-4F88-823F-64C35FE1EEB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7574-EEE2-4A55-A54D-C944F0134F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A26-6214-4A5E-87CD-11A28E10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CE3-856F-4273-B3F6-8D4055B7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4F690-16C3-4DE2-8674-14A2B444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C9B1A-180C-43A3-B287-BC9A83F5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215B0-5437-4F16-81B3-415CD6F9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7738F-A222-4254-B097-E3D36C84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72329-4F2E-4634-B99C-FA320BCB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80318-5D2B-4C0A-A12B-BCB21624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8EE9A-4BBC-44C3-BFC1-3E2CC47E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D16C6-3F42-4F45-B728-F8A96BB2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4CC32-C0D7-4382-97B6-3E0EACE0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227-B877-4845-9F90-153735B6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328-4AF8-4ACC-8EC6-0EB2F70D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A998-D143-4411-9159-8FCF04B1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27FF-ACA1-44FF-88DC-9886D76E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3BF0-0FF7-4085-8ABE-3F49BABA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137D-6CB9-4014-8BFB-15E596A9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C7C5-F37E-4EE1-8640-697B3376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0806-A324-467A-9E55-DC037533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AB10-02BF-4E14-8B92-1FF3419C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9AF-041D-449B-B365-E1B469D8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0D0B-7754-45B5-8A0F-DF114A15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3515-3CCB-4D90-8ED7-D4220CE3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790F-C12B-4A21-9077-D73DD0C7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C5A5-E9D6-4A4F-88B0-2E59C77F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E313-38FA-4CFD-8697-28FD9677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20BE6-D15E-4438-ACA3-4ABAFE0C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6C1F2-6F16-4EB9-A26D-24E6D9BC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12C245-A726-48B1-BD30-8084F9A1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2C6C8-D066-460A-8596-30500CDC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EBAC8-96AA-4405-9A92-FBEDD837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A89-6115-41B2-9828-0CCBDA86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582BA-5B49-4EB0-9900-82958B06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DAB9E-3D96-495B-AC99-448D6B14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8674C-7992-4F1C-8B32-7AD467E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1C1C9-E2DF-40FE-9C22-63C4A55D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41140-009D-4468-9CC2-157E4597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2EBD2-E9C3-42EA-B931-772116B2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E7BF7-FC7C-4F15-BEE8-F95660E2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F2952-F5D8-47D6-BF8E-7F37FB63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115E-B738-4C6A-AE0A-E74D8D74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9A760-A5B7-4911-BA6B-F0056711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1FF-798E-4683-AAD0-ED497A77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9C5BF-F90D-4510-88EB-2246A1AB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B36AE-1556-4E75-A165-646A76A0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B71E1-461B-4952-9865-9DD08F6E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D89B-B374-44FB-A611-4B6D24DF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22F1C-C1EE-4B86-A05A-0A90730D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139AC-2EA3-432E-AC39-294A1CCA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45DA-5381-4E62-979F-ECADB274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CEA7-05AB-48F0-97E8-EEB4560F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0A224-84CD-4151-BA68-6BE6A29D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3EF31-E4F3-4376-A187-FB4330B4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1C8-399A-4369-AB57-DAA38680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6411F-D121-4E3E-BF94-50EA9224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4EE24-AC33-4492-B4C5-46FD2EFD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3CEA7-F833-46EC-9E64-1D49C834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9541B-009F-4D5A-9F72-792F0072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D5EA5-52F9-4D89-B220-8FB64659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19327-3F95-45CC-8B4C-16F6F7E5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1F6BD-A586-45C0-88D1-D840CC1E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5CFE6-96D5-4B43-8A82-59C22A95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4F5A1-7015-4C93-9BEC-FCDF710E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35293-8B0C-4197-8EC1-37D6EBFD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24B-966C-4A8C-AF3A-B965F3B9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A7484-0EFE-48AE-8A98-39D16C4A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4F4E9-C916-49C5-BFA1-E7711472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D5E84-AD42-48E6-A5AB-B223F766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04FF2-F828-4C3E-A4F2-9EB160F0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11796-104A-4FBA-A091-1EC06E0E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CBB044-0C72-4E10-99DF-A21CBCF3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2F3DD-8DB0-417A-81EC-6D2C2ACD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58DD3-D551-41FF-8118-395EF82C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DB911-2C81-45BF-B35A-3CBFCF7D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56FAF-A063-4FDA-82D4-265FDB08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93C-8B3C-42B2-954F-EBDB117A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0FEDD-4B84-46D0-98D2-6113044B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B4F23-9B30-4C8D-A0B7-829BAF79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619D5-9C70-4207-A80D-56185055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BFF22-51A3-4725-A223-A087BFFE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AD5C5E-FC61-4228-B96D-3E9F161E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B3F670-BB69-42B7-88D9-A8C4FDB2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6D80CA-A730-4D18-8DF7-AD7D2435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7F7EC-3453-49E7-BCFB-B3CB3F87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3C958-4A3E-475E-96EF-EEDABAE0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EE2EB-0C29-46C4-BA9B-BF3642C2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6BF-10BD-4076-9559-85A0A112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46ABD1-8E04-4E87-B358-DCA48A7A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6F6AC-2BD0-417C-A419-66397F67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3CF5B-78DD-47BE-81A2-9913E5A6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300F1-F33C-49F8-B6C0-5341E656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50C4F-09AE-47F2-8D8F-79C15CD2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852E2-F30E-4BE8-A43D-858D0B6F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89FD0-0D06-41AB-A4D0-C1D33D2E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2AF51-71B6-4CE0-A6A1-0E483A52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FA635-8C1C-4ABB-A0AB-706F188B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0ECD2-6704-4527-8E94-985B99E8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0E1-EDE6-45FF-B98D-9449E748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E0BA8-44B6-4232-8633-266070C2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E4E83-3334-4468-90D0-A5A054B5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3BCA8-C7B7-46A0-BD3A-DAAE4AB8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93B10-BBF5-4BA6-874D-62E5C9DB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5FE40-33A5-45F6-9DFA-71DB7503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8ED22-62C2-43F1-904F-CE62EDE4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76A48-D2DF-4379-B079-156CB50B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9F7B1-A378-416D-B414-412F0A58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5FAB9-D8F9-43D4-A5EA-A7796362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2DD4F-B174-4C03-A16A-9AF40B4C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04F6-BE7A-451B-B173-6ADF323311D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962D-A9B5-4F47-9DD6-C8F498E1EFD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2A73-EC04-47E4-B335-7535A690D05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4EE2-167D-4853-B604-9942B334B88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7EF5-D0E1-47C6-87EA-C95D774D15F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DFAE-82C7-46D2-A067-24D59C685A1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D6A9-BF91-4F5D-B0A6-8B09E27B157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C1CB-B396-4456-942F-A3BEF6CAB8C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C2B8-2186-43D1-80CE-5176AB5CD9E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57200" y="-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e75c01"/>
                </a:solidFill>
                <a:latin typeface="Century Schoolbook"/>
                <a:cs typeface="Arial"/>
              </a:rPr>
              <a:t>بسم الله الرحمن الرحیم</a:t>
            </a:r>
            <a:br>
              <a:rPr sz="3000"/>
            </a:br>
            <a:br>
              <a:rPr sz="3000"/>
            </a:br>
            <a:r>
              <a:rPr b="1" lang="fa-IR" sz="36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غذیه و ورزشی</a:t>
            </a:r>
            <a:br>
              <a:rPr sz="3600"/>
            </a:br>
            <a:br>
              <a:rPr sz="36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( تربیت بدنی و علوم ورزشی )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نبع:تغذیه و ورزش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نام مولف:دکتر محمد رضا رمضان پور</a:t>
            </a:r>
            <a:br>
              <a:rPr sz="1800"/>
            </a:b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cs typeface="Arial"/>
              </a:rPr>
              <a:t>تعداد واحد: 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2</a:t>
            </a:r>
            <a:r>
              <a:rPr b="0" lang="fa-IR" sz="1800" spc="-1" strike="noStrike">
                <a:solidFill>
                  <a:srgbClr val="e75c01"/>
                </a:solidFill>
                <a:latin typeface="Century Schoolbook"/>
                <a:ea typeface="Arial"/>
              </a:rPr>
              <a:t> واحد</a:t>
            </a:r>
            <a:br>
              <a:rPr sz="2400"/>
            </a:br>
            <a:br>
              <a:rPr sz="2400"/>
            </a:br>
            <a:r>
              <a:rPr b="1" lang="fa-IR" sz="3200" spc="-1" strike="noStrike">
                <a:solidFill>
                  <a:srgbClr val="e75c01"/>
                </a:solidFill>
                <a:latin typeface="Century Schoolbook"/>
                <a:cs typeface="Arial"/>
              </a:rPr>
              <a:t>استاد مربوطه: پریسا خیری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1403280" y="2349360"/>
          <a:ext cx="6553440" cy="3127680"/>
        </p:xfrm>
        <a:graphic>
          <a:graphicData uri="http://schemas.openxmlformats.org/drawingml/2006/table">
            <a:tbl>
              <a:tblPr/>
              <a:tblGrid>
                <a:gridCol w="4105440"/>
                <a:gridCol w="1439640"/>
                <a:gridCol w="100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الری روزانه(سوخت و ساز پایه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ن(سال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 به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* 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 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(وزن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+(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زن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*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</a:t>
                      </a: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22"/>
          <p:cNvSpPr/>
          <p:nvPr/>
        </p:nvSpPr>
        <p:spPr>
          <a:xfrm>
            <a:off x="622440" y="1428840"/>
            <a:ext cx="73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برآورد میزان سوخت و ساز پایه (از سازمان بهداشت جهان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655560" y="1557360"/>
          <a:ext cx="7559640" cy="4986360"/>
        </p:xfrm>
        <a:graphic>
          <a:graphicData uri="http://schemas.openxmlformats.org/drawingml/2006/table">
            <a:tbl>
              <a:tblPr/>
              <a:tblGrid>
                <a:gridCol w="3229200"/>
                <a:gridCol w="4330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کالری مورد نیا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گروه سنی و شرایط فیزیولوژیک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یلو گرم وزن بدن 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کیلو گرم وزن بدن*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کودک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از تولید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اهگی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اهگی تا یک سالگی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پس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دان: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و بیشتر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ختران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الگ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زنان :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تا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سالگی                                                       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و بیشتر                                                            آبستنی                                                                  شیردهی</a:t>
                      </a:r>
                      <a:r>
                        <a:rPr b="0" lang="fa-I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Text Box 15"/>
          <p:cNvSpPr/>
          <p:nvPr/>
        </p:nvSpPr>
        <p:spPr>
          <a:xfrm>
            <a:off x="928800" y="428760"/>
            <a:ext cx="71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Times New Roman"/>
              </a:rPr>
              <a:t> مقدار نیازهای روزانه انرژی به نسبت کالری در سنین و شرایط مختلف فیزیولوژیک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57120" y="642600"/>
            <a:ext cx="8175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ارزش حرارتی مواد غذای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         غیر مستق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سوختن غذاها در حضور اکسیژن در بمب حرارت سنج وتعیین کالری بر حسب حرارت تولید شد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رزش حرارتی هر گرم</a:t>
            </a: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Line 5"/>
          <p:cNvSpPr/>
          <p:nvPr/>
        </p:nvSpPr>
        <p:spPr>
          <a:xfrm flipH="1" flipV="1">
            <a:off x="3492000" y="1279080"/>
            <a:ext cx="57492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6"/>
          <p:cNvSpPr/>
          <p:nvPr/>
        </p:nvSpPr>
        <p:spPr>
          <a:xfrm flipH="1">
            <a:off x="3492000" y="1638360"/>
            <a:ext cx="574920" cy="433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900000" y="4000680"/>
          <a:ext cx="4751640" cy="1828800"/>
        </p:xfrm>
        <a:graphic>
          <a:graphicData uri="http://schemas.openxmlformats.org/drawingml/2006/table">
            <a:tbl>
              <a:tblPr/>
              <a:tblGrid>
                <a:gridCol w="1619280"/>
                <a:gridCol w="1922400"/>
                <a:gridCol w="12099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دن انس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بمب کالری سنج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قند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/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چربی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/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پروتئین</a:t>
                      </a:r>
                      <a:r>
                        <a:rPr b="1" lang="fa-IR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85840" y="2357280"/>
            <a:ext cx="82468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مستقیم: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طاقکی سرپوشیده که اطراف آن را حجم معینی از آب گرفته و فرد یا حیوان داخل اطاقک قرار می گیرد و با اندازه گیری تغییرات درجه حرارت آب میزان حرارت آزاد شده را تعیین می کن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روش غیرمستقیم: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دلیل مشکلات روش مستقیم اندازه گیری تبادلات گازها مد نظر قرار گرف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357120" y="504360"/>
            <a:ext cx="8072640" cy="183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19e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چون تمام انرژی تولید شده در بدن سرانجام به صورت حرارت آزاد می شود بنابراین اندازه گیری حرارت آزاد شده با یکی از روشهای زیرصورت می‌گیرد</a:t>
            </a:r>
            <a:r>
              <a:rPr b="0" lang="fa-IR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28400" y="128556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اندازه گیری تبادلات گازها (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،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← میزان حرارت دفع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یین میزان دفع اوره (پروتئین ها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نسبت تنفسی غذاها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ها 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→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 +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=1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 ها    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 →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3 + 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3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6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→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13840" y="928440"/>
            <a:ext cx="8318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 ها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ه دلیل نوع ساختمان شیمیایی و همچنین اوره دفعی نمی توان نسبت تنفسی مشخصی تعیین کرد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غذای مخلوط              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82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 گرم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RQ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انرزی به ازای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O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انرژی تولی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قند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5/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چرب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/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74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/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6/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/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5"/>
          <p:cNvSpPr txBox="1"/>
          <p:nvPr/>
        </p:nvSpPr>
        <p:spPr>
          <a:xfrm>
            <a:off x="1500120" y="1714680"/>
            <a:ext cx="6215040" cy="39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پايان</a:t>
            </a:r>
            <a:endParaRPr b="0" i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SLIDE1_1"/>
          <p:cNvPicPr/>
          <p:nvPr/>
        </p:nvPicPr>
        <p:blipFill>
          <a:blip r:embed="rId1"/>
          <a:stretch/>
        </p:blipFill>
        <p:spPr>
          <a:xfrm>
            <a:off x="0" y="0"/>
            <a:ext cx="5500800" cy="6929280"/>
          </a:xfrm>
          <a:prstGeom prst="rect">
            <a:avLst/>
          </a:prstGeom>
          <a:ln w="0">
            <a:noFill/>
          </a:ln>
        </p:spPr>
      </p:pic>
      <p:sp>
        <p:nvSpPr>
          <p:cNvPr id="454" name="TextBox 7"/>
          <p:cNvSpPr/>
          <p:nvPr/>
        </p:nvSpPr>
        <p:spPr>
          <a:xfrm>
            <a:off x="6143760" y="90504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بخش اول</a:t>
            </a:r>
            <a:r>
              <a:rPr b="1" lang="fa-IR" sz="36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8"/>
          <p:cNvSpPr/>
          <p:nvPr/>
        </p:nvSpPr>
        <p:spPr>
          <a:xfrm>
            <a:off x="5357880" y="1871640"/>
            <a:ext cx="36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Times New Roman"/>
              </a:rPr>
              <a:t>تاریخچه و شناخت مفاهیم مربوط به تغذی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9"/>
          <p:cNvSpPr/>
          <p:nvPr/>
        </p:nvSpPr>
        <p:spPr>
          <a:xfrm>
            <a:off x="5023800" y="3741840"/>
            <a:ext cx="463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اول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تاریخچه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</a:rPr>
              <a:t>فصل دوم: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</a:rPr>
              <a:t>مفاهیم تغذی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500040" y="907920"/>
            <a:ext cx="784872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یکی از ارتباط بین انسان و موجودات اطراف ← ارتباط تغذیه ای اس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رکیب شیمیایی انسان بالغ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آب  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مواد معدنی 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0%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واد آل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( گلوسید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چربی ،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7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% پروتئین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ea typeface="Arial"/>
              </a:rPr>
              <a:t>	</a:t>
            </a:r>
            <a:r>
              <a:rPr b="1" lang="fa-IR" sz="2800" spc="-1" strike="noStrike">
                <a:solidFill>
                  <a:srgbClr val="ff0000"/>
                </a:solidFill>
                <a:latin typeface="Century Schoolbook"/>
                <a:cs typeface="Arial"/>
              </a:rPr>
              <a:t>سلول برای زنده ماندن باید مرتباً این مواد را به بدن برساند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142920" y="3834360"/>
            <a:ext cx="8501040" cy="2288520"/>
          </a:xfrm>
          <a:prstGeom prst="rect">
            <a:avLst/>
          </a:prstGeom>
          <a:gradFill rotWithShape="0">
            <a:gsLst>
              <a:gs pos="0">
                <a:srgbClr val="fe8637">
                  <a:alpha val="89019"/>
                </a:srgbClr>
              </a:gs>
              <a:gs pos="50000">
                <a:srgbClr val="ffe8d9">
                  <a:alpha val="92156"/>
                </a:srgbClr>
              </a:gs>
              <a:gs pos="100000">
                <a:srgbClr val="fe8637">
                  <a:alpha val="89019"/>
                </a:srgbClr>
              </a:gs>
            </a:gsLst>
            <a:lin ang="2700000"/>
          </a:gra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نوع ماده غذایی ← که همه را بدن سنتز نمی کن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رش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عواملی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) بیماری            ← نیاز انسان به غذا را افزایش می دهد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فعالیت جسمان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fa-IR" sz="2400" spc="-1" strike="noStrike">
                <a:solidFill>
                  <a:srgbClr val="000000"/>
                </a:solidFill>
                <a:latin typeface="Times New Roman"/>
              </a:rPr>
              <a:t>حرک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684000" y="1699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همین خاطر تغذیه به صورت علم شناخته شده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لاوازیه پایه گذار علم تغذیه در قر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عریف علم تغذیه ← رساندن مواد غذایی به بدن به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مقدار مناسب</a:t>
            </a:r>
            <a:r>
              <a:rPr b="0" lang="fa-IR" sz="2400" spc="-1" strike="noStrike" u="sng">
                <a:solidFill>
                  <a:srgbClr val="000066"/>
                </a:solidFill>
                <a:uFillTx/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انتخاب غذاها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به نحوی که احتیاجات روزانه انسان را برآورده ک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فعل و انفعالاتی که موجب می شود که سلول موجود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زنده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باشد،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رشد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ند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نگهداری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</a:t>
            </a:r>
            <a:r>
              <a:rPr b="0" lang="fa-IR" sz="2400" spc="-1" strike="noStrike">
                <a:solidFill>
                  <a:srgbClr val="ff33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 u="sng">
                <a:solidFill>
                  <a:srgbClr val="ff3300"/>
                </a:solidFill>
                <a:uFillTx/>
                <a:latin typeface="Century Schoolbook"/>
                <a:cs typeface="Arial"/>
              </a:rPr>
              <a:t>حرارت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جهت تأمین اعمال حیاتی را علم تغذیه گوین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213840" y="856800"/>
            <a:ext cx="83185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کارهایی که مواد غذایی انجام می دهد به شرح زیر است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رفع گرسنگ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انرژ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مواد جهت رشد، نموو ترمی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تأمین ویتامین ها و مواد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شش نوع ماده غذایی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Century Schoolbook"/>
                <a:cs typeface="Arial"/>
              </a:rPr>
              <a:t>مواد غذایی انرژی زا</a:t>
            </a:r>
            <a:r>
              <a:rPr b="0" lang="fa-IR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قند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402920" y="928800"/>
            <a:ext cx="6048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0" algn="ct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طبقه بندی عوامل مغذی براساس کاربرد آنها در بد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785880" y="2000160"/>
          <a:ext cx="7143840" cy="3429000"/>
        </p:xfrm>
        <a:graphic>
          <a:graphicData uri="http://schemas.openxmlformats.org/drawingml/2006/table">
            <a:tbl>
              <a:tblPr/>
              <a:tblGrid>
                <a:gridCol w="2427120"/>
                <a:gridCol w="2560680"/>
                <a:gridCol w="2156040"/>
              </a:tblGrid>
              <a:tr h="682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اربرد در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رشد و ترمیم باف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تنظیم اعمال بد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نبع انرژ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 (آنزیمها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مواد معدن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ویتام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آ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کربوهیدرات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چربی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a-IR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پروتئی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214200" y="1199880"/>
            <a:ext cx="828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نظیم اعمال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و آنزیم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رشد و ترمیم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پروتئین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واد معد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ویتامین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آب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نبع غذایی برای انسان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یوان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گیاهی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معدن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این غذاها را به 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گروه طبقه بندی می کنند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ارای پروتئین (گوشت)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چربی (گیاهی و حیوانی)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غلات و برنج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شیر و فراورده های لبنی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5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) سبزی ها و میوه ها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6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نوشیدنی ه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684000" y="64260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تابولیسم پایه: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حداقل میزان انرژی که برای زنده ماندن لازم است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  که صرف (قلب، عروق، تنفس ، گوارش، اعصاب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ه تقریباً برابر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40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کالری برای یک متر مربع در یک ساعت است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شرایط تعیین متابولیسم پایه عبارت اند ا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حالت استراحت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حالت ناشتا      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3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) درجه محیط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18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-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لری روزانه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مردان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2400 – 4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زنان  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KC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1600 – 3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786120" y="4397760"/>
            <a:ext cx="448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66"/>
                </a:solidFill>
                <a:latin typeface="Times New Roman"/>
              </a:rPr>
              <a:t>مقدار محاسبه کالری براساس وزن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6/36 + 815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مرد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533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w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 1/31 + 580 =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fa-IR" sz="2400" spc="-1" strike="noStrike">
                <a:solidFill>
                  <a:srgbClr val="000066"/>
                </a:solidFill>
                <a:latin typeface="Times New Roman"/>
              </a:rPr>
              <a:t>زن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684000" y="5713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آن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متابولیسم</a:t>
            </a:r>
            <a:r>
              <a:rPr b="0" lang="fa-I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       کاتابولیس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آن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ذرات شیمیایی غذا به هم پیوسته و ملکول های بزرگ و درشت تر ساخته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می شوند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تبدیل گلوکز ← گلیکوژن         اسید آمینه ← پروتئی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           این واکنش ها ← انرژی گیر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کاتابولیسم</a:t>
            </a:r>
            <a:r>
              <a:rPr b="1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ملکول های درشت به ذرات ریزتر تبدیل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گلوکز ←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H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و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2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Co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c00000"/>
                </a:solidFill>
                <a:latin typeface="Century Schoolbook"/>
                <a:cs typeface="Arial"/>
              </a:rPr>
              <a:t>واکنش های انرژی زا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آنابولیسم 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	</a:t>
            </a: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← در دوره نمو اتفاق می افتد ← حجم ماده بالا می رود</a:t>
            </a:r>
            <a:r>
              <a:rPr b="0" lang="en-US" sz="2400" spc="-1" strike="noStrike">
                <a:solidFill>
                  <a:srgbClr val="000066"/>
                </a:solidFill>
                <a:latin typeface="Century Schoolbook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2760" indent="-21276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Century Schoolbook"/>
                <a:cs typeface="Arial"/>
              </a:rPr>
              <a:t>کاتابولیسم ← در هنگام فعالیت اتفاق می افتد. ← حجم ماده کمتر می شود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Line 5"/>
          <p:cNvSpPr/>
          <p:nvPr/>
        </p:nvSpPr>
        <p:spPr>
          <a:xfrm flipH="1" flipV="1">
            <a:off x="6786720" y="782280"/>
            <a:ext cx="574560" cy="3603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H="1">
            <a:off x="6786720" y="1143000"/>
            <a:ext cx="576000" cy="358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22:05:47Z</dcterms:created>
  <dc:creator>akbar</dc:creator>
  <dc:description/>
  <dc:language>en-US</dc:language>
  <cp:lastModifiedBy>Melisa Joon</cp:lastModifiedBy>
  <dcterms:modified xsi:type="dcterms:W3CDTF">2020-04-04T07:52:48Z</dcterms:modified>
  <cp:revision>84</cp:revision>
  <dc:subject/>
  <dc:title>Slide 1</dc:title>
</cp:coreProperties>
</file>