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C7F6-4DE0-4C86-B059-302DF6BA8A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EB72-4108-40A5-A44F-F99A229F6E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E460-437A-442F-8D8E-E55BA73A1C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311-D992-4563-8BB2-6AA6B90230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EEC8-7EF4-454A-B435-8A30525B17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E98B-459B-401B-AA0D-A6DE7A2460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7324-1461-414B-A76C-CFBF1C3C0F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25E4-3A93-4C2B-913A-90FB886B8C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E251-4F63-4609-B512-3BDC8E5212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6AF4-2059-4682-A39C-239FC9C7B4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1357-9FC6-474E-B4CD-5831D87BBF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8DF-3B82-40EE-B5A0-E3B75EB5B0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2B1-D707-44B4-9A07-711D704071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DD9-C094-4414-9877-A586A87822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A675-7FC7-452B-A641-7DD829F7D4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2149-7569-4DD4-B58F-F964AEB4C2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B265-AFB2-4062-8153-B98725F1CA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537F-5E8F-48A8-AE83-F15380090B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753-8C96-4456-91FB-88672A0A1C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52AF-EE3B-4691-BDAC-C472879965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310-FB12-4AE6-B985-CF0B6B51EF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94F1-8FAC-4E23-9E26-369E836235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7A3F-5C64-4DEB-9D48-3E5BBC4EE4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9F59-72A0-4880-97E1-7007251978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E18-1455-4923-B5E1-4321D360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B4D-2EBA-421B-A6BC-BD1E0C5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98A-B686-48D9-9EF5-C01DDABC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5BC-125A-45C9-93F1-2DBD61B8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601-232A-416D-A976-E955A6AB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FC2B-6502-4339-9DE7-CE59114D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B223-6CFD-40E5-ADD2-ED26D1A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5515-D06D-4293-9F11-0B46B694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59BC-BFC6-46EB-B1AF-A009BC3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EA3-A3D1-448D-A34B-1BC4FDC1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47C7-8F3E-4B3F-A750-EDB617F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E7E-F382-4787-85A2-009F64FB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9763-98CA-4407-AF91-B1B02DE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855A-54A8-4D9E-923B-5B2B2EB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16CE-3C84-4FAD-9007-0C5AD11D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245-13D3-44FB-97B0-8ECE3C03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62BF-2D66-4B99-AA0E-38EA2FF4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C791D-A8AC-4ACA-8096-E6E08B7D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CFF2F-233A-475A-9968-2F30DA7B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07478-4EF5-4664-BACF-00E7266E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1ECB9-C0A6-4A98-AE3C-FD802B92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2A44C-81C2-4F1F-BD0C-600AF29C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7A0-5D7A-4AAC-A02D-CA9E33B9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94EF9-73FE-475A-BDD1-6616C423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6FCDC-F996-4090-AD3F-CF2D0E55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D6CCE-BBDD-498D-84A1-511C174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E7D86-B0BA-430C-BD62-A7D2D0B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71C44-2C10-4FA2-B847-6622D7B5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D870F-182B-4072-A284-E9EED937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4A8D4-7CE2-49AA-8C45-9DCABA8C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64CB-99B4-4970-9831-E9909E09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42BC-1630-42B5-8B30-5BF6F6A3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B98A-DE8D-431D-884F-C0CF4168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243-B641-4E28-B991-36A10F57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1B8AF-0275-4F2D-AF26-7DA7480F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FA8D-6344-4C75-B024-1674B55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5F0EE-8801-44CB-87CD-6186A2D2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7B9E-7B5D-4049-8369-978737B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99FC-18C4-4372-9EB9-4A8D38A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A73B-E5ED-4265-BED7-42E42EFD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3E17-9E8B-4DF2-8ECC-98558F0D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B4F6-1B00-4B99-B2A3-810B0BA7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6054-2620-45A9-AABB-2CDA2DEF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56A7A-CBD0-4D4F-870E-60D9B831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7F9-8D7C-42EB-9172-CF395008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11B02-CDCA-4448-8C97-7955428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B1C67-C1AA-4FF4-8D58-F987F605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62F5C-B0B4-40A2-905A-291090BF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77443-C3AF-4187-A7F6-4D6AC53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84684-BEC4-411E-97FF-9AF45E1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50B21-B7FB-4595-8F7B-511278D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4EA79-C93F-42F9-8687-FC32DC8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698E8-0E26-423D-A696-62B507E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E92B5-7188-494E-8D25-C251526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44FA1-5D28-489E-9AD9-DD084723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A65-4518-4FEF-A1F9-973E1719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2F5D2-4528-4B3E-8B4E-9C65A681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2A4DC-5E75-425F-A0FF-ABB6176B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0FE5B-C0D7-44FC-A023-75AC6A4A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27FC0-A4B0-4BE8-8668-F9FB9442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B136B-4F85-4837-A989-DA55EB17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FC72F-9EF1-4BDC-B8BF-8A7F5FA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4F257-038E-4CFE-9CCA-033AB869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312BD3-76FF-4E48-8C0C-95E26BF5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1B12C-977D-4665-8CF6-2295EE4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E29F6-1FD3-4AFC-94EC-ED57DE3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D8F-E1BA-465B-AE9A-AA6AA9A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F5986-15B7-4EC3-8A85-3C3F80B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1C7B1-5E79-46AF-8C93-E59B9B10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BEB3A-CBF2-475C-8B44-A48474EB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96F90-AD34-431D-B5BC-7D4E36B9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6E258-D987-45EC-A89D-1B67D905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C3472-3301-4AC2-907C-D6B958F1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8FC8B-B2B7-4F13-8528-A32321D0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5A2DA-A59A-4DFE-984D-577BE832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D10B1-E82A-4880-B5A6-FAF4B0F6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79267-61A0-4D1D-9A71-E25D107C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E95-6E9D-40C0-87F6-A17031B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61E8D-A9A1-4C0F-9409-4A185D9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EEFCE-51A4-4166-AA3B-3E55354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84A0E-6484-48DE-B6B2-C42F75FA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D1622-369D-4ACC-A6FA-07696645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077B3-C1A1-4817-A50D-B2773D91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FF3B-CB3F-453B-82AF-75B12D4C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1DC04-F14E-4E38-8EB3-D8F9F589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2A23A-8349-4F57-AE64-F0F5F54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6BD6-3865-4610-8CCF-152158EB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A0CD-F4DF-49F9-816B-2F07A6A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D85-0F51-45F6-8ECD-F4CB7A5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A1B99-F672-44CC-A095-AE07324E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2E1FC-8535-4EF4-88BC-B5D01815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0B6C9-5CC4-4C2D-A918-662D85B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BFD49-8D24-436C-9847-895B95C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F06B-5580-41C4-A6E8-8D7A164A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3A4CA-BF1F-4BDC-88E6-4F32F2E5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4E455-9B2B-4D07-8F58-2279C6B2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C0ED-197E-4D86-AD55-21D2736AB60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502-BB9C-41FF-BFCB-B7C79AC5A0F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B4A6-BEFB-4D4F-861D-D4189715173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E325-48A8-4872-915E-705FD32EDA4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8BBD-2A38-45E6-9236-388003ECE1E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DC6-D04F-4B57-B2AE-2A63FA65D03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92B6-D318-4C0C-BBC7-7E2A43E1A4F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7327-3A49-4A5F-829A-9BA698B3C55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43280" y="1142640"/>
            <a:ext cx="3848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راحل مختلف هضم کربوهیدرات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1916280"/>
          <a:ext cx="8136000" cy="425124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ذا             دهان           معده              ترشح لوزالمعده در روده باريك         روده باريك</a:t>
                      </a: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ليكوژن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مالتوز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شاسته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كسترين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وز  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گلوكز+گالا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كارز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وكر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گلوكز +فرو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3"/>
          <p:cNvSpPr/>
          <p:nvPr/>
        </p:nvSpPr>
        <p:spPr>
          <a:xfrm flipH="1">
            <a:off x="630072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3708000" y="3284640"/>
            <a:ext cx="158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H="1">
            <a:off x="161928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630072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 flipH="1">
            <a:off x="3635280" y="393372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154764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2124000" y="5734080"/>
            <a:ext cx="56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 flipH="1">
            <a:off x="1476360" y="4508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 flipH="1">
            <a:off x="3634920" y="4508640"/>
            <a:ext cx="403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2123640" y="5157720"/>
            <a:ext cx="561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000" y="4647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جذب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جذب ← بعد از هضم قندها ← به صورت منوساکارید جذب می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+ گالاکتوز ← مکانیزم انتقال فع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فروکتوز                                 انتشار ساده                                                 منوساکاریدها از طریق سیاهرگ باب ← کب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کبد فروکتوز گالاکتوز ← گلوک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916000" y="3143160"/>
            <a:ext cx="64764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H="1" flipV="1">
            <a:off x="2916000" y="3576240"/>
            <a:ext cx="64764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0" y="3290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ارد خون می 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H="1">
            <a:off x="5148000" y="3930480"/>
            <a:ext cx="23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11280" y="60768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3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سوخت و ساز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در هنگام ورود به خون سه سرنوشت دارد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عنوان منبع انرژی اکسید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گلیکوژن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چربی تبدیل شده و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غلظت گلوکز خو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8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گرم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لیتر خون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ت قند خون از میزان طبیعی ← هیپو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ین غلظت برای مغز مه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زایش قند خون از میزان طبیعی ←هایپر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072040" y="4346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11280" y="9997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رگاه مقدار زیادی گلوکز از راه لوله گوارش وارد خون شود اضافی آن در کبد و عضلات به صورت گلیکوژن ذخیره می شود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بدیل گلوکز     به      گلیکوژن توسط آزاد شدن هورمون انسولین از لوزالمعده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عضلانی ← منشأ گرما و انرژی در هنگام فعالیت عضلانی است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کبدی ← برای حفظ میزان گلوکز خون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نگامی که مقدار کربوهیدرات مصرفی بیش از مقداری باشد که بدن بتواند آن را در کبد عضلات به صورت گلیکوژن ذخیره کند مازاد آن به چربی تبدیل می شو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6659640" y="3071880"/>
            <a:ext cx="79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213840"/>
            <a:ext cx="8246880" cy="42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رود و خروج گلوکز به خون توسط هورمون ها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↓ انسولین ،   ↑ گلوکاکن  ،     آدرنالن ↑   ،    رشد ↑  ،   کورتیزول 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هنگام فشار عصبی و هیجانات ← کورتیکو تروپین ← قشر فوق کلیوی ← کورتیزول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لید انرژی از گلیکوژن توسط دستگاه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گلوکز ← اسید پیرویک ← اسید لاکتی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 → 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→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217160" y="4551480"/>
            <a:ext cx="6599880" cy="22150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دستگاه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گلیکوژن ← گلوکز ← اسید پیرودیک ← چرخه کرب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-7128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س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نقش كربوهيدراتها در بدن و رابطه آنها با ورز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13840" y="642600"/>
            <a:ext cx="842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نقش کربوهیدرات در بد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منبع انرژ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صرفه جویی در مصرف پروتئی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تأمین ویتامین (گرو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نقش کربوهیدرات در کبد: شامل خنثی کردن مواد سمی و تنظیم سوخت و ساز چربی و پروتئین ه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یگانه منبع سوخت دستگاه عصبی مرکز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>
            <a:off x="2995560" y="4292640"/>
            <a:ext cx="1944720" cy="73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 rot="714000">
            <a:off x="2995200" y="4436640"/>
            <a:ext cx="1657440" cy="1008000"/>
          </a:xfrm>
          <a:prstGeom prst="rightArrow">
            <a:avLst>
              <a:gd name="adj1" fmla="val 50000"/>
              <a:gd name="adj2" fmla="val 411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120" y="856800"/>
            <a:ext cx="8175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رابطه کربوهیدرات ها با فعالیت های ورزش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زمان استراحت ←       انرژی مورد نیاز بدن توسط چربی ها و       توسط قندها و عمده سیستم تولید انرژی سیستم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5759280" y="1857240"/>
                <a:ext cx="312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1285920" y="1785960"/>
                <a:ext cx="35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3"/>
          <p:cNvSpPr/>
          <p:nvPr/>
        </p:nvSpPr>
        <p:spPr>
          <a:xfrm>
            <a:off x="1933560" y="4149720"/>
            <a:ext cx="1366920" cy="1368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2058840" y="4365720"/>
            <a:ext cx="576360" cy="50328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2635200" y="4869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916280" y="4005360"/>
            <a:ext cx="1368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2076480" y="400536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142884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پروتیین(ناچی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2293920" y="43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گلوکز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094840" y="4941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چربی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5011560" y="4221000"/>
            <a:ext cx="721080" cy="360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104080" y="42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5877000" y="4149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6235560" y="4221000"/>
            <a:ext cx="914400" cy="36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143760" y="42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4813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68850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821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9"/>
          <p:cNvSpPr/>
          <p:nvPr/>
        </p:nvSpPr>
        <p:spPr>
          <a:xfrm>
            <a:off x="68634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0"/>
          <p:cNvSpPr/>
          <p:nvPr/>
        </p:nvSpPr>
        <p:spPr>
          <a:xfrm>
            <a:off x="544500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50520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3490920" y="3716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520" y="1071360"/>
            <a:ext cx="8461440" cy="3786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های کوتاه ← کمتر از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دقیقه ← عمده سیستم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کربوهیدرات ها به عنوان منبع انرژی اصل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مع اسید لاکتیک مؤید این مورد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فزایش اسید لاکتیک خون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زمان استراحت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قدار طبیع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سی سی خو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411280" y="1743120"/>
            <a:ext cx="1800360" cy="863640"/>
          </a:xfrm>
          <a:prstGeom prst="rightArrow">
            <a:avLst>
              <a:gd name="adj1" fmla="val 50000"/>
              <a:gd name="adj2" fmla="val 5211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411280" y="2679840"/>
            <a:ext cx="2305080" cy="86364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1332000" y="1814400"/>
            <a:ext cx="1655640" cy="16560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2195640" y="2606760"/>
            <a:ext cx="576000" cy="64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2195640" y="2606760"/>
            <a:ext cx="72072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476360" y="217476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39d"/>
                </a:solidFill>
                <a:latin typeface="Times New Roman"/>
              </a:rPr>
              <a:t>کربو 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788000" y="1887480"/>
            <a:ext cx="86364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56360" y="1887480"/>
            <a:ext cx="115236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60720" y="18874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6054840" y="195912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776560" y="190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507672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6012000" y="2895480"/>
            <a:ext cx="57456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94836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0050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565272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9446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658944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6881040" y="29671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3148920" y="3398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07840" y="36147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714680" y="6429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 ارتباط کربوهیدراتها با فعالیت های کوتاه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5"/>
          <p:cNvSpPr/>
          <p:nvPr/>
        </p:nvSpPr>
        <p:spPr>
          <a:xfrm>
            <a:off x="719280" y="4429080"/>
            <a:ext cx="6924600" cy="26539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7858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بخش سوم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cs typeface="Arial"/>
              </a:rPr>
              <a:t>كربوهيدراتها و نقش آنها در تغذيه 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ea typeface="Arial"/>
              </a:rPr>
              <a:t> ارتباط كربوهيدراتهاي با فعالیت های ورزشي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5" descr="LOA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4005360"/>
            <a:ext cx="54007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42920" y="428400"/>
            <a:ext cx="8532720" cy="214308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درازمدت و نسبتاً سنگین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← بین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ـ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ساعت  فوتبال: دوها (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3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کیلومت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دت فعالی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درجه اول تأمین انرژی به عمده هیدراتها کربن و سپس چربی ه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14200" y="2992320"/>
            <a:ext cx="8358480" cy="18493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2198520"/>
            <a:ext cx="8175600" cy="19447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صیه ها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سه روز قبل خوردن هیدرات کربن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قند در حین مسابق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محلو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گلوکز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شکر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لیتر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2-cf-supplements-gain"/>
          <p:cNvPicPr/>
          <p:nvPr/>
        </p:nvPicPr>
        <p:blipFill>
          <a:blip r:embed="rId1"/>
          <a:stretch/>
        </p:blipFill>
        <p:spPr>
          <a:xfrm>
            <a:off x="2571840" y="4357800"/>
            <a:ext cx="4000320" cy="2449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03" name="Rectangle 2"/>
          <p:cNvSpPr/>
          <p:nvPr/>
        </p:nvSpPr>
        <p:spPr>
          <a:xfrm>
            <a:off x="142920" y="571680"/>
            <a:ext cx="8572320" cy="1500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Century Schoolbook"/>
              </a:rPr>
              <a:t>فعالیت درازمدت و سبک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←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ساعت مثل دوی ماراتن، کوهنورد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بتدای فعالیت هیدرات کربن، انتها چربی (سیستم هواز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367000" y="2421000"/>
            <a:ext cx="2808360" cy="64764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 rot="1930800">
            <a:off x="2343240" y="3068640"/>
            <a:ext cx="216036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1071720" y="2492280"/>
            <a:ext cx="2087280" cy="2160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079720" y="3500280"/>
            <a:ext cx="718920" cy="865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2079720" y="3500280"/>
            <a:ext cx="107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5464080" y="2924280"/>
            <a:ext cx="79236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6688080" y="2924280"/>
            <a:ext cx="115092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474336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4844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89608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1398960" y="2900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کربو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393280" y="3645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465520" y="292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569280" y="29289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47448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9004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7103160" y="4792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492720" y="20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55640" y="642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 ارتباط کربوهیدراتها با فعالیت های دراز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5"/>
          <p:cNvSpPr txBox="1"/>
          <p:nvPr/>
        </p:nvSpPr>
        <p:spPr>
          <a:xfrm>
            <a:off x="1357200" y="857160"/>
            <a:ext cx="6088320" cy="47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او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ساختار، انواع و منابع غذایی كربوهي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4000" y="4284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. کربوهیدراتها و ساختمان آ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قندها مهمترین و ارزانترین منبع انرژی ا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9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فق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غ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الری مورد نیاز روزانه ازخوردن مواد قندی تامین می گرد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مواد قندی ← روزانه در رژیم غذایی متعادل موجود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ساختمان ← اتمهای کربن، هیدروژن، اکسیژ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نسبت اتم هیدروژن به اکسیژ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4642920" y="2565360"/>
            <a:ext cx="50508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4643280" y="2925360"/>
            <a:ext cx="4334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26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از خوردن مواد قندی تامین می شو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6760" y="35712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طبقه بندی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نو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تم کربن </a:t>
            </a:r>
            <a:r>
              <a:rPr b="0" lang="fa-IR" sz="1800" spc="-1" strike="noStrike">
                <a:solidFill>
                  <a:srgbClr val="ff0000"/>
                </a:solidFill>
                <a:latin typeface="Century Schoolbook"/>
                <a:ea typeface="Arial"/>
              </a:rPr>
              <a:t>(گلوکز، فروکتوز، گالاکتو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 ساکارید که یک ملکول آب از دست داده است. [ساکارز (گلوکز+فروکتوز)، لاکتوز (گلوکز+گالاکتوز)، مالتوز (گلوکز+گلوکز)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اهی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ساکاری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642960" y="557280"/>
            <a:ext cx="757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انواع پلی ساکاریدها :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لی ساکاریدهای گیاه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، نشاسته،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شاسته 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فراوانترین پلی ساکارید گیاهی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نگام هضم ← ابتدا به مالتوز ←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 ← سازنده دیواره ساختمان گیاهان ← در برابر آنزیم های گوارشی مقاوم ← در بدن جذب نمی شود ← به دفع مواد زاید کمک می ک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 حیو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در آب محلول است ← حدو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35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لیکوژن در بدن ذخیره است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10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کبد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2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عض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ورزشکاران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هم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مواقع نیاز گلیکوژن تجزیه شده ← گلوکز ← روند تبدیل گلیکوژن کبدی به گلوکز را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یکوژنولیز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زیه مواد غذایی مثل پروتئین و تبدیل آن به گلوکز ←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وکونئوژن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د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هضم، جذب و سوخت و ساز کربوهی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000" y="428760"/>
            <a:ext cx="784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هضم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ولین مرحله هضم در دهان ← مخلوط با بزاق ← آنزیم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پتیالین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(آلفا ـ آمیلا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تیالن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مالتوز     فقط برای مدت کوتاهی، به علت اینک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زاق خنثی است با ورود غذا به معده آمیلاز بزاقی غیرفعا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ضم نشاسته در معده به عل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توقف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وارش مجدد در دوازدهه ← شیره لوزالمعده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مالتو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روده باریک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آنزیم لاکتاز و سوکراز، مالتازبه ترتیب بر روی لاکتوز ساکارزو مالتوز اثر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Line 5"/>
          <p:cNvSpPr/>
          <p:nvPr/>
        </p:nvSpPr>
        <p:spPr>
          <a:xfrm flipH="1">
            <a:off x="6300360" y="2130480"/>
            <a:ext cx="107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2050920" y="3643200"/>
            <a:ext cx="1368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2920" y="5086440"/>
            <a:ext cx="85723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قتی کربوهیدراتها مجددا به مونوساکاریدها تجزیه می‌شوند،آنزیمهای خاصی یونهای هیدروژن و هیدروکسیل را به پلی‌ساکاریدها باز می‌گردانند و به این وسیله مونوساکاریدها را از یکدیگر جدا می‌کنند. این روند، هیدرولیز نامیده می‌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7:35Z</dcterms:modified>
  <cp:revision>97</cp:revision>
  <dc:subject/>
  <dc:title>Slide 1</dc:title>
</cp:coreProperties>
</file>