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335F-DC41-43D1-AE8B-5D93036CFB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5A66-D506-44A1-A24C-E650E78236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8ED5-D484-460B-823E-7D1D2855E1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C040-6D0E-4F44-BC04-1A7368B6CC4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B4B4-0015-4E9C-89BB-9CECF7B6566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5B31-887C-489A-B372-495896118E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44A3-0C54-4175-9AC0-97FDD8CCC7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DC1F-0115-4FEE-9892-69387DAA12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157F-EABA-48E1-9171-D96C3CBD106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7E6F-39AD-4B95-8BE9-4803CB5FC3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4FAB-FE6F-458A-B03F-00411EA710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4211-8202-44FB-88C7-BF3A27A217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D6BF-73B8-4724-8819-FFA838B8FF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EE94-4FF6-403E-B17D-05E55FF60C2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84CD-E8AF-4055-A1A4-1E7E396220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D9EE-3F8E-405D-8259-2EC756723D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BCD4-D713-4AD6-8BDC-A71658EBDA9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1A61-6A3B-4800-8DCE-B5BF3BF909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2921-C578-4C99-9C46-84374430A1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49BD-23D9-4E09-BAF9-F7A83704E40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C067-D42B-476F-8945-682D567500F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39A4-9822-4D87-B5D8-4E6481340A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55B7-AC4C-4D1A-A615-B64A2D3BE9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2F1F-F720-4956-8C24-AA73C9D999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9A4-A82B-4A92-8313-FCB3F4D7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C16-354B-4F00-B073-BF50079E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B2B-CFB9-48DA-A1BB-7AF9FF44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3C7-20DA-491A-810C-46F36A50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4857-FB60-4946-8A47-A91744BE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DBB6-FB07-4245-818F-5EB00170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31F4-81D7-4E40-A782-C52A9F35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DC57-71CE-4CC9-A3EB-46865615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6649-CB1E-4D3D-8E24-AF0AB71A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4241-38F9-486C-891F-66FCD49D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0668-F495-4CD2-847B-37E49AFB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B2C-98B9-4DF8-9353-E9459318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265C-9237-4F91-BC62-2852074E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2200-12DA-4369-919F-FBF4EE23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FBA6-8BB5-42F4-8AD4-439BD7F1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8BEF-7790-434E-8053-5E336FA8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3F1B-4D14-4E69-95AE-5359DA37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7A97F-CE09-4092-852A-458DC511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21DC7-4BEE-49E6-8296-C75C6934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C29F2-CD80-44EB-80F0-C2F6FD39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6AE3B-B462-45EF-B9D1-A0047C83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3298C-1AB9-4C55-A973-9F526D88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BB7-678E-45E0-A30C-1BE5F02D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59D7A-9949-42B8-A13E-87CDB7D4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1298F-1A79-4C33-80BB-9C4413F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1B8F0-7695-49AF-BBCF-EB35BCA3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3A55E-0251-474C-8A0E-B2ACD498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14BC6-DDEB-4846-B552-A6D8F95C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91002-0D7E-4BE8-B20B-E1E7A2C3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E7CB8-9240-44A5-B2CD-25497925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A4A9-576E-4B1F-8F50-2F21866A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6C87A-1391-482B-A4F6-9128B71B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BCA64-49CB-4B40-9468-1A4D2E65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13D-36C2-4E75-91FE-4A0ACF08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E036-D5E7-4711-B16A-A9791963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5F451-E079-40BB-890B-96144D10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9836-9134-4AE4-A9BC-E9359612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E34F5-EA00-42F6-A64A-3A51EBDA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3CE38-6156-4365-99F3-45D423DD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CB959-B399-4B50-8DC4-3877BD4B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562A3-CC09-45CD-A82E-F3383658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8C063-4326-4CEF-A48D-278EF75E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D5481-D0B9-4BC4-886C-01D7BBAC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79FC1-763D-4088-8544-63C564D1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B7B-1A56-469F-9E02-7861A174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7D3B11-5114-4F0D-B65C-7F5E31B6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7B6C89-39CA-4FD3-8A03-3953C161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E5A43-9CBC-4F8F-9749-F616380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B3EC6-0008-4CE3-8BFE-330297D0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6ACF7-DA7C-4864-B5F6-57FFF0C7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D30CF-CAD9-401E-B5DF-FB9C619B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320D9-B7E8-4DE1-A5EE-CD05B6AC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0B578-4C7F-4D17-A9D5-EC29BC37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531F0-D265-408B-8A6F-EA362624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A8B20-26B2-4481-987E-EC30BAE0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6A0-F426-4CB1-8D3F-8C521BAA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93921-0C4C-4C43-A405-5EDA33E4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CC0A3-92E0-4F8F-A8D0-5847A43C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4D587-248A-4EC3-977A-0C9073C2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FCDF6-17D8-4382-9FF7-E0BE78EF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7FDE7-DF8F-41E7-B8FF-CB977BE2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EFA4A-9BAA-4F3C-B147-E03AB90E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C5531-82B8-49A7-8675-4C890DE5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7D375-02E0-4727-A874-F0E93F28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94E0E-946A-4D8A-A035-241A2E43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F36BFC-5DE9-4CD8-B3BC-C5BC877E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0AA-7ED2-477C-9E27-CAFBBEA4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A4BA5-6251-48A6-84AE-8ED7999B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8F7F2-B9FF-4E5E-93AB-4DBCA531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551B9-7CA7-4074-A9CC-3C5DA32A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DFBE6-2756-4A36-91D3-F7309CB3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77DD9-98BB-4CAA-B453-D4FB0A56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04AD7-732E-45AE-B326-5571B4CC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45B29C-2688-4BE6-9497-CE494AED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FE26F-4516-41E0-B048-7C899129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209B44-84A4-4B45-BCB8-73927E5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438C9-0495-4210-A88A-44A3B17F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5B2-5A09-47A1-9F0B-4E4A83B1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8F735-86DC-4D02-ABC4-9E91F36F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9D51E-DC5F-4A38-9A16-D20F61DA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5E662-7D3F-4E17-BD08-CF492E16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21904-8EEB-4A4B-A5B6-60A93E03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547F74-1ECC-493D-8CA4-EEE99113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DC465-2C52-4597-954B-D37D6BDB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95498-02E3-4FC9-80AB-E66BC0F3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074DD-39C8-49AE-8F9F-073E6C60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C4084-EFFE-4B66-BA03-60287742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9DDBE-90A6-42B6-B185-31C85C50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2BF-C890-47EA-ABC9-F867E152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E85C7-26A6-4B76-BED1-9B3B2606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3C0B8-4470-4060-A097-F13CEB54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884DB-5596-4261-AD09-17CFB5C4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853C3-2331-47DB-8F13-5F8E7D9F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2D519-D72F-4BFD-B514-34A63C68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80A48-4581-4163-809A-D47BA870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6203A-23C0-4611-9401-57CB32D9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76D4-B912-45A5-AF8B-166688727EE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5DC8-1927-4111-86B8-841FA6C6CA5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325D-7208-4879-BD54-634AD073F44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A4C0-342F-4277-B3D0-26C4BE01EF0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D472-074B-4341-BA69-8515A09C498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8256-6DFE-495A-B36F-AE8ADD995D2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ADC7-C777-49A8-8087-7759136503F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324C-B50F-4AD7-8B53-81DBFDDC67F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643280" y="1142640"/>
            <a:ext cx="3848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راحل مختلف هضم کربوهیدرات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395280" y="1916280"/>
          <a:ext cx="8136000" cy="425124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62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ذا             دهان           معده              ترشح لوزالمعده در روده باريك         روده باريك</a:t>
                      </a:r>
                      <a:r>
                        <a:rPr b="0" lang="fa-I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ليكوژن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مالتوز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شاسته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تيالين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دكسترين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كسترين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آميل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مالتوز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ل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گلوك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وز  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لاكت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گلوكز+گالا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كارز                                            </a:t>
                      </a:r>
                      <a:r>
                        <a:rPr b="0" lang="fa-I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وكراز</a:t>
                      </a:r>
                      <a:r>
                        <a:rPr b="0" lang="fa-I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گلوكز +فروكتو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Line 13"/>
          <p:cNvSpPr/>
          <p:nvPr/>
        </p:nvSpPr>
        <p:spPr>
          <a:xfrm flipH="1">
            <a:off x="630072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 flipH="1">
            <a:off x="3708000" y="3284640"/>
            <a:ext cx="1582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5"/>
          <p:cNvSpPr/>
          <p:nvPr/>
        </p:nvSpPr>
        <p:spPr>
          <a:xfrm flipH="1">
            <a:off x="1619280" y="3284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6"/>
          <p:cNvSpPr/>
          <p:nvPr/>
        </p:nvSpPr>
        <p:spPr>
          <a:xfrm flipH="1">
            <a:off x="630072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7"/>
          <p:cNvSpPr/>
          <p:nvPr/>
        </p:nvSpPr>
        <p:spPr>
          <a:xfrm flipH="1">
            <a:off x="3635280" y="3933720"/>
            <a:ext cx="165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18"/>
          <p:cNvSpPr/>
          <p:nvPr/>
        </p:nvSpPr>
        <p:spPr>
          <a:xfrm flipH="1">
            <a:off x="1547640" y="393372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 flipH="1">
            <a:off x="2124000" y="5734080"/>
            <a:ext cx="56167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0"/>
          <p:cNvSpPr/>
          <p:nvPr/>
        </p:nvSpPr>
        <p:spPr>
          <a:xfrm flipH="1">
            <a:off x="1476360" y="4508640"/>
            <a:ext cx="1440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1"/>
          <p:cNvSpPr/>
          <p:nvPr/>
        </p:nvSpPr>
        <p:spPr>
          <a:xfrm flipH="1">
            <a:off x="3634920" y="4508640"/>
            <a:ext cx="403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2"/>
          <p:cNvSpPr/>
          <p:nvPr/>
        </p:nvSpPr>
        <p:spPr>
          <a:xfrm flipH="1">
            <a:off x="2123640" y="5157720"/>
            <a:ext cx="56149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84000" y="4647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جذب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جذب ← بعد از هضم قندها ← به صورت منوساکارید جذب می شو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+ گالاکتوز ← مکانیزم انتقال فعال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فروکتوز                                 انتشار ساده                                                 منوساکاریدها از طریق سیاهرگ باب ← کب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کبد فروکتوز گالاکتوز ← گلوک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Line 5"/>
          <p:cNvSpPr/>
          <p:nvPr/>
        </p:nvSpPr>
        <p:spPr>
          <a:xfrm flipH="1">
            <a:off x="2916000" y="3143160"/>
            <a:ext cx="64764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H="1" flipV="1">
            <a:off x="2916000" y="3576240"/>
            <a:ext cx="64764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0" y="32907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ارد خون می 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H="1">
            <a:off x="5148000" y="3930480"/>
            <a:ext cx="23763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11280" y="60768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3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سوخت و ساز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وکز در هنگام ورود به خون سه سرنوشت دارد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عنوان منبع انرژی اکسید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گلیکوژن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به چربی تبدیل شده و ذخیره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غلظت گلوکز خو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8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گرم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یلی لیتر خون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ت قند خون از میزان طبیعی ← هیپو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ین غلظت برای مغز مه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                            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افزایش قند خون از میزان طبیعی ←هایپرگلیسم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5072040" y="4346640"/>
            <a:ext cx="287280" cy="1439640"/>
          </a:xfrm>
          <a:custGeom>
            <a:avLst/>
            <a:gdLst>
              <a:gd name="textAreaLeft" fmla="*/ 0 w 287280"/>
              <a:gd name="textAreaRight" fmla="*/ 103680 w 287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11280" y="999720"/>
            <a:ext cx="792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رگاه مقدار زیادی گلوکز از راه لوله گوارش وارد خون شود اضافی آن در کبد و عضلات به صورت گلیکوژن ذخیره می شود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بدیل گلوکز     به      گلیکوژن توسط آزاد شدن هورمون انسولین از لوزالمعده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عضلانی ← منشأ گرما و انرژی در هنگام فعالیت عضلانی است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کبدی ← برای حفظ میزان گلوکز خون است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cs typeface="Arial"/>
              </a:rPr>
              <a:t>هنگامی که مقدار کربوهیدرات مصرفی بیش از مقداری باشد که بدن بتواند آن را در کبد عضلات به صورت گلیکوژن ذخیره کند مازاد آن به چربی تبدیل می شود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6659640" y="3071880"/>
            <a:ext cx="7920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5840" y="213840"/>
            <a:ext cx="8246880" cy="42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ورود و خروج گلوکز به خون توسط هورمون ها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↓ انسولین ،   ↑ گلوکاکن  ،     آدرنالن ↑   ،    رشد ↑  ،   کورتیزول ↑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هنگام فشار عصبی و هیجانات ← کورتیکو تروپین ← قشر فوق کلیوی ← کورتیزول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لید انرژی از گلیکوژن توسط دستگاه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گلوکز ← اسید پیرویک ← اسید لاکتی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 → 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→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 +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1217160" y="4551480"/>
            <a:ext cx="6599880" cy="221508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دستگاه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گلیکوژن ← گلوکز ← اسید پیرودیک ← چرخه کرب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→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 + 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P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9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-7128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س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نقش كربوهيدراتها در بدن و رابطه آنها با ورز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13840" y="642600"/>
            <a:ext cx="8425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نقش کربوهیدرات در بد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منبع انرژ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صرفه جویی در مصرف پروتئین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تأمین ویتامین (گروه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B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نقش کربوهیدرات در کبد: شامل خنثی کردن مواد سمی و تنظیم سوخت و ساز چربی و پروتئین ها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) یگانه منبع سوخت دستگاه عصبی مرکزی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Line 2"/>
          <p:cNvSpPr/>
          <p:nvPr/>
        </p:nvSpPr>
        <p:spPr>
          <a:xfrm>
            <a:off x="2995560" y="4292640"/>
            <a:ext cx="1944720" cy="730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"/>
          <p:cNvSpPr/>
          <p:nvPr/>
        </p:nvSpPr>
        <p:spPr>
          <a:xfrm rot="714000">
            <a:off x="2995200" y="4436640"/>
            <a:ext cx="1657440" cy="1008000"/>
          </a:xfrm>
          <a:prstGeom prst="rightArrow">
            <a:avLst>
              <a:gd name="adj1" fmla="val 50000"/>
              <a:gd name="adj2" fmla="val 4110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57120" y="856800"/>
            <a:ext cx="8175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رابطه کربوهیدرات ها با فعالیت های ورزش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زمان استراحت ←       انرژی مورد نیاز بدن توسط چربی ها و       توسط قندها و عمده سیستم تولید انرژی سیستم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66640" indent="-5666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8"/>
              <p:cNvSpPr txBox="1"/>
              <p:nvPr/>
            </p:nvSpPr>
            <p:spPr>
              <a:xfrm>
                <a:off x="5759280" y="1857240"/>
                <a:ext cx="3128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Rectangle 9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11"/>
              <p:cNvSpPr txBox="1"/>
              <p:nvPr/>
            </p:nvSpPr>
            <p:spPr>
              <a:xfrm>
                <a:off x="1285920" y="1785960"/>
                <a:ext cx="353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4" name="Rectangle 12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13"/>
          <p:cNvSpPr/>
          <p:nvPr/>
        </p:nvSpPr>
        <p:spPr>
          <a:xfrm>
            <a:off x="1933560" y="4149720"/>
            <a:ext cx="1366920" cy="1368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4"/>
          <p:cNvSpPr/>
          <p:nvPr/>
        </p:nvSpPr>
        <p:spPr>
          <a:xfrm>
            <a:off x="2058840" y="4365720"/>
            <a:ext cx="576360" cy="50328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5"/>
          <p:cNvSpPr/>
          <p:nvPr/>
        </p:nvSpPr>
        <p:spPr>
          <a:xfrm>
            <a:off x="2635200" y="4869000"/>
            <a:ext cx="64944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6"/>
          <p:cNvSpPr/>
          <p:nvPr/>
        </p:nvSpPr>
        <p:spPr>
          <a:xfrm>
            <a:off x="1916280" y="4005360"/>
            <a:ext cx="136836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7"/>
          <p:cNvSpPr/>
          <p:nvPr/>
        </p:nvSpPr>
        <p:spPr>
          <a:xfrm>
            <a:off x="2076480" y="4005360"/>
            <a:ext cx="0" cy="287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8"/>
          <p:cNvSpPr/>
          <p:nvPr/>
        </p:nvSpPr>
        <p:spPr>
          <a:xfrm>
            <a:off x="1428840" y="3645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پروتیین(ناچی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2293920" y="43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گلوکز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2094840" y="49417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چربی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3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5011560" y="4221000"/>
            <a:ext cx="721080" cy="36036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2"/>
          <p:cNvSpPr/>
          <p:nvPr/>
        </p:nvSpPr>
        <p:spPr>
          <a:xfrm>
            <a:off x="5104080" y="4221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3"/>
          <p:cNvSpPr/>
          <p:nvPr/>
        </p:nvSpPr>
        <p:spPr>
          <a:xfrm>
            <a:off x="5877000" y="414972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24"/>
          <p:cNvSpPr/>
          <p:nvPr/>
        </p:nvSpPr>
        <p:spPr>
          <a:xfrm>
            <a:off x="6235560" y="4221000"/>
            <a:ext cx="914400" cy="360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5"/>
          <p:cNvSpPr/>
          <p:nvPr/>
        </p:nvSpPr>
        <p:spPr>
          <a:xfrm>
            <a:off x="6143760" y="4221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6"/>
          <p:cNvSpPr/>
          <p:nvPr/>
        </p:nvSpPr>
        <p:spPr>
          <a:xfrm>
            <a:off x="4813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7"/>
          <p:cNvSpPr/>
          <p:nvPr/>
        </p:nvSpPr>
        <p:spPr>
          <a:xfrm>
            <a:off x="68850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8"/>
          <p:cNvSpPr/>
          <p:nvPr/>
        </p:nvSpPr>
        <p:spPr>
          <a:xfrm>
            <a:off x="5821200" y="5157720"/>
            <a:ext cx="576360" cy="358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9"/>
          <p:cNvSpPr/>
          <p:nvPr/>
        </p:nvSpPr>
        <p:spPr>
          <a:xfrm>
            <a:off x="6863400" y="515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0"/>
          <p:cNvSpPr/>
          <p:nvPr/>
        </p:nvSpPr>
        <p:spPr>
          <a:xfrm>
            <a:off x="5445000" y="508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1"/>
          <p:cNvSpPr/>
          <p:nvPr/>
        </p:nvSpPr>
        <p:spPr>
          <a:xfrm>
            <a:off x="6505200" y="5105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2"/>
          <p:cNvSpPr/>
          <p:nvPr/>
        </p:nvSpPr>
        <p:spPr>
          <a:xfrm>
            <a:off x="3490920" y="37162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82520" y="1071360"/>
            <a:ext cx="8461440" cy="3786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های کوتاه ← کمتر از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دقیقه ← عمده سیستم بی هواز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کربوهیدرات ها به عنوان منبع انرژی اصل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مع اسید لاکتیک مؤید این مورد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فزایش اسید لاکتیک خون تا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زمان استراحت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قدار طبیعی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m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سی سی خو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2"/>
          <p:cNvSpPr/>
          <p:nvPr/>
        </p:nvSpPr>
        <p:spPr>
          <a:xfrm>
            <a:off x="2411280" y="1743120"/>
            <a:ext cx="1800360" cy="863640"/>
          </a:xfrm>
          <a:prstGeom prst="rightArrow">
            <a:avLst>
              <a:gd name="adj1" fmla="val 50000"/>
              <a:gd name="adj2" fmla="val 5211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3"/>
          <p:cNvSpPr/>
          <p:nvPr/>
        </p:nvSpPr>
        <p:spPr>
          <a:xfrm>
            <a:off x="2411280" y="2679840"/>
            <a:ext cx="2305080" cy="863640"/>
          </a:xfrm>
          <a:prstGeom prst="rightArrow">
            <a:avLst>
              <a:gd name="adj1" fmla="val 50000"/>
              <a:gd name="adj2" fmla="val 6672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1332000" y="1814400"/>
            <a:ext cx="1655640" cy="16560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7"/>
          <p:cNvSpPr/>
          <p:nvPr/>
        </p:nvSpPr>
        <p:spPr>
          <a:xfrm>
            <a:off x="2195640" y="2606760"/>
            <a:ext cx="576000" cy="6476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>
            <a:off x="2195640" y="2606760"/>
            <a:ext cx="720720" cy="36036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476360" y="217476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39d"/>
                </a:solidFill>
                <a:latin typeface="Times New Roman"/>
              </a:rPr>
              <a:t>کربو 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788000" y="1887480"/>
            <a:ext cx="86364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"/>
          <p:cNvSpPr/>
          <p:nvPr/>
        </p:nvSpPr>
        <p:spPr>
          <a:xfrm>
            <a:off x="6156360" y="1887480"/>
            <a:ext cx="1152360" cy="503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4860720" y="1887480"/>
            <a:ext cx="7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6054840" y="195912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5776560" y="19065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5"/>
          <p:cNvSpPr/>
          <p:nvPr/>
        </p:nvSpPr>
        <p:spPr>
          <a:xfrm>
            <a:off x="507672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6"/>
          <p:cNvSpPr/>
          <p:nvPr/>
        </p:nvSpPr>
        <p:spPr>
          <a:xfrm>
            <a:off x="6012000" y="2895480"/>
            <a:ext cx="57456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6948360" y="2895480"/>
            <a:ext cx="574920" cy="5749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0050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565272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5944680" y="29671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6589440" y="29671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6881040" y="29671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3148920" y="33987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1707840" y="361476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1714680" y="64296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 ارتباط کربوهیدراتها با فعالیت های کوتاه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25"/>
          <p:cNvSpPr/>
          <p:nvPr/>
        </p:nvSpPr>
        <p:spPr>
          <a:xfrm>
            <a:off x="719280" y="4429080"/>
            <a:ext cx="6924600" cy="26539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0" y="78588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بخش سوم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cs typeface="Arial"/>
              </a:rPr>
              <a:t>كربوهيدراتها و نقش آنها در تغذيه 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66"/>
                </a:solidFill>
                <a:latin typeface="Century Schoolbook"/>
                <a:ea typeface="Arial"/>
              </a:rPr>
              <a:t> ارتباط كربوهيدراتهاي با فعالیت های ورزشي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5" descr="LOAF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4005360"/>
            <a:ext cx="540072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42920" y="428400"/>
            <a:ext cx="8532720" cy="214308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فعالیت درازمدت و نسبتاً سنگین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← بین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ـ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ساعت  فوتبال: دوها (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3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20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کیلومتر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شدت فعالیت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6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درجه اول تأمین انرژی به عمده هیدراتها کربن و سپس چربی ه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214200" y="2992320"/>
            <a:ext cx="8358480" cy="18493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توصیه برای ورزشکاران سرعت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حداقل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5/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ساعت قبل از مسابقه غذا بخور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رنامه غذایی مطابق با عادت تغذیه ای با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غذای سرشار از کربوهیدرات به دلیل اثر انسولین مصرف نش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57120" y="2198520"/>
            <a:ext cx="8175600" cy="194472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وصیه ها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سه روز قبل خوردن هیدرات کربن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قند در حین مسابق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) خوردن محلول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% گلوکز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شکر در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لیتر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2" name="Picture 5" descr="2-cf-supplements-gain"/>
          <p:cNvPicPr/>
          <p:nvPr/>
        </p:nvPicPr>
        <p:blipFill>
          <a:blip r:embed="rId1"/>
          <a:stretch/>
        </p:blipFill>
        <p:spPr>
          <a:xfrm>
            <a:off x="2571840" y="4357800"/>
            <a:ext cx="4000320" cy="2449440"/>
          </a:xfrm>
          <a:prstGeom prst="rect">
            <a:avLst/>
          </a:prstGeom>
          <a:ln w="9360">
            <a:solidFill>
              <a:srgbClr val="fff39d"/>
            </a:solidFill>
            <a:miter/>
          </a:ln>
        </p:spPr>
      </p:pic>
      <p:sp>
        <p:nvSpPr>
          <p:cNvPr id="503" name="Rectangle 2"/>
          <p:cNvSpPr/>
          <p:nvPr/>
        </p:nvSpPr>
        <p:spPr>
          <a:xfrm>
            <a:off x="142920" y="571680"/>
            <a:ext cx="8572320" cy="150012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Century Schoolbook"/>
              </a:rPr>
              <a:t>فعالیت درازمدت و سبک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←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3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تا 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4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</a:rPr>
              <a:t> ساعت مثل دوی ماراتن، کوهنورد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</a:rPr>
              <a:t> ابتدای فعالیت هیدرات کربن، انتها چربی (سیستم هواز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2"/>
          <p:cNvSpPr/>
          <p:nvPr/>
        </p:nvSpPr>
        <p:spPr>
          <a:xfrm>
            <a:off x="2367000" y="2421000"/>
            <a:ext cx="2808360" cy="64764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3"/>
          <p:cNvSpPr/>
          <p:nvPr/>
        </p:nvSpPr>
        <p:spPr>
          <a:xfrm rot="1930800">
            <a:off x="2343240" y="3068640"/>
            <a:ext cx="2160360" cy="24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هواز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6"/>
          <p:cNvSpPr/>
          <p:nvPr/>
        </p:nvSpPr>
        <p:spPr>
          <a:xfrm>
            <a:off x="1071720" y="2492280"/>
            <a:ext cx="2087280" cy="21607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7"/>
          <p:cNvSpPr/>
          <p:nvPr/>
        </p:nvSpPr>
        <p:spPr>
          <a:xfrm>
            <a:off x="2079720" y="3500280"/>
            <a:ext cx="718920" cy="86544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2079720" y="3500280"/>
            <a:ext cx="107928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9"/>
          <p:cNvSpPr/>
          <p:nvPr/>
        </p:nvSpPr>
        <p:spPr>
          <a:xfrm>
            <a:off x="5464080" y="2924280"/>
            <a:ext cx="79236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10"/>
          <p:cNvSpPr/>
          <p:nvPr/>
        </p:nvSpPr>
        <p:spPr>
          <a:xfrm>
            <a:off x="6688080" y="2924280"/>
            <a:ext cx="1150920" cy="433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474336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704844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5896080" y="4724280"/>
            <a:ext cx="720720" cy="505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1398960" y="29005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کربوهیدرا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5"/>
          <p:cNvSpPr/>
          <p:nvPr/>
        </p:nvSpPr>
        <p:spPr>
          <a:xfrm>
            <a:off x="2393280" y="3645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چربی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5465520" y="2924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7"/>
          <p:cNvSpPr/>
          <p:nvPr/>
        </p:nvSpPr>
        <p:spPr>
          <a:xfrm>
            <a:off x="6569280" y="292896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اسید لاکتی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47448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9"/>
          <p:cNvSpPr/>
          <p:nvPr/>
        </p:nvSpPr>
        <p:spPr>
          <a:xfrm>
            <a:off x="5900400" y="4797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0"/>
          <p:cNvSpPr/>
          <p:nvPr/>
        </p:nvSpPr>
        <p:spPr>
          <a:xfrm>
            <a:off x="7103160" y="479268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1"/>
          <p:cNvSpPr/>
          <p:nvPr/>
        </p:nvSpPr>
        <p:spPr>
          <a:xfrm>
            <a:off x="3492720" y="206064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بی هواز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755640" y="6429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 ارتباط کربوهیدراتها با فعالیت های دراز مد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5"/>
          <p:cNvSpPr txBox="1"/>
          <p:nvPr/>
        </p:nvSpPr>
        <p:spPr>
          <a:xfrm>
            <a:off x="1357200" y="857160"/>
            <a:ext cx="6088320" cy="47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0" y="164268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اول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ساختار، انواع و منابع غذایی كربوهي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684000" y="4284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b32c16"/>
                </a:solidFill>
                <a:latin typeface="Century Schoolbook"/>
                <a:ea typeface="Arial"/>
              </a:rPr>
              <a:t>. کربوهیدراتها و ساختمان آن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قندها مهمترین و ارزانترین منبع انرژی ا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9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فقی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نرژی ← کشورهای غ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%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الری مورد نیاز روزانه ازخوردن مواد قندی تامین می گرد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50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رم مواد قندی ← روزانه در رژیم غذایی متعادل موجود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ساختمان ← اتمهای کربن، هیدروژن، اکسیژ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5280" indent="-21528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نسبت اتم هیدروژن به اکسیژن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ه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Line 5"/>
          <p:cNvSpPr/>
          <p:nvPr/>
        </p:nvSpPr>
        <p:spPr>
          <a:xfrm flipH="1">
            <a:off x="4642920" y="2565360"/>
            <a:ext cx="50508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6"/>
          <p:cNvSpPr/>
          <p:nvPr/>
        </p:nvSpPr>
        <p:spPr>
          <a:xfrm flipH="1" flipV="1">
            <a:off x="4643280" y="2925360"/>
            <a:ext cx="43344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95280" y="263700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از خوردن مواد قندی تامین می شو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56760" y="35712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2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طبقه بندی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1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منو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تا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6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اتم کربن </a:t>
            </a:r>
            <a:r>
              <a:rPr b="0" lang="fa-IR" sz="1800" spc="-1" strike="noStrike">
                <a:solidFill>
                  <a:srgbClr val="ff0000"/>
                </a:solidFill>
                <a:latin typeface="Century Schoolbook"/>
                <a:ea typeface="Arial"/>
              </a:rPr>
              <a:t>(گلوکز، فروکتوز، گالاکتوز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د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 ساکارید که یک ملکول آب از دست داده است. [ساکارز (گلوکز+فروکتوز)، لاکتوز (گلوکز+گالاکتوز)، مالتوز (گلوکز+گلوکز)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 rtl="1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) </a:t>
            </a:r>
            <a:r>
              <a:rPr b="1" lang="fa-IR" sz="18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ها ←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اهی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</a:t>
            </a:r>
            <a:r>
              <a:rPr b="0" lang="fa-IR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نوساکارید 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642960" y="557280"/>
            <a:ext cx="757224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3300"/>
                </a:solidFill>
                <a:latin typeface="Times New Roman"/>
              </a:rPr>
              <a:t>انواع پلی ساکاریدها :</a:t>
            </a:r>
            <a:r>
              <a:rPr b="0" lang="fa-I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</a:rPr>
              <a:t>پلی ساکاریدهای گیاه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، نشاسته،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شاسته 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fa-IR" sz="2400" spc="-1" strike="noStrike">
                <a:solidFill>
                  <a:srgbClr val="ff0000"/>
                </a:solidFill>
                <a:latin typeface="Times New Roman"/>
              </a:rPr>
              <a:t>فراوانترین پلی ساکارید گیاهی</a:t>
            </a:r>
            <a:r>
              <a:rPr b="0" lang="fa-IR" sz="2400" spc="-1" strike="noStrike">
                <a:solidFill>
                  <a:srgbClr val="ff0000"/>
                </a:solidFill>
                <a:latin typeface="Times New Roman"/>
              </a:rPr>
              <a:t> 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هنگام هضم ← ابتدا به مالتوز ← گلوک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سلولز ← سازنده دیواره ساختمان گیاهان ← در برابر آنزیم های گوارشی مقاوم ← در بدن جذب نمی شود ← به دفع مواد زاید کمک می کن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لی ساکارید حیوا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لیکوژن ← در آب محلول است ← حدود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35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لیکوژن در بدن ذخیره است 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108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کبد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gr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245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در عضلا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ورزشکاران تا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رابر هم می رس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مواقع نیاز گلیکوژن تجزیه شده ← گلوکز ← روند تبدیل گلیکوژن کبدی به گلوکز را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یکوژنولیز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تجزیه مواد غذایی مثل پروتئین و تبدیل آن به گلوکز ←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گلوکونئوژن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28400" y="10713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Century Schoolbook"/>
                <a:cs typeface="Arial"/>
              </a:rPr>
              <a:t>فصل دو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66"/>
                </a:solidFill>
                <a:latin typeface="Century Schoolbook"/>
                <a:cs typeface="Arial"/>
              </a:rPr>
              <a:t>هضم، جذب و سوخت و ساز کربوهیدراتها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000" y="428760"/>
            <a:ext cx="78483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cs typeface="Arial"/>
              </a:rPr>
              <a:t>گفتار 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1</a:t>
            </a:r>
            <a:r>
              <a:rPr b="1" lang="fa-I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. هضم کربوهیدراته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اولین مرحله هضم در دهان ← مخلوط با بزاق ← آنزیم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پتیالین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(آلفا ـ آمیلا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پتیالن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مالتوز     فقط برای مدت کوتاهی، به علت اینکه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بزاق خنثی است با ورود غذا به معده آمیلاز بزاقی غیرفعا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هضم نشاسته در معده به علت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PH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کمتر از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متوقف شد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گوارش مجدد در دوازدهه ← شیره لوزالمعده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نشاسته</a:t>
            </a:r>
            <a:r>
              <a:rPr b="0" lang="fa-IR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مالتو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3560" indent="-22356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cs typeface="Arial"/>
              </a:rPr>
              <a:t>در روده باریک ← 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آنزیم لاکتاز و سوکراز، مالتازبه ترتیب بر روی لاکتوز ساکارزو مالتوز اثر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Line 5"/>
          <p:cNvSpPr/>
          <p:nvPr/>
        </p:nvSpPr>
        <p:spPr>
          <a:xfrm flipH="1">
            <a:off x="6300360" y="2130480"/>
            <a:ext cx="107964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6"/>
          <p:cNvSpPr/>
          <p:nvPr/>
        </p:nvSpPr>
        <p:spPr>
          <a:xfrm flipH="1">
            <a:off x="2050920" y="3643200"/>
            <a:ext cx="13687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142920" y="5086440"/>
            <a:ext cx="857232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وقتی کربوهیدراتها مجددا به مونوساکاریدها تجزیه می‌شوند،آنزیمهای خاصی یونهای هیدروژن و هیدروکسیل را به پلی‌ساکاریدها باز می‌گردانند و به این وسیله مونوساکاریدها را از یکدیگر جدا می‌کنند. این روند، هیدرولیز نامیده می‌شون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7:35Z</dcterms:modified>
  <cp:revision>97</cp:revision>
  <dc:subject/>
  <dc:title>Slide 1</dc:title>
</cp:coreProperties>
</file>