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3634-9769-48E0-87AA-1AE7C8DD9BA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C1AE-177E-4E1E-8113-9BD91605722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AC1A-0058-4A82-AF15-2BF17518B68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32BB-53EB-4933-A890-501D16D5470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AC07-83A1-4926-8AC1-166355B33EA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08D0-F1D1-46E9-A224-512FF45C2AE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F99E-EB76-499F-8F46-A9B8FA7CBAC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6FBE-3386-470F-947A-D05ED9B047F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AE71-2557-487D-A3A4-44D29937AED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80CC-FEED-4644-9A32-4601E023BA8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EF74-AA16-4927-946E-43CE6F66EEE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A486-091A-4966-BCBD-81C1B72C8BA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179A-475D-47C4-908C-E5552E135BD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EF61-DA60-4014-9A6E-959CF63FC1A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A8E9-0E25-44F9-AF78-CCDAE1F303A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92F0-8555-4E4A-8770-5583C8478C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B5D9-0250-4BE2-9463-87FBEB8170A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297E-5C9E-46E8-8EE7-1C35604F389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71A2-2CA8-4EB2-931C-AA68BBF64A7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30D6-E301-42F1-8C2A-03B6838F07F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9680-10FA-4C7B-A26E-D9527FA10C3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0721-485A-4825-9E2D-E02BE524246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4679-2C94-41AE-9A8B-619931A2F27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962E-A032-4FF5-8FF3-B4FA2538FA0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948D-EEDA-4E51-8977-E7EB41387D3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3C5E-39F2-4F36-83B5-70810E85AF1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7ADE-F7A3-4B9E-A151-7B5D78035AD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38C4-AE3D-4D5B-839C-596079C1838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9935-2B47-497B-9032-9FB047AE815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BB62-FF15-4021-94DC-2BC19899603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0D70-6E42-4277-B0B1-56C604205A7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4AC2-C43E-46CA-94BC-BCE39BB3CE9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98BC-E909-47B8-AEB5-30A78B0F8F9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4F34-B127-45DB-BB34-5B9A1768927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4EE44-5DED-46F9-912E-869A5B99D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21AAA-E501-4742-8928-9D92F231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8603A-E090-41E0-A641-B1FF6CAAE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6EEAE-EC50-4F6D-9B2D-CC117F449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E106A-4519-48D3-A752-E29DD886B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76032-6BCB-4A6C-AF4B-12A044459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0879E-4FEE-48B3-94AA-30F487C21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B0208-1519-4D9F-B6A3-2DA89978C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14387-09B8-473C-9719-116BD8AB3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6701B-DE02-4FEB-90F9-9F15F6D13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084BB-AC71-4061-BB19-84C6C8EFD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AF201-EEB8-4B56-859A-D5FA78707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6E826-1891-419F-8309-C94B11D3E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2320D-2862-4CAB-A974-302A233B7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C3F7D-C414-4F68-A2F6-2960DC33B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A1D45-2901-4A60-AAF4-3F700A135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5B226-F206-444F-A7C5-9CDE77B79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4B3C2A-F266-4AA7-8049-719D142A5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1F4C8D-A13C-4687-A03C-87565AFBD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D5C681F-DCF1-42D9-B3DC-7550A582B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48BAB5-C48E-4162-89A9-FB400E210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A48CD9-1CC8-44E8-8ECE-72736DBD9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FCF3A-0611-476B-BD98-8E236CCBC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8BAAD9-2AD8-43AC-A234-0287F7AC2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3EE0DA-9B3B-4216-8CEE-7EA223090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06F462-3065-475F-84F6-3CB2BDDDD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6A090F-6B0D-43FC-9E24-72E534ACB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FFA645-016C-4FEC-8CB2-7B3C75A12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91A5D76-6658-4C09-B6A2-6DF40C6C9A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F64C89-7722-4436-B408-6AC072367E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11567-6503-4CB1-B72C-5ADBB5A0F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20AF0-29B7-4B09-9A06-F2F9838A5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597B7-DEB2-4F0B-8D09-D28A1B3EF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1E21-C0BE-4F21-A502-673DFD6E3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253A6-BEC3-4426-8FFF-F88DE8F88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C87F9-4495-4A31-882A-A32EE04D8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6C7F3-837B-46E8-8161-B7BC5EA29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DD918-08A0-404E-9212-286205AF2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6A56E-E176-472C-929B-ED3427763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6D79D-5BAB-4C0A-9191-3B38F1F8C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08CA3-544A-4EB0-B03F-0050DC33B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BA42B0-6E06-4451-BB90-5FCD5393F9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8DAD36-29CE-499B-B8AC-0BC66AC7EE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9290DD-0E61-4EC6-8E17-2905E60E9E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7BF5-442A-447D-BFE4-0493D24D5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8E6A36-4C87-4595-AE88-FC43E6820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66F9DB-0E62-4C8F-BF2C-DA0408C7EB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51D8F0-C3E6-4086-835D-E168C6881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B03C68-1EA8-49D1-9B26-156F81B6D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7FC549-7CD6-4334-95FE-F4308A6ED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CD4696-19EA-4C84-A45A-0A6C2BC75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4378F1-2677-40E1-96C9-2A6405182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288D6B-D455-453C-B68E-E6421667D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7E1311-7EAF-4887-88A5-DC5CBF66F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D2DA701-E00F-4B41-A858-9B25CAC3B3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EFD2-EAC0-4269-8784-31D26DF3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0A0285E-4FD5-4C71-8B50-E26200CD3E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DBDDB93-2A18-4429-8CFF-3E10DFAE97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78A43D-516D-480C-A3AC-67559D2AC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7BCF34-FF2D-47D8-AB41-407E813F91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8B6724F-C3E3-4DE8-BB64-DD7B46841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9940D8B-0A78-436F-9456-FD5BCA41A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542BC80-1549-4374-9FD1-76415ACF9E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C7D7F0-EC7F-4439-AB01-F3A8B94A8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DAE692-5C0E-4C43-AEC8-00FA0C8EEC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5AEFBA-5898-49E7-A34F-6A46A0542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1D50-4BAD-4585-B53A-404A71E7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378F0A6-38E5-49FE-A1F9-A21F8BF29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44C7F9E-B98C-4B95-AE7D-09D50AA69B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A7B1F8D-9525-46AC-B2BD-0283896B85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2FE819C-EE1D-4893-8034-4BF03ACA00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90FC5B-2A9B-48CF-A1CB-8C8641FD1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5F12EA7-BE73-4A18-9C45-EA15552B2E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472FBC-3338-4957-BF41-AC18268D51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0D55750-95A2-44DE-8822-BC82070AA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9FD7A1-9DD0-4FB7-84E2-259461E1B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6A7D4E-9965-4A91-B9BB-2A3A26D79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B134-9219-472D-993C-74F1D08D6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E1BEE4-B477-401C-9AFF-79930E626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4651DC-8E77-493C-81AA-CF91A80B4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FFCE97-091F-4179-BD20-7FF1DFCDCA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EB7A004-5701-4C44-89EE-4140740661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EF21C2D-A11C-4EC9-AE74-89E15BA16B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B1F3-F91A-4247-88A6-F0B6C00FD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B66C-5108-4BEE-9738-86E79A245C9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3DAE-E1A0-44A5-9FCA-5FAB4337B26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F4A3-E770-4627-9F13-A0D7D469CB7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476A-44B7-48CD-A69D-606A7179819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5F0B-24C5-4D05-84E2-3636AFB67A1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8DA3-F529-4088-A921-5D2CC581A19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C85F-95B8-45CC-AD32-9095FA86DDD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4000" y="1142640"/>
            <a:ext cx="7848360" cy="2228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a:t>
            </a:r>
            <a:r>
              <a:rPr b="1" lang="fa-IR" sz="2800" spc="-1" strike="noStrike">
                <a:solidFill>
                  <a:srgbClr val="b32c16"/>
                </a:solidFill>
                <a:latin typeface="Century Schoolbook"/>
                <a:ea typeface="Arial"/>
              </a:rPr>
              <a:t>1</a:t>
            </a:r>
            <a:r>
              <a:rPr b="1" lang="fa-IR" sz="2800" spc="-1" strike="noStrike">
                <a:solidFill>
                  <a:srgbClr val="b32c16"/>
                </a:solidFill>
                <a:latin typeface="Century Schoolbook"/>
                <a:ea typeface="Arial"/>
              </a:rPr>
              <a:t>. دهان، بزاق و اعمال آن</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cs typeface="Arial"/>
              </a:rPr>
              <a:t>انتظار می رود، پس از مطالعه این گفتار، بتوانید نقش بزاق را در عمل گوارش مشخص کنید.</a:t>
            </a:r>
            <a:endParaRPr b="0" lang="en-US" sz="2800" spc="-1" strike="noStrike">
              <a:solidFill>
                <a:srgbClr val="000000"/>
              </a:solidFill>
              <a:latin typeface="Century Schoolbook"/>
            </a:endParaRPr>
          </a:p>
        </p:txBody>
      </p:sp>
      <p:sp>
        <p:nvSpPr>
          <p:cNvPr id="377" name="Rectangle 5"/>
          <p:cNvSpPr/>
          <p:nvPr/>
        </p:nvSpPr>
        <p:spPr>
          <a:xfrm>
            <a:off x="142920" y="4076640"/>
            <a:ext cx="8501040" cy="1618560"/>
          </a:xfrm>
          <a:prstGeom prst="rect">
            <a:avLst/>
          </a:prstGeom>
          <a:solidFill>
            <a:srgbClr val="ffff00"/>
          </a:solidFill>
          <a:ln cap="sq" w="12600">
            <a:solidFill>
              <a:srgbClr val="fff39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Times New Roman"/>
              </a:rPr>
              <a:t>بزاق را غدد بزاقی تولید می کنند. غدد اصلی بزاقی عبارت اند از: </a:t>
            </a:r>
            <a:r>
              <a:rPr b="0" lang="fa-IR" sz="2000" spc="-1" strike="noStrike">
                <a:solidFill>
                  <a:srgbClr val="ff3300"/>
                </a:solidFill>
                <a:latin typeface="Times New Roman"/>
              </a:rPr>
              <a:t>غدد بناگوشی یا</a:t>
            </a:r>
            <a:r>
              <a:rPr b="0" lang="fa-IR" sz="2000" spc="-1" strike="noStrike">
                <a:solidFill>
                  <a:srgbClr val="000066"/>
                </a:solidFill>
                <a:latin typeface="Times New Roman"/>
              </a:rPr>
              <a:t> </a:t>
            </a:r>
            <a:r>
              <a:rPr b="0" lang="fa-IR" sz="2000" spc="-1" strike="noStrike">
                <a:solidFill>
                  <a:srgbClr val="ff3300"/>
                </a:solidFill>
                <a:latin typeface="Times New Roman"/>
              </a:rPr>
              <a:t>پاروتید</a:t>
            </a:r>
            <a:r>
              <a:rPr b="0" lang="fa-IR" sz="2000" spc="-1" strike="noStrike">
                <a:solidFill>
                  <a:srgbClr val="000066"/>
                </a:solidFill>
                <a:latin typeface="Times New Roman"/>
              </a:rPr>
              <a:t>؛ </a:t>
            </a:r>
            <a:r>
              <a:rPr b="0" lang="fa-IR" sz="2000" spc="-1" strike="noStrike">
                <a:solidFill>
                  <a:srgbClr val="ff3300"/>
                </a:solidFill>
                <a:latin typeface="Times New Roman"/>
              </a:rPr>
              <a:t>غدد زیر فکی</a:t>
            </a:r>
            <a:r>
              <a:rPr b="0" lang="fa-IR" sz="2000" spc="-1" strike="noStrike">
                <a:solidFill>
                  <a:srgbClr val="000066"/>
                </a:solidFill>
                <a:latin typeface="Times New Roman"/>
              </a:rPr>
              <a:t>؛ و </a:t>
            </a:r>
            <a:r>
              <a:rPr b="0" lang="fa-IR" sz="2000" spc="-1" strike="noStrike">
                <a:solidFill>
                  <a:srgbClr val="ff3300"/>
                </a:solidFill>
                <a:latin typeface="Times New Roman"/>
              </a:rPr>
              <a:t>غدد زیر زبانی</a:t>
            </a:r>
            <a:r>
              <a:rPr b="0" lang="fa-IR" sz="2000" spc="-1" strike="noStrike">
                <a:solidFill>
                  <a:srgbClr val="000066"/>
                </a:solidFill>
                <a:latin typeface="Times New Roman"/>
              </a:rPr>
              <a:t>. ترشح روزانه بزاق، به طور طبیعی بین </a:t>
            </a:r>
            <a:r>
              <a:rPr b="0" lang="fa-IR" sz="2000" spc="-1" strike="noStrike">
                <a:solidFill>
                  <a:srgbClr val="000066"/>
                </a:solidFill>
                <a:latin typeface="Times New Roman"/>
              </a:rPr>
              <a:t>1000</a:t>
            </a:r>
            <a:r>
              <a:rPr b="0" lang="fa-IR" sz="2000" spc="-1" strike="noStrike">
                <a:solidFill>
                  <a:srgbClr val="000066"/>
                </a:solidFill>
                <a:latin typeface="Times New Roman"/>
              </a:rPr>
              <a:t> تا </a:t>
            </a:r>
            <a:r>
              <a:rPr b="0" lang="fa-IR" sz="2000" spc="-1" strike="noStrike">
                <a:solidFill>
                  <a:srgbClr val="000066"/>
                </a:solidFill>
                <a:latin typeface="Times New Roman"/>
              </a:rPr>
              <a:t>1500</a:t>
            </a:r>
            <a:r>
              <a:rPr b="0" lang="fa-IR" sz="2000" spc="-1" strike="noStrike">
                <a:solidFill>
                  <a:srgbClr val="000066"/>
                </a:solidFill>
                <a:latin typeface="Times New Roman"/>
              </a:rPr>
              <a:t> میلی لیتر است. بزاق در پاسخ به فکر کردن، چشیدن یا بوییدن غذا ترشح می شود. عمل تولید آن از راه سیستم عصبی پاراسمپاتیک انجام می گیرد. ترشح بزاق به هضم مواد  نشاسته ای و لغزنده سازی مواد غذایی کمک می کند.</a:t>
            </a:r>
            <a:endParaRPr b="0" lang="en-US" sz="20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000" y="928440"/>
            <a:ext cx="784836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مری</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غذا در دهان به صورت گلوله غذایی درآمده و سپس بلعیده می شود. گلوله غذایی از بالا به پایین مری، از طریق حرکات دودی شکل ناشی از عمل عصب واگ، به پیش می رود. به همین دلیل، می توان مایعات و غذاهای جامد را هنگام دراز کشیدن و حتی طی بالانس زدن روی دستها بلعید. در جریان عمل بلع، تنفس متوقف، و حنجره (گلوت) بسته می شود. اپیگلوت به عقب تا می خورد و غذا به طرف مری هدایت می شود. عمل اصلی ترشحات مری لغزنده سازی مری برای حرکت راحت تر مواد غذایی به سوی معده است.</a:t>
            </a:r>
            <a:endParaRPr b="0" lang="en-US" sz="24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630-150x150"/>
          <p:cNvPicPr/>
          <p:nvPr/>
        </p:nvPicPr>
        <p:blipFill>
          <a:blip r:embed="rId1"/>
          <a:stretch/>
        </p:blipFill>
        <p:spPr>
          <a:xfrm>
            <a:off x="4572000" y="857160"/>
            <a:ext cx="4141800" cy="5429520"/>
          </a:xfrm>
          <a:prstGeom prst="rect">
            <a:avLst/>
          </a:prstGeom>
          <a:ln w="9360">
            <a:solidFill>
              <a:srgbClr val="fff39d"/>
            </a:solidFill>
            <a:miter/>
          </a:ln>
        </p:spPr>
      </p:pic>
      <p:pic>
        <p:nvPicPr>
          <p:cNvPr id="380" name="Picture 5" descr="625-150x150"/>
          <p:cNvPicPr/>
          <p:nvPr/>
        </p:nvPicPr>
        <p:blipFill>
          <a:blip r:embed="rId2"/>
          <a:stretch/>
        </p:blipFill>
        <p:spPr>
          <a:xfrm>
            <a:off x="142920" y="857160"/>
            <a:ext cx="4502160" cy="5429520"/>
          </a:xfrm>
          <a:prstGeom prst="rect">
            <a:avLst/>
          </a:prstGeom>
          <a:ln w="9360">
            <a:solidFill>
              <a:srgbClr val="fff39d"/>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9280" y="1699920"/>
            <a:ext cx="7993080" cy="43210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اعمال، حرکات و مواد ترشح شده در معده</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معده محل تجمع، آمیخته شدن و هضم غذاست. به تدریج که موج دودی مری به سوی معده حرکت می کند، یک موج شل کننده در جلوی آن ایجاد می شود. وقتی این موج به انتهای تحتانی مری می رسد، تمام معده و حتی دوازدهه شل می شوند.</a:t>
            </a:r>
            <a:endParaRPr b="0" lang="en-US" sz="2400" spc="-1" strike="noStrike">
              <a:solidFill>
                <a:srgbClr val="000000"/>
              </a:solidFill>
              <a:latin typeface="Century Schoolbook"/>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4000" y="1071360"/>
            <a:ext cx="7848360" cy="4105080"/>
          </a:xfrm>
          <a:prstGeom prst="rect">
            <a:avLst/>
          </a:prstGeom>
          <a:noFill/>
          <a:ln w="0">
            <a:noFill/>
          </a:ln>
        </p:spPr>
        <p:txBody>
          <a:bodyPr anchor="t">
            <a:normAutofit fontScale="84000"/>
          </a:bodyPr>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ده دارای سه وظیفه مهم است:</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الف) انبار کردن مقادیر زیاد غذا؛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 آمیختن غذا با ترشحات معده ای و تشکیل ماده نیمه مایعی به نام کیموس،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ج) تخلیه غذا از معده به داخل روده کوچک با سرعت مناسب برای هضم و جذب آن به وسیله روده کوچک. این عمل </a:t>
            </a: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4</a:t>
            </a:r>
            <a:r>
              <a:rPr b="0" lang="fa-IR" sz="2400" spc="-1" strike="noStrike">
                <a:solidFill>
                  <a:srgbClr val="000066"/>
                </a:solidFill>
                <a:latin typeface="Century Schoolbook"/>
                <a:ea typeface="Arial"/>
              </a:rPr>
              <a:t> ساعت طول می کشد. غذای چرب باعث آزاد شدن هورمون </a:t>
            </a:r>
            <a:r>
              <a:rPr b="0" lang="fa-IR" sz="2400" spc="-1" strike="noStrike">
                <a:solidFill>
                  <a:srgbClr val="ff3300"/>
                </a:solidFill>
                <a:latin typeface="Century Schoolbook"/>
                <a:cs typeface="Arial"/>
              </a:rPr>
              <a:t>آنتروگاسترون</a:t>
            </a:r>
            <a:r>
              <a:rPr b="0" lang="fa-IR" sz="2400" spc="-1" strike="noStrike">
                <a:solidFill>
                  <a:srgbClr val="000066"/>
                </a:solidFill>
                <a:latin typeface="Century Schoolbook"/>
                <a:ea typeface="Arial"/>
              </a:rPr>
              <a:t> می شود که تخلیه معده را کند می کند.</a:t>
            </a:r>
            <a:endParaRPr b="0" lang="en-US" sz="2400" spc="-1" strike="noStrike">
              <a:solidFill>
                <a:srgbClr val="000000"/>
              </a:solidFill>
              <a:latin typeface="Century Schoolbook"/>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1477-150x150"/>
          <p:cNvPicPr/>
          <p:nvPr/>
        </p:nvPicPr>
        <p:blipFill>
          <a:blip r:embed="rId1"/>
          <a:stretch/>
        </p:blipFill>
        <p:spPr>
          <a:xfrm>
            <a:off x="5884920" y="1500120"/>
            <a:ext cx="3259080" cy="5229360"/>
          </a:xfrm>
          <a:prstGeom prst="rect">
            <a:avLst/>
          </a:prstGeom>
          <a:ln w="9360">
            <a:solidFill>
              <a:srgbClr val="fff39d"/>
            </a:solidFill>
            <a:miter/>
          </a:ln>
        </p:spPr>
      </p:pic>
      <p:pic>
        <p:nvPicPr>
          <p:cNvPr id="384" name="Picture 5" descr="520-150x150"/>
          <p:cNvPicPr/>
          <p:nvPr/>
        </p:nvPicPr>
        <p:blipFill>
          <a:blip r:embed="rId2"/>
          <a:stretch/>
        </p:blipFill>
        <p:spPr>
          <a:xfrm>
            <a:off x="3219480" y="1514520"/>
            <a:ext cx="3025800" cy="5214960"/>
          </a:xfrm>
          <a:prstGeom prst="rect">
            <a:avLst/>
          </a:prstGeom>
          <a:ln w="9360">
            <a:solidFill>
              <a:srgbClr val="fff39d"/>
            </a:solidFill>
            <a:miter/>
          </a:ln>
        </p:spPr>
      </p:pic>
      <p:pic>
        <p:nvPicPr>
          <p:cNvPr id="385" name="Picture 6" descr="7329-150x150"/>
          <p:cNvPicPr/>
          <p:nvPr/>
        </p:nvPicPr>
        <p:blipFill>
          <a:blip r:embed="rId3"/>
          <a:stretch/>
        </p:blipFill>
        <p:spPr>
          <a:xfrm>
            <a:off x="0" y="1500120"/>
            <a:ext cx="3494160" cy="5229360"/>
          </a:xfrm>
          <a:prstGeom prst="rect">
            <a:avLst/>
          </a:prstGeom>
          <a:ln w="9360">
            <a:solidFill>
              <a:srgbClr val="fff39d"/>
            </a:solidFill>
            <a:miter/>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28400" y="1214280"/>
            <a:ext cx="7993080" cy="4321440"/>
          </a:xfrm>
          <a:prstGeom prst="rect">
            <a:avLst/>
          </a:prstGeom>
          <a:noFill/>
          <a:ln w="0">
            <a:noFill/>
          </a:ln>
        </p:spPr>
        <p:txBody>
          <a:bodyPr anchor="t">
            <a:normAutofit fontScale="97000"/>
          </a:bodyPr>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واد مترشحه معده :</a:t>
            </a:r>
            <a:endParaRPr b="0" lang="en-US" sz="2400" spc="-1" strike="noStrike">
              <a:solidFill>
                <a:srgbClr val="000000"/>
              </a:solidFill>
              <a:latin typeface="Century Schoolbook"/>
            </a:endParaRPr>
          </a:p>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علاوه بر ترشح مایع لغزنده ساز، غدد معده </a:t>
            </a:r>
            <a:r>
              <a:rPr b="0" lang="fa-IR" sz="2400" spc="-1" strike="noStrike">
                <a:solidFill>
                  <a:srgbClr val="ff3300"/>
                </a:solidFill>
                <a:latin typeface="Century Schoolbook"/>
                <a:cs typeface="Arial"/>
              </a:rPr>
              <a:t>اسید کلریدریک</a:t>
            </a:r>
            <a:r>
              <a:rPr b="0" lang="fa-IR" sz="2400" spc="-1" strike="noStrike">
                <a:solidFill>
                  <a:srgbClr val="000066"/>
                </a:solidFill>
                <a:latin typeface="Century Schoolbook"/>
                <a:cs typeface="Arial"/>
              </a:rPr>
              <a:t>،</a:t>
            </a:r>
            <a:r>
              <a:rPr b="0" lang="fa-IR" sz="2400" spc="-1" strike="noStrike">
                <a:solidFill>
                  <a:srgbClr val="ff3300"/>
                </a:solidFill>
                <a:latin typeface="Century Schoolbook"/>
                <a:ea typeface="Arial"/>
              </a:rPr>
              <a:t> پپسینوژن</a:t>
            </a:r>
            <a:r>
              <a:rPr b="0" lang="fa-IR" sz="2400" spc="-1" strike="noStrike">
                <a:solidFill>
                  <a:srgbClr val="000066"/>
                </a:solidFill>
                <a:latin typeface="Century Schoolbook"/>
                <a:ea typeface="Arial"/>
              </a:rPr>
              <a:t> و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ea typeface="Arial"/>
              </a:rPr>
              <a:t> نیز ترشح می کنند که به هضم پروتئینها کمک می کنند.</a:t>
            </a:r>
            <a:r>
              <a:rPr b="0" lang="en-US" sz="2400" spc="-1" strike="noStrike">
                <a:solidFill>
                  <a:srgbClr val="000066"/>
                </a:solidFill>
                <a:latin typeface="Century Schoolbook"/>
                <a:ea typeface="Arial"/>
              </a:rPr>
              <a:t>pH</a:t>
            </a:r>
            <a:r>
              <a:rPr b="0" lang="fa-IR" sz="2400" spc="-1" strike="noStrike">
                <a:solidFill>
                  <a:srgbClr val="000066"/>
                </a:solidFill>
                <a:latin typeface="Century Schoolbook"/>
                <a:ea typeface="Arial"/>
              </a:rPr>
              <a:t> اسید کلریدریک، </a:t>
            </a:r>
            <a:r>
              <a:rPr b="0" lang="fa-IR" sz="2400" spc="-1" strike="noStrike">
                <a:solidFill>
                  <a:srgbClr val="000066"/>
                </a:solidFill>
                <a:latin typeface="Century Schoolbook"/>
                <a:ea typeface="Arial"/>
              </a:rPr>
              <a:t>8</a:t>
            </a:r>
            <a:r>
              <a:rPr b="0" lang="fa-IR" sz="2400" spc="-1" strike="noStrike">
                <a:solidFill>
                  <a:srgbClr val="000066"/>
                </a:solidFill>
                <a:latin typeface="Century Schoolbook"/>
                <a:cs typeface="Arial"/>
              </a:rPr>
              <a:t>ر</a:t>
            </a:r>
            <a:r>
              <a:rPr b="0" lang="fa-IR" sz="2400" spc="-1" strike="noStrike">
                <a:solidFill>
                  <a:srgbClr val="000066"/>
                </a:solidFill>
                <a:latin typeface="Century Schoolbook"/>
                <a:ea typeface="Arial"/>
              </a:rPr>
              <a:t>0</a:t>
            </a:r>
            <a:r>
              <a:rPr b="0" lang="fa-IR" sz="2400" spc="-1" strike="noStrike">
                <a:solidFill>
                  <a:srgbClr val="000066"/>
                </a:solidFill>
                <a:latin typeface="Century Schoolbook"/>
                <a:ea typeface="Arial"/>
              </a:rPr>
              <a:t> می باشد که فوق العاده اسیدی است.</a:t>
            </a:r>
            <a:r>
              <a:rPr b="0"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7120" y="1142640"/>
            <a:ext cx="817560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لوزالمعده (پانکراس)</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لوزالمعده یا پانکراس که موازی معده و در زیر آن قرار دارد، غده مرکب بسیار بزرگی که  ساختاری تقریباً مشابه غدد بزاقی است. لوزالمعده هم غده ای برون ریز و هم غده ای درون ریز است. عمل ترشحی خارجی لوزالمعده تولید شیره لوزالمعدی است که همراه با صفرا به دوازدهه و ارد می شود. عمل ترشحی داخلی آن عبارت است از: تولید هورمونهای انسولین و گلوکاگون.</a:t>
            </a:r>
            <a:endParaRPr b="0" lang="en-US" sz="24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Anim4"/>
          <p:cNvPicPr/>
          <p:nvPr/>
        </p:nvPicPr>
        <p:blipFill>
          <a:blip r:embed="rId1"/>
          <a:stretch/>
        </p:blipFill>
        <p:spPr>
          <a:xfrm>
            <a:off x="142920" y="0"/>
            <a:ext cx="8643960" cy="68580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7120" y="1285920"/>
            <a:ext cx="8072640" cy="3943440"/>
          </a:xfrm>
          <a:prstGeom prst="rect">
            <a:avLst/>
          </a:prstGeom>
          <a:noFill/>
          <a:ln w="0">
            <a:noFill/>
          </a:ln>
        </p:spPr>
        <p:txBody>
          <a:bodyPr anchor="t">
            <a:normAutofit/>
          </a:bodyPr>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یره لوزالمعده حاوی آنزیم هایی برای هضم سه نوع مواد غذایی اصلی، یعنی پروتئینها، کربوهیدراتها و چربیهاست.</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آنزیمهای هضم کننده پروتئینها (پروتئولیتیک) عبارت اند از:</a:t>
            </a:r>
            <a:r>
              <a:rPr b="0" lang="fa-IR" sz="1800" spc="-1" strike="noStrike">
                <a:solidFill>
                  <a:srgbClr val="ff0000"/>
                </a:solidFill>
                <a:latin typeface="Century Schoolbook"/>
                <a:ea typeface="Arial"/>
              </a:rPr>
              <a:t> </a:t>
            </a:r>
            <a:endParaRPr b="0" lang="en-US" sz="1800" spc="-1" strike="noStrike">
              <a:solidFill>
                <a:srgbClr val="000000"/>
              </a:solidFill>
              <a:latin typeface="Century Schoolbook"/>
            </a:endParaRPr>
          </a:p>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ریپسین، کیموترپیسین، کربوکسی پلی پپتیداز، ریبونوکلئاز و دی اکسی ریبونوکلئاز. آنزیم هضمی برای کربوهیدراتها آمیلاز لوزالمعدی است که مواد نشاسته ای، گلیکوژن و قسمت اعظم کربوهیدراتهای دیگر را به جز سلولز، هیدرولیز و به دی ساکاریدها (قندهای ساده تر) تبدیل می کند.</a:t>
            </a:r>
            <a:r>
              <a:rPr b="0" lang="fa-I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4778-0550x0350"/>
          <p:cNvPicPr/>
          <p:nvPr/>
        </p:nvPicPr>
        <p:blipFill>
          <a:blip r:embed="rId1"/>
          <a:stretch/>
        </p:blipFill>
        <p:spPr>
          <a:xfrm>
            <a:off x="71280" y="71280"/>
            <a:ext cx="4854600" cy="6643800"/>
          </a:xfrm>
          <a:prstGeom prst="rect">
            <a:avLst/>
          </a:prstGeom>
          <a:ln w="9360">
            <a:solidFill>
              <a:srgbClr val="fff39d"/>
            </a:solidFill>
            <a:miter/>
          </a:ln>
        </p:spPr>
      </p:pic>
      <p:sp>
        <p:nvSpPr>
          <p:cNvPr id="360" name="PlaceHolder 1"/>
          <p:cNvSpPr>
            <a:spLocks noGrp="1"/>
          </p:cNvSpPr>
          <p:nvPr>
            <p:ph type="title"/>
          </p:nvPr>
        </p:nvSpPr>
        <p:spPr>
          <a:xfrm>
            <a:off x="4928760" y="1500120"/>
            <a:ext cx="3746520" cy="1000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بخش دوم</a:t>
            </a:r>
            <a:r>
              <a:rPr b="1" lang="fa-IR" sz="3600" spc="-1" strike="noStrike">
                <a:solidFill>
                  <a:srgbClr val="b32c16"/>
                </a:solidFill>
                <a:latin typeface="Century Schoolbook"/>
                <a:ea typeface="Arial"/>
              </a:rPr>
              <a:t>:</a:t>
            </a:r>
            <a:br>
              <a:rPr sz="3600"/>
            </a:br>
            <a:endParaRPr b="0" lang="en-US" sz="3600" spc="-1" strike="noStrike">
              <a:solidFill>
                <a:srgbClr val="575f6d"/>
              </a:solidFill>
              <a:latin typeface="Century Schoolbook"/>
            </a:endParaRPr>
          </a:p>
        </p:txBody>
      </p:sp>
      <p:sp>
        <p:nvSpPr>
          <p:cNvPr id="361" name="TextBox 4"/>
          <p:cNvSpPr/>
          <p:nvPr/>
        </p:nvSpPr>
        <p:spPr>
          <a:xfrm>
            <a:off x="5214960" y="2857680"/>
            <a:ext cx="33577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لوله گوارش و اعمال ترشحی آن</a:t>
            </a:r>
            <a:endParaRPr b="0" lang="en-US" sz="36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6760" y="1699920"/>
            <a:ext cx="7991640" cy="2871720"/>
          </a:xfrm>
          <a:prstGeom prst="rect">
            <a:avLst/>
          </a:prstGeom>
          <a:noFill/>
          <a:ln w="0">
            <a:noFill/>
          </a:ln>
        </p:spPr>
        <p:txBody>
          <a:bodyPr anchor="t">
            <a:normAutofit/>
          </a:bodyPr>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آنزیمهای هضم کننده چربیها عبارت اند از:</a:t>
            </a:r>
            <a:endParaRPr b="0" lang="en-US" sz="2400" spc="-1" strike="noStrike">
              <a:solidFill>
                <a:srgbClr val="000000"/>
              </a:solidFill>
              <a:latin typeface="Century Schoolbook"/>
            </a:endParaRPr>
          </a:p>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لیپاز لوزالمعدی که چربیهای خنثی را به گلیسرول و اسیدهای چربی هیدرولیز می کند و کلسترول استراز که به هیدرولیز استرهای کلسترول می انجامد.</a:t>
            </a:r>
            <a:endParaRPr b="0" lang="en-US" sz="2400" spc="-1" strike="noStrike">
              <a:solidFill>
                <a:srgbClr val="000000"/>
              </a:solidFill>
              <a:latin typeface="Century Schoolbook"/>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760" y="999720"/>
            <a:ext cx="820908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کبد ـ صفرا</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کبد به طور مداوم صفرا ترشح می کند که در کیسه صفرا ذخیره و تغلیظ می شود. این مقدار به </a:t>
            </a:r>
            <a:r>
              <a:rPr b="0" lang="fa-IR" sz="2400" spc="-1" strike="noStrike">
                <a:solidFill>
                  <a:srgbClr val="000066"/>
                </a:solidFill>
                <a:latin typeface="Century Schoolbook"/>
                <a:ea typeface="Arial"/>
              </a:rPr>
              <a:t>600</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1000</a:t>
            </a:r>
            <a:r>
              <a:rPr b="0" lang="fa-IR" sz="2400" spc="-1" strike="noStrike">
                <a:solidFill>
                  <a:srgbClr val="000066"/>
                </a:solidFill>
                <a:latin typeface="Century Schoolbook"/>
                <a:ea typeface="Arial"/>
              </a:rPr>
              <a:t> میلی لیتر در روز می رسد. صفرا فقط هنگامی وارد روده می شود که محرکی اختصاصی کیسه صفرا را منقبض کند. این محرک به طور کلی، بر اثر وجود چربی در روده باریک (دوازدهه) به این صورت ایجاد می شود که وقتی فراورده های هضم چربیها و پروتئینها به روده باریک وارد می شوند، هورمونی به نام </a:t>
            </a:r>
            <a:r>
              <a:rPr b="0" lang="fa-IR" sz="2400" spc="-1" strike="noStrike">
                <a:solidFill>
                  <a:srgbClr val="ff3300"/>
                </a:solidFill>
                <a:latin typeface="Century Schoolbook"/>
                <a:cs typeface="Arial"/>
              </a:rPr>
              <a:t>کولسیستوکینین </a:t>
            </a:r>
            <a:r>
              <a:rPr b="0" lang="fa-IR" sz="2400" spc="-1" strike="noStrike">
                <a:solidFill>
                  <a:srgbClr val="000066"/>
                </a:solidFill>
                <a:latin typeface="Century Schoolbook"/>
                <a:cs typeface="Arial"/>
              </a:rPr>
              <a:t>از مخاط روده آزاد می شود. این هورمون از راه خون به کیسه صفرا می رسد و به انقباض ریتمیک آن می انجامد و همراه با امواج دودی روده کوچک، به تخلیه کیسه صفرا منجر می شود. کیسه صفرا بر اثر تحریک عصب واگ نیز منقبض می شود</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760" y="1699920"/>
            <a:ext cx="7991280" cy="4321080"/>
          </a:xfrm>
          <a:prstGeom prst="rect">
            <a:avLst/>
          </a:prstGeom>
          <a:noFill/>
          <a:ln w="0">
            <a:noFill/>
          </a:ln>
        </p:spPr>
        <p:txBody>
          <a:bodyPr anchor="t">
            <a:normAutofit/>
          </a:bodyPr>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صفرا هیچ نوع آنزیم گوارشی ندارد و فقط به اعتبار وجود املاح صفراوی برای هضم اهمیت دارد. اولاً، املاح صفراوی به </a:t>
            </a:r>
            <a:r>
              <a:rPr b="0" lang="fa-IR" sz="2400" spc="-1" strike="noStrike">
                <a:solidFill>
                  <a:srgbClr val="ff3300"/>
                </a:solidFill>
                <a:latin typeface="Century Schoolbook"/>
                <a:cs typeface="Arial"/>
              </a:rPr>
              <a:t>امولسیونی </a:t>
            </a:r>
            <a:r>
              <a:rPr b="0" lang="fa-IR" sz="2400" spc="-1" strike="noStrike">
                <a:solidFill>
                  <a:srgbClr val="000066"/>
                </a:solidFill>
                <a:latin typeface="Century Schoolbook"/>
                <a:cs typeface="Arial"/>
              </a:rPr>
              <a:t>کردن (مخلوط مایع شکل) چربیها کمک  می کند تا بتوانند به کمک لیپازهای روده هضم شوند، و ثانیاً، فرآورده های نهایی هضم چربیها را به پرزهای روده ای حمل می کنند تا به راحتی جذب خون شوند.</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4" descr="pancreas"/>
          <p:cNvPicPr/>
          <p:nvPr/>
        </p:nvPicPr>
        <p:blipFill>
          <a:blip r:embed="rId1"/>
          <a:stretch/>
        </p:blipFill>
        <p:spPr>
          <a:xfrm>
            <a:off x="1000080" y="214200"/>
            <a:ext cx="6807240" cy="645012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gall%20bladder"/>
          <p:cNvPicPr/>
          <p:nvPr/>
        </p:nvPicPr>
        <p:blipFill>
          <a:blip r:embed="rId1"/>
          <a:stretch/>
        </p:blipFill>
        <p:spPr>
          <a:xfrm>
            <a:off x="142920" y="0"/>
            <a:ext cx="8572320" cy="685800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4" descr="pancreas"/>
          <p:cNvPicPr/>
          <p:nvPr/>
        </p:nvPicPr>
        <p:blipFill>
          <a:blip r:embed="rId1"/>
          <a:stretch/>
        </p:blipFill>
        <p:spPr>
          <a:xfrm>
            <a:off x="142920" y="785880"/>
            <a:ext cx="8572320" cy="594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00040" y="928440"/>
            <a:ext cx="784872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روده باریک و جذب روده ای</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ا باز شدن </a:t>
            </a:r>
            <a:r>
              <a:rPr b="0" lang="fa-IR" sz="2400" spc="-1" strike="noStrike">
                <a:solidFill>
                  <a:srgbClr val="ff3300"/>
                </a:solidFill>
                <a:latin typeface="Century Schoolbook"/>
                <a:cs typeface="Arial"/>
              </a:rPr>
              <a:t>دریچه پیلور</a:t>
            </a:r>
            <a:r>
              <a:rPr b="0" lang="fa-IR" sz="2400" spc="-1" strike="noStrike">
                <a:solidFill>
                  <a:srgbClr val="000066"/>
                </a:solidFill>
                <a:latin typeface="Century Schoolbook"/>
                <a:ea typeface="Arial"/>
              </a:rPr>
              <a:t> معده، غذا به روده باریک وارد می شود. میزان اتساع معدی به وسیله غذا و وجود هورمون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cs typeface="Arial"/>
              </a:rPr>
              <a:t>، به تخلیه معده می انجامد. افزایش اسیدیته کیموس دوازدهه، فرآورده های تجزیه ای حاصل از هضم پروتئینها، غلیظ یا رقیق بودن مایعات و وجود اسیدهای چرب در دوازدهه (روده باریک)، از جمله عواملی اند که ورود غذا را از معده به روده تنظیم و تضعیف می کنند.</a:t>
            </a:r>
            <a:endParaRPr b="0" lang="en-US" sz="24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28760" y="999720"/>
            <a:ext cx="7991280" cy="4321080"/>
          </a:xfrm>
          <a:prstGeom prst="rect">
            <a:avLst/>
          </a:prstGeom>
          <a:noFill/>
          <a:ln w="0">
            <a:noFill/>
          </a:ln>
        </p:spPr>
        <p:txBody>
          <a:bodyPr anchor="t">
            <a:normAutofit fontScale="93000"/>
          </a:bodyPr>
          <a:p>
            <a:pPr marL="253440" indent="-253440" algn="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با ورود تدریجی غذا به روده، قسمت ابتدایی روده اتساع می یابد و حرکتی موجی، به نام موج دودی، در سرتا سر روده ایجاد می کند که غذا را به جلو می راند.</a:t>
            </a:r>
            <a:endParaRPr b="0" lang="en-US" sz="2000" spc="-1" strike="noStrike">
              <a:solidFill>
                <a:srgbClr val="000000"/>
              </a:solidFill>
              <a:latin typeface="Century Schoolbook"/>
            </a:endParaRPr>
          </a:p>
          <a:p>
            <a:pPr marL="253440" indent="-25344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ترشح شیره های گوارشی در روده باریک ناشی از وجود غذا در آن است. روده باریک آنزیمهای مالتاز، سوکراز و لاکتاز را برای تبدیل دی  ساکاریدها به منو ساکارید (قندهای ساده) ترشح می کند.</a:t>
            </a:r>
            <a:endParaRPr b="0" lang="en-US" sz="2000" spc="-1" strike="noStrike">
              <a:solidFill>
                <a:srgbClr val="000000"/>
              </a:solidFill>
              <a:latin typeface="Century Schoolbook"/>
            </a:endParaRPr>
          </a:p>
          <a:p>
            <a:pPr marL="253440" indent="-25344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روده باریک چندین پپتیداز برای تجزیه کامل پروتئینها به اسیدهای آمینه تولید می کند. همچنین، لیپاز روده ای برای تجزیه چربیهای خنثی به گلیسرول و اسیدهای چرب از روده باریک ترشح می شو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71680" y="714240"/>
            <a:ext cx="7991280" cy="4500720"/>
          </a:xfrm>
          <a:prstGeom prst="rect">
            <a:avLst/>
          </a:prstGeom>
          <a:noFill/>
          <a:ln w="0">
            <a:noFill/>
          </a:ln>
        </p:spPr>
        <p:txBody>
          <a:bodyPr anchor="t">
            <a:normAutofit fontScale="94000"/>
          </a:bodyPr>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جذب روده ای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 </a:t>
            </a:r>
            <a:r>
              <a:rPr b="0" lang="fa-IR" sz="2400" spc="-1" strike="noStrike">
                <a:solidFill>
                  <a:srgbClr val="000066"/>
                </a:solidFill>
                <a:latin typeface="Century Schoolbook"/>
                <a:cs typeface="Arial"/>
              </a:rPr>
              <a:t>جذب غذا عمدتاً در روده باریک و به روشهای زیر انجام می گیرد: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1</a:t>
            </a:r>
            <a:r>
              <a:rPr b="0" lang="fa-IR" sz="2400" spc="-1" strike="noStrike">
                <a:solidFill>
                  <a:srgbClr val="000066"/>
                </a:solidFill>
                <a:latin typeface="Century Schoolbook"/>
                <a:ea typeface="Arial"/>
              </a:rPr>
              <a:t>. عمل انتشار (دیفوزیون) که طی آن مواد غذایی از ناحیه غلیظ داخل روده به ناحیه رقیق سلولهای روده ای و خون منتشر می شوند.</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جذب با انتقال فعال که به وسیله سلولهای روده ای انجام می گیرد. به این صورت که موادی مانند قندها از یک طرف سلولهای روده ای گرفته شده و در عرض سلولها حمل می شوند و در طرف دیگر به داخل مویرگهای خونی منتقل می شوند. این عمل از طریق ترکیبی شیمیایی به نام </a:t>
            </a:r>
            <a:r>
              <a:rPr b="0" lang="fa-IR" sz="2400" spc="-1" strike="noStrike">
                <a:solidFill>
                  <a:srgbClr val="ff3300"/>
                </a:solidFill>
                <a:latin typeface="Century Schoolbook"/>
                <a:cs typeface="Arial"/>
              </a:rPr>
              <a:t>ماده حامل</a:t>
            </a:r>
            <a:r>
              <a:rPr b="0" lang="fa-IR" sz="2400" spc="-1" strike="noStrike">
                <a:solidFill>
                  <a:srgbClr val="000066"/>
                </a:solidFill>
                <a:latin typeface="Century Schoolbook"/>
                <a:ea typeface="Arial"/>
              </a:rPr>
              <a:t> انجام می شود.</a:t>
            </a:r>
            <a:endParaRPr b="0" lang="en-US" sz="2400" spc="-1" strike="noStrike">
              <a:solidFill>
                <a:srgbClr val="000000"/>
              </a:solidFill>
              <a:latin typeface="Century Schoolbook"/>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81040" y="1699920"/>
            <a:ext cx="7848720" cy="4321080"/>
          </a:xfrm>
          <a:prstGeom prst="rect">
            <a:avLst/>
          </a:prstGeom>
          <a:noFill/>
          <a:ln w="28440">
            <a:solidFill>
              <a:srgbClr val="575f6d"/>
            </a:solidFill>
            <a:miter/>
          </a:ln>
        </p:spPr>
        <p:txBody>
          <a:bodyPr anchor="t">
            <a:normAutofit fontScale="98000"/>
          </a:bodyPr>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Arial"/>
              </a:rPr>
              <a:t>نسبت غذای جذب شده به غذای خورده شده را با ضریبی به نام ضریب هضم یا جذب یا ضریب گوارشی مشخص می سازند.</a:t>
            </a:r>
            <a:endParaRPr b="0" lang="en-US" sz="2800" spc="-1" strike="noStrike">
              <a:solidFill>
                <a:srgbClr val="000000"/>
              </a:solidFill>
              <a:latin typeface="Century Schoolbook"/>
            </a:endParaRPr>
          </a:p>
          <a:p>
            <a:pPr marL="267120" indent="-2671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غذای دفع شده در مدفوع ـ غذای خورده شده = ضریب هضم یا جذب   </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r>
              <a:rPr b="0" lang="fa-IR" sz="2400" spc="-1" strike="noStrike">
                <a:solidFill>
                  <a:srgbClr val="000066"/>
                </a:solidFill>
                <a:latin typeface="Century Schoolbook"/>
                <a:ea typeface="Arial"/>
              </a:rPr>
              <a:t>   </a:t>
            </a:r>
            <a:endParaRPr b="0" lang="en-US" sz="24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entury Schoolbook"/>
                <a:cs typeface="Arial"/>
              </a:rPr>
              <a:t>یا</a:t>
            </a:r>
            <a:endParaRPr b="0" lang="en-US" sz="2400" spc="-1" strike="noStrike">
              <a:solidFill>
                <a:srgbClr val="000000"/>
              </a:solidFill>
              <a:latin typeface="Century Schoolbook"/>
            </a:endParaRPr>
          </a:p>
          <a:p>
            <a:pPr marL="267120" indent="-26712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a:t>
            </a:r>
            <a:r>
              <a:rPr b="0" lang="fa-IR" sz="2000" spc="-1" strike="noStrike">
                <a:solidFill>
                  <a:srgbClr val="000066"/>
                </a:solidFill>
                <a:latin typeface="Century Schoolbook"/>
                <a:cs typeface="Arial"/>
              </a:rPr>
              <a:t>غذای جذب شده = ضریب هضم یا جذب</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endParaRPr b="0" lang="en-US" sz="2000" spc="-1" strike="noStrike">
              <a:solidFill>
                <a:srgbClr val="000000"/>
              </a:solidFill>
              <a:latin typeface="Century Schoolbook"/>
            </a:endParaRPr>
          </a:p>
        </p:txBody>
      </p:sp>
      <p:sp>
        <p:nvSpPr>
          <p:cNvPr id="400" name="Line 5"/>
          <p:cNvSpPr/>
          <p:nvPr/>
        </p:nvSpPr>
        <p:spPr>
          <a:xfrm>
            <a:off x="4643280" y="5300640"/>
            <a:ext cx="122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3851280" y="3429000"/>
            <a:ext cx="34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Rectangle 7"/>
          <p:cNvSpPr/>
          <p:nvPr/>
        </p:nvSpPr>
        <p:spPr>
          <a:xfrm>
            <a:off x="6012000" y="5089680"/>
            <a:ext cx="720720" cy="45972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3" name="Line 8"/>
          <p:cNvSpPr/>
          <p:nvPr/>
        </p:nvSpPr>
        <p:spPr>
          <a:xfrm>
            <a:off x="594036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flipH="1">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0"/>
          <p:cNvSpPr/>
          <p:nvPr/>
        </p:nvSpPr>
        <p:spPr>
          <a:xfrm>
            <a:off x="7609680" y="3140640"/>
            <a:ext cx="63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6" name="Line 11"/>
          <p:cNvSpPr/>
          <p:nvPr/>
        </p:nvSpPr>
        <p:spPr>
          <a:xfrm>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2"/>
          <p:cNvSpPr/>
          <p:nvPr/>
        </p:nvSpPr>
        <p:spPr>
          <a:xfrm flipH="1">
            <a:off x="594000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57120" y="213840"/>
            <a:ext cx="8104320" cy="731880"/>
          </a:xfrm>
          <a:prstGeom prst="rect">
            <a:avLst/>
          </a:prstGeom>
          <a:noFill/>
          <a:ln w="0">
            <a:noFill/>
          </a:ln>
        </p:spPr>
        <p:txBody>
          <a:bodyPr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فصل اول:</a:t>
            </a:r>
            <a:endParaRPr b="0" lang="en-US" sz="3600" spc="-1" strike="noStrike">
              <a:solidFill>
                <a:srgbClr val="000000"/>
              </a:solidFill>
              <a:latin typeface="Century Schoolbook"/>
            </a:endParaRPr>
          </a:p>
        </p:txBody>
      </p:sp>
      <p:pic>
        <p:nvPicPr>
          <p:cNvPr id="363" name="Picture 5" descr="pancreas-liversm"/>
          <p:cNvPicPr/>
          <p:nvPr/>
        </p:nvPicPr>
        <p:blipFill>
          <a:blip r:embed="rId1"/>
          <a:stretch/>
        </p:blipFill>
        <p:spPr>
          <a:xfrm>
            <a:off x="142920" y="1706400"/>
            <a:ext cx="8572320" cy="5151600"/>
          </a:xfrm>
          <a:prstGeom prst="rect">
            <a:avLst/>
          </a:prstGeom>
          <a:ln w="9360">
            <a:solidFill>
              <a:srgbClr val="fff39d"/>
            </a:solidFill>
            <a:miter/>
          </a:ln>
        </p:spPr>
      </p:pic>
      <p:sp>
        <p:nvSpPr>
          <p:cNvPr id="364" name="TextBox 5"/>
          <p:cNvSpPr/>
          <p:nvPr/>
        </p:nvSpPr>
        <p:spPr>
          <a:xfrm>
            <a:off x="-1780200" y="1000080"/>
            <a:ext cx="12442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گوارش غذاها، لوله گوارش، اعمال کلی آن و آنزیمهای گوارشی</a:t>
            </a:r>
            <a:endParaRPr b="0" lang="en-US" sz="32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84000" y="571320"/>
            <a:ext cx="7848360" cy="4321080"/>
          </a:xfrm>
          <a:prstGeom prst="rect">
            <a:avLst/>
          </a:prstGeom>
          <a:noFill/>
          <a:ln w="0">
            <a:noFill/>
          </a:ln>
        </p:spPr>
        <p:txBody>
          <a:bodyPr anchor="t">
            <a:normAutofit/>
          </a:bodyPr>
          <a:p>
            <a:pPr marL="27288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در افراد سالم ضریب جذب کربوهیدراتهای ساده در حدود </a:t>
            </a:r>
            <a:r>
              <a:rPr b="0" lang="fa-IR" sz="2400" spc="-1" strike="noStrike">
                <a:solidFill>
                  <a:srgbClr val="000066"/>
                </a:solidFill>
                <a:latin typeface="Century Schoolbook"/>
                <a:ea typeface="Arial"/>
              </a:rPr>
              <a:t>98</a:t>
            </a:r>
            <a:r>
              <a:rPr b="0" lang="fa-IR" sz="2400" spc="-1" strike="noStrike">
                <a:solidFill>
                  <a:srgbClr val="000066"/>
                </a:solidFill>
                <a:latin typeface="Century Schoolbook"/>
                <a:ea typeface="Arial"/>
              </a:rPr>
              <a:t>%، پروتئینها با ارزش غذایی بال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چربیها حدود </a:t>
            </a:r>
            <a:r>
              <a:rPr b="0" lang="fa-IR" sz="2400" spc="-1" strike="noStrike">
                <a:solidFill>
                  <a:srgbClr val="000066"/>
                </a:solidFill>
                <a:latin typeface="Century Schoolbook"/>
                <a:ea typeface="Arial"/>
              </a:rPr>
              <a:t>92</a:t>
            </a:r>
            <a:r>
              <a:rPr b="0" lang="fa-IR" sz="2400" spc="-1" strike="noStrike">
                <a:solidFill>
                  <a:srgbClr val="000066"/>
                </a:solidFill>
                <a:latin typeface="Century Schoolbook"/>
                <a:ea typeface="Arial"/>
              </a:rPr>
              <a:t>% است. همچنین متخصصانی همچون فیشر و بِندر درصدهای زیر را تعیین کرده اند: ضریب جذب کربوهیدراته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ضریب جذب پروتئینها و چربیها حدود </a:t>
            </a:r>
            <a:r>
              <a:rPr b="0" lang="fa-IR" sz="2400" spc="-1" strike="noStrike">
                <a:solidFill>
                  <a:srgbClr val="000066"/>
                </a:solidFill>
                <a:latin typeface="Century Schoolbook"/>
                <a:ea typeface="Arial"/>
              </a:rPr>
              <a:t>90</a:t>
            </a:r>
            <a:r>
              <a:rPr b="0" lang="fa-IR" sz="2400" spc="-1" strike="noStrike">
                <a:solidFill>
                  <a:srgbClr val="000066"/>
                </a:solidFill>
                <a:latin typeface="Century Schoolbook"/>
                <a:ea typeface="Arial"/>
              </a:rPr>
              <a:t>%.</a:t>
            </a:r>
            <a:endParaRPr b="0" lang="en-US" sz="2400" spc="-1" strike="noStrike">
              <a:solidFill>
                <a:srgbClr val="000000"/>
              </a:solidFill>
              <a:latin typeface="Century Schoolbook"/>
            </a:endParaRPr>
          </a:p>
        </p:txBody>
      </p:sp>
      <p:pic>
        <p:nvPicPr>
          <p:cNvPr id="409" name="Picture 5" descr="2136-150x150"/>
          <p:cNvPicPr/>
          <p:nvPr/>
        </p:nvPicPr>
        <p:blipFill>
          <a:blip r:embed="rId1"/>
          <a:stretch/>
        </p:blipFill>
        <p:spPr>
          <a:xfrm>
            <a:off x="826920" y="3860640"/>
            <a:ext cx="7174080" cy="2783160"/>
          </a:xfrm>
          <a:prstGeom prst="rect">
            <a:avLst/>
          </a:prstGeom>
          <a:ln w="9360">
            <a:solidFill>
              <a:srgbClr val="fff39d"/>
            </a:solidFill>
            <a:miter/>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136000" cy="5307120"/>
          </a:xfrm>
          <a:prstGeom prst="rect">
            <a:avLst/>
          </a:prstGeom>
          <a:noFill/>
          <a:ln w="0">
            <a:noFill/>
          </a:ln>
        </p:spPr>
        <p:txBody>
          <a:bodyPr anchor="t">
            <a:normAutofit fontScale="81000"/>
          </a:bodyPr>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روده فراخ (بزرگ)</a:t>
            </a:r>
            <a:endParaRPr b="0" lang="en-US" sz="24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از دریچه </a:t>
            </a:r>
            <a:r>
              <a:rPr b="1" lang="fa-IR" sz="2000" spc="-1" strike="noStrike">
                <a:solidFill>
                  <a:srgbClr val="ff3300"/>
                </a:solidFill>
                <a:latin typeface="Century Schoolbook"/>
                <a:cs typeface="Arial"/>
              </a:rPr>
              <a:t>ايلئوسکال</a:t>
            </a:r>
            <a:r>
              <a:rPr b="1" lang="fa-IR" sz="2000" spc="-1" strike="noStrike">
                <a:solidFill>
                  <a:srgbClr val="000066"/>
                </a:solidFill>
                <a:latin typeface="Century Schoolbook"/>
                <a:ea typeface="Arial"/>
              </a:rPr>
              <a:t> که بین روده باریک و روده فراخ واقع است، عبور می کند و به کولون وارد می شود. دریچه ایلئوسکال از پس زدن محتویات کولون به داخل روده باریک جلوگیری می کند. روزانه </a:t>
            </a:r>
            <a:r>
              <a:rPr b="1" lang="fa-IR" sz="2000" spc="-1" strike="noStrike">
                <a:solidFill>
                  <a:srgbClr val="000066"/>
                </a:solidFill>
                <a:latin typeface="Century Schoolbook"/>
                <a:ea typeface="Arial"/>
              </a:rPr>
              <a:t>500</a:t>
            </a:r>
            <a:r>
              <a:rPr b="1" lang="fa-IR" sz="2000" spc="-1" strike="noStrike">
                <a:solidFill>
                  <a:srgbClr val="000066"/>
                </a:solidFill>
                <a:latin typeface="Century Schoolbook"/>
                <a:ea typeface="Arial"/>
              </a:rPr>
              <a:t> میلی لیتر از محتویات روده باریک وارد کولون می شود</a:t>
            </a:r>
            <a:r>
              <a:rPr b="0"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عمال روده فراخ عبارت اند از:</a:t>
            </a:r>
            <a:r>
              <a:rPr b="1"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الف)  جذب آب و الکترولیتها از کیموس یا غذا؛</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ea typeface="Arial"/>
              </a:rPr>
              <a:t> ب)  انباشتن مدفوع تا هنگام اجابت مزاج. جذب در نیمه ابتدایی و انباشت در نیمه انتهایی کولون صورت می گیرد.</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علاوه بر اینکه در روده بزرگ مخلوط و قطعه قطعه می شود، به آهستگی به جلو نیز رانده می شود. </a:t>
            </a:r>
            <a:r>
              <a:rPr b="1" lang="fa-IR" sz="2000" spc="-1" strike="noStrike">
                <a:solidFill>
                  <a:srgbClr val="ff0000"/>
                </a:solidFill>
                <a:latin typeface="Century Schoolbook"/>
                <a:cs typeface="Arial"/>
              </a:rPr>
              <a:t>تنهاترشح</a:t>
            </a:r>
            <a:r>
              <a:rPr b="1" lang="fa-IR" sz="2000" spc="-1" strike="noStrike">
                <a:solidFill>
                  <a:srgbClr val="000000"/>
                </a:solidFill>
                <a:latin typeface="Century Schoolbook"/>
                <a:ea typeface="Arial"/>
              </a:rPr>
              <a:t> </a:t>
            </a:r>
            <a:r>
              <a:rPr b="1" lang="fa-IR" sz="2000" spc="-1" strike="noStrike">
                <a:solidFill>
                  <a:srgbClr val="fff39d"/>
                </a:solidFill>
                <a:latin typeface="Century Schoolbook"/>
                <a:ea typeface="Arial"/>
              </a:rPr>
              <a:t> </a:t>
            </a:r>
            <a:r>
              <a:rPr b="1" lang="fa-IR" sz="2000" spc="-1" strike="noStrike">
                <a:solidFill>
                  <a:srgbClr val="000066"/>
                </a:solidFill>
                <a:latin typeface="Century Schoolbook"/>
                <a:cs typeface="Arial"/>
              </a:rPr>
              <a:t>قابل توجه در روده فراخ، مایع لغزنده ساز برای مخلوط شدن و حرکت غذاست، ترشح روده بزرگ از طریق تحریکات موضعی و عصبی تنظیم می شود.</a:t>
            </a:r>
            <a:endParaRPr b="0" lang="en-US" sz="2000" spc="-1" strike="noStrike">
              <a:solidFill>
                <a:srgbClr val="000000"/>
              </a:solidFill>
              <a:latin typeface="Century Schoolbook"/>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villi 1"/>
          <p:cNvPicPr/>
          <p:nvPr/>
        </p:nvPicPr>
        <p:blipFill>
          <a:blip r:embed="rId1">
            <a:lum bright="12000"/>
          </a:blip>
          <a:stretch/>
        </p:blipFill>
        <p:spPr>
          <a:xfrm>
            <a:off x="214200" y="500040"/>
            <a:ext cx="8429760" cy="60721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5"/>
          <p:cNvSpPr txBox="1"/>
          <p:nvPr/>
        </p:nvSpPr>
        <p:spPr>
          <a:xfrm>
            <a:off x="571680" y="1071720"/>
            <a:ext cx="7429320" cy="48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4000" y="2410920"/>
            <a:ext cx="7848360" cy="2589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1</a:t>
            </a:r>
            <a:r>
              <a:rPr b="0" lang="fa-IR" sz="2800" spc="-1" strike="noStrike">
                <a:solidFill>
                  <a:srgbClr val="000066"/>
                </a:solidFill>
                <a:latin typeface="Century Schoolbook"/>
                <a:ea typeface="Arial"/>
              </a:rPr>
              <a:t>. عمل گوارش را تعریف کنید.</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2</a:t>
            </a:r>
            <a:r>
              <a:rPr b="0" lang="fa-IR" sz="2800" spc="-1" strike="noStrike">
                <a:solidFill>
                  <a:srgbClr val="000066"/>
                </a:solidFill>
                <a:latin typeface="Century Schoolbook"/>
                <a:ea typeface="Arial"/>
              </a:rPr>
              <a:t>. اجزاء تشکیل دهنده لوله گوارش را بشناسید.</a:t>
            </a:r>
            <a:endParaRPr b="0" lang="en-US" sz="2800" spc="-1" strike="noStrike">
              <a:solidFill>
                <a:srgbClr val="000000"/>
              </a:solidFill>
              <a:latin typeface="Century Schoolbook"/>
            </a:endParaRPr>
          </a:p>
        </p:txBody>
      </p:sp>
      <p:sp>
        <p:nvSpPr>
          <p:cNvPr id="366" name="TextBox 3"/>
          <p:cNvSpPr/>
          <p:nvPr/>
        </p:nvSpPr>
        <p:spPr>
          <a:xfrm>
            <a:off x="1353240" y="928800"/>
            <a:ext cx="83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گوارش و قسمتهای مختلف لوله گوارش</a:t>
            </a:r>
            <a:endParaRPr b="0" lang="en-US" sz="28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285840"/>
            <a:ext cx="8143920" cy="5572080"/>
          </a:xfrm>
          <a:prstGeom prst="rect">
            <a:avLst/>
          </a:prstGeom>
          <a:noFill/>
          <a:ln w="0">
            <a:noFill/>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سلولهای بدن برای زنده ماندن به مواد غذایی نیاز دارند. مواد غذایی قبل از سوخت و ساز و قبل از اینکه بتوانند مورد استفاده سلولها قرار گیرند، به صورتی در می آیند که در خون قابل جذب باشند. این تغییر شکل مواد غذایی، گوارش نامیده می شود. در روند گوارش، کربوهیدراتها، چربیها و پروتئینهای مواد غذایی باید تغییر یابند، در صورتی که نمکهای معدنی، آب و ویتامینها بدون هرگونه تغییر شیمیایی جذب می شوند. غذا از دهان در طول مری به معده می رسد و معده به سوی دوازدهه، روده باریک (ژژونوم و ایلئوم) پیش می رود. هضم و جذب غذا تا این مرحله صورت می گیرد، باقی مانده جذب نشده غذا از راه روده بزرگ (سکوم ـ کولون بالارو، کولون افقی و کولون پایین رو) به رکتوم (راست روده) و مجرای مقعدی می رسد.</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13840" y="714240"/>
            <a:ext cx="8318520" cy="4105440"/>
          </a:xfrm>
          <a:prstGeom prst="rect">
            <a:avLst/>
          </a:prstGeom>
          <a:noFill/>
          <a:ln w="0">
            <a:noFill/>
          </a:ln>
        </p:spPr>
        <p:txBody>
          <a:bodyPr anchor="t">
            <a:normAutofit fontScale="79000"/>
          </a:bodyPr>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2</a:t>
            </a:r>
            <a:r>
              <a:rPr b="1" lang="fa-IR" sz="2800" spc="-1" strike="noStrike">
                <a:solidFill>
                  <a:srgbClr val="b32c16"/>
                </a:solidFill>
                <a:latin typeface="Century Schoolbook"/>
                <a:ea typeface="Arial"/>
              </a:rPr>
              <a:t>. اعمال لوله گوارش و آنزيمهاي گوارشي</a:t>
            </a:r>
            <a:endParaRPr b="0" lang="en-US" sz="28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عمل اصلی لوله گوارش تأمین مداوم آب، الکترولیتها و مواد غذایی برای مصرف سلولهای بدن است. هر قسمت از لوله گوارش برای اعمال ویژه ای اختصاص یافته است، که عبارت اند از:</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عبور دادن ساده غذا از یک نقطه به نقطه دیگر، مثلاً در مری؛ </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نبار شدن غذا در معده یا مواد زاید در کولون نزولی روده بزرگ؛</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3</a:t>
            </a:r>
            <a:r>
              <a:rPr b="0" lang="fa-IR" sz="2000" spc="-1" strike="noStrike">
                <a:solidFill>
                  <a:srgbClr val="000066"/>
                </a:solidFill>
                <a:latin typeface="Century Schoolbook"/>
                <a:ea typeface="Arial"/>
              </a:rPr>
              <a:t>. هضم غذا در معده، دوازدهه، ژژونوم و ایلئوم؛</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4</a:t>
            </a:r>
            <a:r>
              <a:rPr b="0" lang="fa-IR" sz="2000" spc="-1" strike="noStrike">
                <a:solidFill>
                  <a:srgbClr val="000066"/>
                </a:solidFill>
                <a:latin typeface="Century Schoolbook"/>
                <a:ea typeface="Arial"/>
              </a:rPr>
              <a:t>. جذب فرآورده های حاصل از هضم در سراسر روده باریک و نیمه ابتدایی روده بزرگ. ساز و کارهای تنظیمی گوارش در قسمتهای بالایی لوله گوارش بیشتر عصبی و در قسمتهای پایین تر بیشتر هورمونی است و در رکتوم مجدداً عصبی می شود.</a:t>
            </a:r>
            <a:endParaRPr b="0" lang="en-US" sz="2000" spc="-1" strike="noStrike">
              <a:solidFill>
                <a:srgbClr val="000000"/>
              </a:solidFill>
              <a:latin typeface="Century Schoolbook"/>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pancreas-liversm"/>
          <p:cNvPicPr/>
          <p:nvPr/>
        </p:nvPicPr>
        <p:blipFill>
          <a:blip r:embed="rId1"/>
          <a:stretch/>
        </p:blipFill>
        <p:spPr>
          <a:xfrm>
            <a:off x="4716360" y="0"/>
            <a:ext cx="3998880" cy="6786720"/>
          </a:xfrm>
          <a:prstGeom prst="rect">
            <a:avLst/>
          </a:prstGeom>
          <a:ln w="38160">
            <a:solidFill>
              <a:srgbClr val="fff39d"/>
            </a:solidFill>
            <a:miter/>
          </a:ln>
        </p:spPr>
      </p:pic>
      <p:pic>
        <p:nvPicPr>
          <p:cNvPr id="370" name="Picture 5" descr="nwaz_01_img0077"/>
          <p:cNvPicPr/>
          <p:nvPr/>
        </p:nvPicPr>
        <p:blipFill>
          <a:blip r:embed="rId2"/>
          <a:stretch/>
        </p:blipFill>
        <p:spPr>
          <a:xfrm>
            <a:off x="142920" y="0"/>
            <a:ext cx="4500360" cy="6858000"/>
          </a:xfrm>
          <a:prstGeom prst="rect">
            <a:avLst/>
          </a:prstGeom>
          <a:ln w="38160">
            <a:solidFill>
              <a:srgbClr val="000000"/>
            </a:solidFill>
            <a:miter/>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85840" y="571680"/>
            <a:ext cx="8353440" cy="4929120"/>
          </a:xfrm>
          <a:prstGeom prst="rect">
            <a:avLst/>
          </a:prstGeom>
          <a:noFill/>
          <a:ln w="0">
            <a:noFill/>
          </a:ln>
        </p:spPr>
        <p:txBody>
          <a:bodyPr anchor="t">
            <a:normAutofit fontScale="88000"/>
          </a:bodyPr>
          <a:p>
            <a:pPr marL="240120" indent="-24012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b32c16"/>
                </a:solidFill>
                <a:latin typeface="Century Schoolbook"/>
                <a:cs typeface="Arial"/>
              </a:rPr>
              <a:t>آنزیمها :</a:t>
            </a:r>
            <a:endParaRPr b="0" lang="en-US" sz="2400" spc="-1" strike="noStrike">
              <a:solidFill>
                <a:srgbClr val="000000"/>
              </a:solidFill>
              <a:latin typeface="Century Schoolbook"/>
            </a:endParaRPr>
          </a:p>
          <a:p>
            <a:pPr marL="240120" indent="-240120"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66"/>
                </a:solidFill>
                <a:latin typeface="Century Schoolbook"/>
                <a:ea typeface="Arial"/>
              </a:rPr>
              <a:t> </a:t>
            </a:r>
            <a:r>
              <a:rPr b="1" lang="fa-IR" sz="1800" spc="-1" strike="noStrike">
                <a:solidFill>
                  <a:srgbClr val="000066"/>
                </a:solidFill>
                <a:latin typeface="Century Schoolbook"/>
                <a:cs typeface="Arial"/>
              </a:rPr>
              <a:t>روند گوارش به کمک گروهی از کاتالیزورهای بیولوژیکی موسوم به آنزیمها به انجام می رسد. آنزیمها بر مواد غذایی تأثیر می گذارند و آنها را می شکنند و برای عمل جذب در سلولهای بدن آماده می کنند. عمل آنزیمها روی مواد غذایی اختصاصی است. در نامگذاری جدید، نام یک آنزیم با افزودن پسوند آز به آخر نام ماده ای که آنزیم بر آن اثر   می کند، مشخص می شود. براین اساس، آنزیم روده باریک که بر ساکارز اثر می کند، سوکراز نامیده می شود. آنزیمی که بر لاکتوز اثر می کند، لاکتاز و آنزیمی که نشاسته را تجزیه می کند آمیلاز نامیده می شود. رشته های پروتئینی توسط پروتئازها به زنجیره های پپتیدی و پپتیدها توسط پپتیدازها به اسیدهای آمینه تبدیل می شوند و آنزیم لیپاز نیز چربیها را تجزیه می کند.</a:t>
            </a:r>
            <a:r>
              <a:rPr b="1" lang="fa-IR" sz="1500" spc="-1" strike="noStrike">
                <a:solidFill>
                  <a:srgbClr val="000000"/>
                </a:solidFill>
                <a:latin typeface="Century Schoolbook"/>
              </a:rPr>
              <a:t> </a:t>
            </a:r>
            <a:endParaRPr b="0" lang="en-US" sz="15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cel_villi"/>
          <p:cNvPicPr/>
          <p:nvPr/>
        </p:nvPicPr>
        <p:blipFill>
          <a:blip r:embed="rId1"/>
          <a:stretch/>
        </p:blipFill>
        <p:spPr>
          <a:xfrm>
            <a:off x="142920" y="2060640"/>
            <a:ext cx="8572320" cy="4797360"/>
          </a:xfrm>
          <a:prstGeom prst="rect">
            <a:avLst/>
          </a:prstGeom>
          <a:ln w="0">
            <a:noFill/>
          </a:ln>
        </p:spPr>
      </p:pic>
      <p:sp>
        <p:nvSpPr>
          <p:cNvPr id="373" name=""/>
          <p:cNvSpPr txBox="1"/>
          <p:nvPr/>
        </p:nvSpPr>
        <p:spPr>
          <a:xfrm>
            <a:off x="213840" y="857160"/>
            <a:ext cx="8420040" cy="936720"/>
          </a:xfrm>
          <a:prstGeom prst="rect">
            <a:avLst/>
          </a:prstGeom>
          <a:noFill/>
          <a:ln w="0">
            <a:noFill/>
          </a:ln>
        </p:spPr>
        <p:txBody>
          <a:bodyPr anchor="t">
            <a:normAutofit fontScale="78000"/>
          </a:bodyPr>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قسمتهای مختلف لوله گوارشی و عملکرد آنها روی غذا</a:t>
            </a:r>
            <a:endParaRPr b="0" lang="en-US" sz="3200" spc="-1" strike="noStrike">
              <a:solidFill>
                <a:srgbClr val="000000"/>
              </a:solidFill>
              <a:latin typeface="Century Schoolbook"/>
            </a:endParaRPr>
          </a:p>
        </p:txBody>
      </p:sp>
      <p:sp>
        <p:nvSpPr>
          <p:cNvPr id="374" name="Rectangle 6"/>
          <p:cNvSpPr/>
          <p:nvPr/>
        </p:nvSpPr>
        <p:spPr>
          <a:xfrm>
            <a:off x="611280" y="4697280"/>
            <a:ext cx="7858080" cy="457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1390680"/>
                <a:tab algn="l" pos="2533680"/>
                <a:tab algn="l" pos="4210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7"/>
          <p:cNvSpPr/>
          <p:nvPr/>
        </p:nvSpPr>
        <p:spPr>
          <a:xfrm>
            <a:off x="214200" y="428760"/>
            <a:ext cx="842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r>
              <a:rPr b="1" lang="fa-IR" sz="3600" spc="-1" strike="noStrike">
                <a:solidFill>
                  <a:srgbClr val="c00000"/>
                </a:solidFill>
                <a:latin typeface="Times New Roman"/>
              </a:rPr>
              <a:t>:</a:t>
            </a:r>
            <a:endParaRPr b="0" lang="en-US" sz="36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0:14Z</dcterms:modified>
  <cp:revision>90</cp:revision>
  <dc:subject/>
  <dc:title>Slide 1</dc:title>
</cp:coreProperties>
</file>