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D034-C7EA-477E-8310-C4B34FC9EAB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E426-AE54-4DF9-9107-03015471B8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D0CA-8B66-48A3-888F-5F41C2701C9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F7A8-4C30-4ED4-8190-150E11EADA3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6F42-6328-4D02-825E-A4A84FA475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DB44-0AE4-40A6-9E85-88101AD5E6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3E35-8C95-4400-98EB-A40A068371F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7467-697B-4B6D-A6B4-4D962027EAA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2782-AB9F-45B0-BE24-F9C74D866C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86F6-38E1-4C84-9154-E2FDFD5A589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0749-D2DE-40C8-90A9-B197059FFFF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DD8A-E510-4183-A325-E73EE58BDF8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7BAF-9620-4EEF-938D-BF9CD03BE5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A7E7-C23E-48B7-9F64-C45492C29D8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4356-3CF6-411F-A927-67EFA03837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D388-86A3-4D34-AE77-31EE6DC749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7477-C84C-47B6-979F-AD51F9D5259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3A9C-8E3B-4F4C-B825-DAAC86FF694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2132-B1CE-4A43-BD85-4A00C2A4218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9935-DAAE-459C-8665-A058BFCFC95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FF87-092F-4B09-8C14-933375B61FA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44F4-9C17-46F7-8413-1106EC33D0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A9C7-76C9-4814-8C2C-0FF3E1FD370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B1D0-C5A1-4B8E-A955-5FDD0CD54D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552-A484-41A5-88F0-025CF5F7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210-C016-4539-99F5-DA6EC482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F9A-F878-468B-9F4F-ABF89138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261-A253-4F1C-95E3-E3CDCF16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8EFB-82B5-4E7F-AE15-4CE0A05D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EF15-74E0-40D1-AA6A-0926725E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DEA8-2098-45BB-B894-622DCE8C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DAC0-7D91-4BD6-B09E-3D5A2449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3103-1AF2-4243-B540-19F99CD8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50BC-DB43-40FB-8986-66F89CEB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7931-6A67-48C4-8117-5FE7131E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594-4195-4480-9668-19E806FF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A557-4D0E-4FBF-BCDC-881BCC2F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DC6E-0E5B-4847-A58E-54A7093E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A294-C503-4E1F-90EC-98CA3DB8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A4D1-533A-471B-A9F8-E85C6A82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1907-A0B2-4602-A156-FBC6E45D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B7469-8137-417C-92A9-0CE11492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9A606-66C4-4406-8DF5-4F2FAF6E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ABC87-198C-4877-A57F-F2C6E8B4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6CE3B-C4C4-48F0-9F4D-B7AEFFEA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F1A13-6CFF-4FFA-B636-4A1892DE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48A-BCEE-4B77-8188-5E9A50C4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8E3C8-1CE4-477F-91D8-AE398979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8899D-A93A-4C85-9D20-85A1722B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9D072-0145-4B4A-AAC8-3F95ED5C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B1275-76D7-45F2-B209-493AB108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86384-6B44-4F8B-B392-2447EC14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B9BBF-8391-4FC1-87DA-58B50C26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F20C0-0B7C-455C-9800-C630A8F7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B1C5B-7857-4691-9DF5-584D78E2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30813-2BCF-43D6-9D44-5619F2DB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4E03E-C278-4061-ADB6-0C46EAC2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456-5204-44B8-A1C9-5FDB1448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6C6C7-6B1E-4FCB-BB77-B2DFF415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0B835-4F58-46C8-B2BB-FE37F7FE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7D45E-7695-4CC0-A060-2267BD09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B056B-5E69-44C3-A60D-9BAEED68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72FD3-18E1-4725-9972-5B534D27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18848-E054-449F-996E-9F767BB5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21EB6-3E1C-4FDD-B4D4-CF289637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EA5D6-E295-4386-BBF6-544749EB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15985-327C-4B75-9A26-B4A1A94D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0C614-70C0-4703-BFAD-854138A0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DA5-0BF9-402D-A012-7551AC07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FAB8B-67F7-4BF4-AF2F-73D0894B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53C9F5-9E05-4F8A-B5F8-FBB2B64E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58B024-EE56-4F3E-8DB9-077589CF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054BE-2245-4503-A858-B0C3AE9D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DBD70D-C861-458A-86F2-2CA2F19F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89B19B-E482-47FA-9F94-0BC586B6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750EC-2DBC-4F72-AFD9-509A2298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A18F9-77E3-40FF-948D-FD826348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1E02DC-DE34-4377-AC8B-4D3B2955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767C0-FC61-4F76-BF03-3B8C8603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FCF2-72D0-4788-9224-99F0EF2A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31D5B-EBBE-4596-B943-7946DF14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0136FF-40AE-4807-9DEF-E722E619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1CF4DC-7C34-4C25-918C-C259015E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49AC5F-35E9-4ABB-946D-C528A2F2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46C5BF-EEC0-499A-8627-7B846B59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225D50-8385-4070-8B65-CD221FF8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C2001-0E38-4E11-A7EC-BAFFC155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083811-8520-49CF-B303-1504CA3F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81EF5-CAFA-40F6-9EB0-AE1053F3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64561-5C0C-4163-9202-15F729FD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D8A-0AFE-4933-8FA9-3B90B1A0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7C0D2-EDBD-407B-B2E7-8CFEE0BE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211ABD-059B-43CD-827E-4889E76C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0D2AD1-1D8A-4601-95CA-6513C4F3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E595A0-4B6D-4CA6-B9AD-839E3786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9F2F3-FB63-4D19-B611-21FF92D9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8525A-2DFF-4413-9A9F-43896B35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EA1110-1994-4E69-8795-B56045D7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92183A-F594-4C2E-A300-CC049CC4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D1D644-497C-48E8-A576-C4CFF097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D951C6-6B0E-48AC-BDD2-63E90F96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0E3-FC09-40C4-82E5-A9E63A87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00023-60C9-47DC-B990-71B0D781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80A2E4-EE9A-4D37-89E4-BF52AABC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C6DE1-8343-4D66-B5DB-D3D07C96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CCC455-60E4-483A-BD4C-16857316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5EA4E5-039F-44D5-891D-98C0BC45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0E6B6-BB15-4D42-8DE7-8893C93A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6ED40-3BB0-4E02-878B-4C3DF685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5DEF3-A8E1-4434-8F3D-3FC2C052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BFCDE-2482-41D6-902C-366BE141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4A4C3-8F78-463D-B6BD-C6D0A752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717-5D68-46F8-9236-AA8E3A6D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92CF8-5A25-4F10-956A-A7F9362A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13C39-8B40-4E08-BE6A-66DFB7D3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BD083-8C23-4D18-B6FF-714BF486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35A0F-8384-4767-A096-54C1F6DD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104AA-4059-41F1-A92C-E39B3875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1A00C-56B3-4A45-8D31-C749705C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2109B-C78C-4518-8BF5-06EEDD8B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FA93-D689-48AE-9A74-6A5845FA9FE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6A0A-5BC1-45FF-9404-C18ABF62C59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51C6-1974-4014-9932-7925025E7EF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F6E4-0FC6-4B94-BA83-7A4391F16BE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966D-98B0-4A9D-9DEA-7E692810CF2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C11C-DCDD-4110-8552-29B8297CAFE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58C3-0B6E-4EDE-AA19-CE80472765A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B465-0267-4370-8E44-5A8D24E7243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57200" y="-28584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e75c01"/>
                </a:solidFill>
                <a:latin typeface="Century Schoolbook"/>
                <a:cs typeface="Arial"/>
              </a:rPr>
              <a:t>بسم الله الرحمن الرحیم</a:t>
            </a:r>
            <a:br>
              <a:rPr sz="3000"/>
            </a:br>
            <a:br>
              <a:rPr sz="3000"/>
            </a:br>
            <a:r>
              <a:rPr b="1" lang="fa-IR" sz="36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غذیه و ورزشی</a:t>
            </a:r>
            <a:br>
              <a:rPr sz="3600"/>
            </a:br>
            <a:br>
              <a:rPr sz="36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( تربیت بدنی و علوم ورزشی )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نبع:تغذیه و ورزش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ولف:دکتر محمد رضا رمضان پور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عداد واحد: 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 واحد</a:t>
            </a:r>
            <a:br>
              <a:rPr sz="2400"/>
            </a:br>
            <a:br>
              <a:rPr sz="2400"/>
            </a:br>
            <a:r>
              <a:rPr b="1" lang="fa-IR" sz="3200" spc="-1" strike="noStrike">
                <a:solidFill>
                  <a:srgbClr val="e75c01"/>
                </a:solidFill>
                <a:latin typeface="Century Schoolbook"/>
                <a:cs typeface="Arial"/>
              </a:rPr>
              <a:t>استاد مربوطه: پریسا خیر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643280" y="1142640"/>
            <a:ext cx="38484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مراحل مختلف هضم کربوهیدراته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395280" y="1916280"/>
          <a:ext cx="8136000" cy="425124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62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ذا             دهان           معده              ترشح لوزالمعده در روده باريك         روده باريك</a:t>
                      </a:r>
                      <a:r>
                        <a:rPr b="0" lang="fa-I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ليكوژن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تيالين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دكسترين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مالتوز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شاسته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تيالين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دكسترين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مالتوز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كسترين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مالتوز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كتوز  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ك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گلوكز+گالاكتو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كارز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وكر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گلوكز +فروكتو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Line 13"/>
          <p:cNvSpPr/>
          <p:nvPr/>
        </p:nvSpPr>
        <p:spPr>
          <a:xfrm flipH="1">
            <a:off x="6300720" y="3284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 flipH="1">
            <a:off x="3708000" y="3284640"/>
            <a:ext cx="1582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5"/>
          <p:cNvSpPr/>
          <p:nvPr/>
        </p:nvSpPr>
        <p:spPr>
          <a:xfrm flipH="1">
            <a:off x="1619280" y="3284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6"/>
          <p:cNvSpPr/>
          <p:nvPr/>
        </p:nvSpPr>
        <p:spPr>
          <a:xfrm flipH="1">
            <a:off x="6300720" y="393372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7"/>
          <p:cNvSpPr/>
          <p:nvPr/>
        </p:nvSpPr>
        <p:spPr>
          <a:xfrm flipH="1">
            <a:off x="3635280" y="3933720"/>
            <a:ext cx="165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8"/>
          <p:cNvSpPr/>
          <p:nvPr/>
        </p:nvSpPr>
        <p:spPr>
          <a:xfrm flipH="1">
            <a:off x="1547640" y="393372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9"/>
          <p:cNvSpPr/>
          <p:nvPr/>
        </p:nvSpPr>
        <p:spPr>
          <a:xfrm flipH="1">
            <a:off x="2124000" y="5734080"/>
            <a:ext cx="56167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0"/>
          <p:cNvSpPr/>
          <p:nvPr/>
        </p:nvSpPr>
        <p:spPr>
          <a:xfrm flipH="1">
            <a:off x="1476360" y="4508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1"/>
          <p:cNvSpPr/>
          <p:nvPr/>
        </p:nvSpPr>
        <p:spPr>
          <a:xfrm flipH="1">
            <a:off x="3634920" y="4508640"/>
            <a:ext cx="403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2"/>
          <p:cNvSpPr/>
          <p:nvPr/>
        </p:nvSpPr>
        <p:spPr>
          <a:xfrm flipH="1">
            <a:off x="2123640" y="5157720"/>
            <a:ext cx="5614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684000" y="4647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جذب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جذب ← بعد از هضم قندها ← به صورت منوساکارید جذب می شو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وکز + گالاکتوز ← مکانیزم انتقال فعال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فروکتوز                                 انتشار ساده                                                 منوساکاریدها از طریق سیاهرگ باب ← کب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کبد فروکتوز گالاکتوز ← گلوک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Line 5"/>
          <p:cNvSpPr/>
          <p:nvPr/>
        </p:nvSpPr>
        <p:spPr>
          <a:xfrm flipH="1">
            <a:off x="2916000" y="3143160"/>
            <a:ext cx="64764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 flipH="1" flipV="1">
            <a:off x="2916000" y="3576240"/>
            <a:ext cx="64764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0" y="32907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وارد خون می شون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 flipH="1">
            <a:off x="5148000" y="3930480"/>
            <a:ext cx="23763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11280" y="607680"/>
            <a:ext cx="792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3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سوخت و ساز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وکز در هنگام ورود به خون سه سرنوشت دارد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عنوان منبع انرژی اکسید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گلیکوژن ذخیره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چربی تبدیل شده و ذخیره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غلظت گلوکز خو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تا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8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یلی گرم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یلی لیتر خون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                   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افت قند خون از میزان طبیعی ← هیپوگلیسم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ین غلظت برای مغز مهم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                           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افزایش قند خون از میزان طبیعی ←هایپرگلیسم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5072040" y="4346640"/>
            <a:ext cx="287280" cy="143964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11280" y="999720"/>
            <a:ext cx="792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هرگاه مقدار زیادی گلوکز از راه لوله گوارش وارد خون شود اضافی آن در کبد و عضلات به صورت گلیکوژن ذخیره می شود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بدیل گلوکز     به      گلیکوژن توسط آزاد شدن هورمون انسولین از لوزالمعده است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عضلانی ← منشأ گرما و انرژی در هنگام فعالیت عضلانی است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کبدی ← برای حفظ میزان گلوکز خون است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هنگامی که مقدار کربوهیدرات مصرفی بیش از مقداری باشد که بدن بتواند آن را در کبد عضلات به صورت گلیکوژن ذخیره کند مازاد آن به چربی تبدیل می شو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6659640" y="3071880"/>
            <a:ext cx="792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85840" y="213840"/>
            <a:ext cx="8246880" cy="428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ورود و خروج گلوکز به خون توسط هورمون ها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↓ انسولین ،   ↑ گلوکاکن  ،     آدرنالن ↑   ،    رشد ↑  ،   کورتیزول ↑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هنگام فشار عصبی و هیجانات ← کورتیکو تروپین ← قشر فوق کلیوی ← کورتیزول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ولید انرژی از گلیکوژن توسط دستگاه بی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← گلوکز ← اسید پیرویک ← اسید لاکتی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Q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+ 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 → 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ATP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 →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i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ADP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1217160" y="4551480"/>
            <a:ext cx="6599880" cy="221508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دستگاه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گلیکوژن ← گلوکز ← اسید پیرودیک ← چرخه کرب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+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→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+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P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-71280" y="164268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سو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نقش كربوهيدراتها در بدن و رابطه آنها با ورزش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13840" y="642600"/>
            <a:ext cx="8425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نقش کربوهیدرات در بد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منبع انرژی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صرفه جویی در مصرف پروتئین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تأمین ویتامین (گروه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B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4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نقش کربوهیدرات در کبد: شامل خنثی کردن مواد سمی و تنظیم سوخت و ساز چربی و پروتئین ها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5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یگانه منبع سوخت دستگاه عصبی مرکز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Line 2"/>
          <p:cNvSpPr/>
          <p:nvPr/>
        </p:nvSpPr>
        <p:spPr>
          <a:xfrm>
            <a:off x="2995560" y="4292640"/>
            <a:ext cx="1944720" cy="730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3"/>
          <p:cNvSpPr/>
          <p:nvPr/>
        </p:nvSpPr>
        <p:spPr>
          <a:xfrm rot="714000">
            <a:off x="2995200" y="4436640"/>
            <a:ext cx="1657440" cy="1008000"/>
          </a:xfrm>
          <a:prstGeom prst="rightArrow">
            <a:avLst>
              <a:gd name="adj1" fmla="val 50000"/>
              <a:gd name="adj2" fmla="val 4110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57120" y="856800"/>
            <a:ext cx="8175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رابطه کربوهیدرات ها با فعالیت های ورزش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زمان استراحت ←       انرژی مورد نیاز بدن توسط چربی ها و       توسط قندها و عمده سیستم تولید انرژی سیستم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8"/>
              <p:cNvSpPr txBox="1"/>
              <p:nvPr/>
            </p:nvSpPr>
            <p:spPr>
              <a:xfrm>
                <a:off x="5759280" y="1857240"/>
                <a:ext cx="3128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Rectangle 9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1"/>
              <p:cNvSpPr txBox="1"/>
              <p:nvPr/>
            </p:nvSpPr>
            <p:spPr>
              <a:xfrm>
                <a:off x="1285920" y="1785960"/>
                <a:ext cx="353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Rectangle 12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13"/>
          <p:cNvSpPr/>
          <p:nvPr/>
        </p:nvSpPr>
        <p:spPr>
          <a:xfrm>
            <a:off x="1933560" y="4149720"/>
            <a:ext cx="1366920" cy="1368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4"/>
          <p:cNvSpPr/>
          <p:nvPr/>
        </p:nvSpPr>
        <p:spPr>
          <a:xfrm>
            <a:off x="2058840" y="4365720"/>
            <a:ext cx="576360" cy="50328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5"/>
          <p:cNvSpPr/>
          <p:nvPr/>
        </p:nvSpPr>
        <p:spPr>
          <a:xfrm>
            <a:off x="2635200" y="4869000"/>
            <a:ext cx="64944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6"/>
          <p:cNvSpPr/>
          <p:nvPr/>
        </p:nvSpPr>
        <p:spPr>
          <a:xfrm>
            <a:off x="1916280" y="4005360"/>
            <a:ext cx="136836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7"/>
          <p:cNvSpPr/>
          <p:nvPr/>
        </p:nvSpPr>
        <p:spPr>
          <a:xfrm>
            <a:off x="2076480" y="4005360"/>
            <a:ext cx="0" cy="287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8"/>
          <p:cNvSpPr/>
          <p:nvPr/>
        </p:nvSpPr>
        <p:spPr>
          <a:xfrm>
            <a:off x="142884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پروتیین(ناچی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9"/>
          <p:cNvSpPr/>
          <p:nvPr/>
        </p:nvSpPr>
        <p:spPr>
          <a:xfrm>
            <a:off x="2293920" y="43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گلوکز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3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20"/>
          <p:cNvSpPr/>
          <p:nvPr/>
        </p:nvSpPr>
        <p:spPr>
          <a:xfrm>
            <a:off x="2094840" y="49417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چربی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3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1"/>
          <p:cNvSpPr/>
          <p:nvPr/>
        </p:nvSpPr>
        <p:spPr>
          <a:xfrm>
            <a:off x="5011560" y="4221000"/>
            <a:ext cx="721080" cy="36036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2"/>
          <p:cNvSpPr/>
          <p:nvPr/>
        </p:nvSpPr>
        <p:spPr>
          <a:xfrm>
            <a:off x="5104080" y="4221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3"/>
          <p:cNvSpPr/>
          <p:nvPr/>
        </p:nvSpPr>
        <p:spPr>
          <a:xfrm>
            <a:off x="5877000" y="414972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4"/>
          <p:cNvSpPr/>
          <p:nvPr/>
        </p:nvSpPr>
        <p:spPr>
          <a:xfrm>
            <a:off x="6235560" y="4221000"/>
            <a:ext cx="914400" cy="360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5"/>
          <p:cNvSpPr/>
          <p:nvPr/>
        </p:nvSpPr>
        <p:spPr>
          <a:xfrm>
            <a:off x="6143760" y="4221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6"/>
          <p:cNvSpPr/>
          <p:nvPr/>
        </p:nvSpPr>
        <p:spPr>
          <a:xfrm>
            <a:off x="48132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7"/>
          <p:cNvSpPr/>
          <p:nvPr/>
        </p:nvSpPr>
        <p:spPr>
          <a:xfrm>
            <a:off x="68850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8"/>
          <p:cNvSpPr/>
          <p:nvPr/>
        </p:nvSpPr>
        <p:spPr>
          <a:xfrm>
            <a:off x="58212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9"/>
          <p:cNvSpPr/>
          <p:nvPr/>
        </p:nvSpPr>
        <p:spPr>
          <a:xfrm>
            <a:off x="68634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0"/>
          <p:cNvSpPr/>
          <p:nvPr/>
        </p:nvSpPr>
        <p:spPr>
          <a:xfrm>
            <a:off x="5445000" y="5084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1"/>
          <p:cNvSpPr/>
          <p:nvPr/>
        </p:nvSpPr>
        <p:spPr>
          <a:xfrm>
            <a:off x="6505200" y="5105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2"/>
          <p:cNvSpPr/>
          <p:nvPr/>
        </p:nvSpPr>
        <p:spPr>
          <a:xfrm>
            <a:off x="3490920" y="371628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82520" y="1071360"/>
            <a:ext cx="8461440" cy="378612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فعالیت های کوتاه ← کمتر از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دقیقه ← عمده سیستم بی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کربوهیدرات ها به عنوان منبع انرژی اصل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جمع اسید لاکتیک مؤید این مورد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فزایش اسید لاکتیک خون تا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رابر زمان استراحت می رس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مقدار طبیعی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m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سی سی خون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2"/>
          <p:cNvSpPr/>
          <p:nvPr/>
        </p:nvSpPr>
        <p:spPr>
          <a:xfrm>
            <a:off x="2411280" y="1743120"/>
            <a:ext cx="1800360" cy="863640"/>
          </a:xfrm>
          <a:prstGeom prst="rightArrow">
            <a:avLst>
              <a:gd name="adj1" fmla="val 50000"/>
              <a:gd name="adj2" fmla="val 5211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2411280" y="2679840"/>
            <a:ext cx="2305080" cy="863640"/>
          </a:xfrm>
          <a:prstGeom prst="rightArrow">
            <a:avLst>
              <a:gd name="adj1" fmla="val 50000"/>
              <a:gd name="adj2" fmla="val 6672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6"/>
          <p:cNvSpPr/>
          <p:nvPr/>
        </p:nvSpPr>
        <p:spPr>
          <a:xfrm>
            <a:off x="1332000" y="1814400"/>
            <a:ext cx="1655640" cy="16560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7"/>
          <p:cNvSpPr/>
          <p:nvPr/>
        </p:nvSpPr>
        <p:spPr>
          <a:xfrm>
            <a:off x="2195640" y="2606760"/>
            <a:ext cx="576000" cy="6476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>
            <a:off x="2195640" y="2606760"/>
            <a:ext cx="720720" cy="360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1476360" y="2174760"/>
            <a:ext cx="132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39d"/>
                </a:solidFill>
                <a:latin typeface="Times New Roman"/>
              </a:rPr>
              <a:t>کربو هیدرا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788000" y="1887480"/>
            <a:ext cx="863640" cy="503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"/>
          <p:cNvSpPr/>
          <p:nvPr/>
        </p:nvSpPr>
        <p:spPr>
          <a:xfrm>
            <a:off x="6156360" y="1887480"/>
            <a:ext cx="1152360" cy="503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4860720" y="188748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6054840" y="195912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5776560" y="1906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5076720" y="2895480"/>
            <a:ext cx="57492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6"/>
          <p:cNvSpPr/>
          <p:nvPr/>
        </p:nvSpPr>
        <p:spPr>
          <a:xfrm>
            <a:off x="6012000" y="2895480"/>
            <a:ext cx="57456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6948360" y="2895480"/>
            <a:ext cx="57492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005080" y="29671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9"/>
          <p:cNvSpPr/>
          <p:nvPr/>
        </p:nvSpPr>
        <p:spPr>
          <a:xfrm>
            <a:off x="5652720" y="2967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0"/>
          <p:cNvSpPr/>
          <p:nvPr/>
        </p:nvSpPr>
        <p:spPr>
          <a:xfrm>
            <a:off x="5944680" y="29671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6589440" y="2967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6881040" y="29671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3148920" y="33987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1707840" y="36147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چربی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1714680" y="64296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 ارتباط کربوهیدراتها با فعالیت های کوتاه مد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25"/>
          <p:cNvSpPr/>
          <p:nvPr/>
        </p:nvSpPr>
        <p:spPr>
          <a:xfrm>
            <a:off x="719280" y="4429080"/>
            <a:ext cx="6924600" cy="26539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توصیه برای ورزشکاران سرعت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حداقل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5/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ساعت قبل از مسابقه غذا بخور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رنامه غذایی مطابق با عادت تغذیه ای با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غذای سرشار از کربوهیدرات به دلیل اثر انسولین مصرف نش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0" y="7858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بخش سوم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66"/>
                </a:solidFill>
                <a:latin typeface="Century Schoolbook"/>
                <a:cs typeface="Arial"/>
              </a:rPr>
              <a:t>كربوهيدراتها و نقش آنها در تغذيه 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66"/>
                </a:solidFill>
                <a:latin typeface="Century Schoolbook"/>
                <a:ea typeface="Arial"/>
              </a:rPr>
              <a:t> ارتباط كربوهيدراتهاي با فعالیت های ورزشي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5" descr="LOAF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4005360"/>
            <a:ext cx="5400720" cy="167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42920" y="428400"/>
            <a:ext cx="8532720" cy="214308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فعالیت درازمدت و نسبتاً سنگین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← بین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ـ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ساعت  فوتبال: دوها (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30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0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کیلومتر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شدت فعالیت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%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درجه اول تأمین انرژی به عمده هیدراتها کربن و سپس چربی ه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214200" y="2992320"/>
            <a:ext cx="8358480" cy="18493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توصیه برای ورزشکاران سرعت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حداقل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5/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ساعت قبل از مسابقه غذا بخور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رنامه غذایی مطابق با عادت تغذیه ای با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غذای سرشار از کربوهیدرات به دلیل اثر انسولین مصرف نش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57120" y="2198520"/>
            <a:ext cx="8175600" cy="19447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وصیه ها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سه روز قبل خوردن هیدرات کربن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خوردن قند در حین مسابق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خوردن محلول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% گلوکز ←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رم شکر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لیتر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2" name="Picture 5" descr="2-cf-supplements-gain"/>
          <p:cNvPicPr/>
          <p:nvPr/>
        </p:nvPicPr>
        <p:blipFill>
          <a:blip r:embed="rId1"/>
          <a:stretch/>
        </p:blipFill>
        <p:spPr>
          <a:xfrm>
            <a:off x="2571840" y="4357800"/>
            <a:ext cx="4000320" cy="244944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sp>
        <p:nvSpPr>
          <p:cNvPr id="503" name="Rectangle 2"/>
          <p:cNvSpPr/>
          <p:nvPr/>
        </p:nvSpPr>
        <p:spPr>
          <a:xfrm>
            <a:off x="142920" y="571680"/>
            <a:ext cx="8572320" cy="150012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Century Schoolbook"/>
              </a:rPr>
              <a:t>فعالیت درازمدت و سبک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← 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3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تا 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4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ساعت مثل دوی ماراتن، کوهنورد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ابتدای فعالیت هیدرات کربن، انتها چربی (سیستم هواز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2"/>
          <p:cNvSpPr/>
          <p:nvPr/>
        </p:nvSpPr>
        <p:spPr>
          <a:xfrm>
            <a:off x="2367000" y="2421000"/>
            <a:ext cx="2808360" cy="64764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3"/>
          <p:cNvSpPr/>
          <p:nvPr/>
        </p:nvSpPr>
        <p:spPr>
          <a:xfrm rot="1930800">
            <a:off x="2343240" y="3068640"/>
            <a:ext cx="2160360" cy="24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6"/>
          <p:cNvSpPr/>
          <p:nvPr/>
        </p:nvSpPr>
        <p:spPr>
          <a:xfrm>
            <a:off x="1071720" y="2492280"/>
            <a:ext cx="2087280" cy="21607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2079720" y="3500280"/>
            <a:ext cx="718920" cy="8654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"/>
          <p:cNvSpPr/>
          <p:nvPr/>
        </p:nvSpPr>
        <p:spPr>
          <a:xfrm>
            <a:off x="2079720" y="3500280"/>
            <a:ext cx="107928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9"/>
          <p:cNvSpPr/>
          <p:nvPr/>
        </p:nvSpPr>
        <p:spPr>
          <a:xfrm>
            <a:off x="5464080" y="2924280"/>
            <a:ext cx="792360" cy="433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6688080" y="2924280"/>
            <a:ext cx="1150920" cy="433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1"/>
          <p:cNvSpPr/>
          <p:nvPr/>
        </p:nvSpPr>
        <p:spPr>
          <a:xfrm>
            <a:off x="474336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704844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589608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1398960" y="290052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کربوهیدرا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5"/>
          <p:cNvSpPr/>
          <p:nvPr/>
        </p:nvSpPr>
        <p:spPr>
          <a:xfrm>
            <a:off x="2393280" y="36450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چربی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6"/>
          <p:cNvSpPr/>
          <p:nvPr/>
        </p:nvSpPr>
        <p:spPr>
          <a:xfrm>
            <a:off x="5465520" y="2924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7"/>
          <p:cNvSpPr/>
          <p:nvPr/>
        </p:nvSpPr>
        <p:spPr>
          <a:xfrm>
            <a:off x="6569280" y="292896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8"/>
          <p:cNvSpPr/>
          <p:nvPr/>
        </p:nvSpPr>
        <p:spPr>
          <a:xfrm>
            <a:off x="4744800" y="4797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9"/>
          <p:cNvSpPr/>
          <p:nvPr/>
        </p:nvSpPr>
        <p:spPr>
          <a:xfrm>
            <a:off x="5900400" y="4797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7103160" y="4792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3492720" y="206064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755640" y="6429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</a:rPr>
              <a:t> ارتباط کربوهیدراتها با فعالیت های دراز مد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5"/>
          <p:cNvSpPr txBox="1"/>
          <p:nvPr/>
        </p:nvSpPr>
        <p:spPr>
          <a:xfrm>
            <a:off x="1357200" y="857160"/>
            <a:ext cx="6088320" cy="47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پايان</a:t>
            </a:r>
            <a:endParaRPr b="0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0" y="164268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اول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ساختار، انواع و منابع غذایی كربوهيدراتها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684000" y="42840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ea typeface="Arial"/>
              </a:rPr>
              <a:t>. کربوهیدراتها و ساختمان آن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قندها مهمترین و ارزانترین منبع انرژی ان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9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نرژی ← کشورهای فقی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نرژی ← کشورهای غ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کالری مورد نیاز روزانه ازخوردن مواد قندی تامین می گرد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5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رم مواد قندی ← روزانه در رژیم غذایی متعادل موجود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ساختمان ← اتمهای کربن، هیدروژن، اکسیژ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نسبت اتم هیدروژن به اکسیژ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ه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Line 5"/>
          <p:cNvSpPr/>
          <p:nvPr/>
        </p:nvSpPr>
        <p:spPr>
          <a:xfrm flipH="1">
            <a:off x="4642920" y="2565360"/>
            <a:ext cx="50508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6"/>
          <p:cNvSpPr/>
          <p:nvPr/>
        </p:nvSpPr>
        <p:spPr>
          <a:xfrm flipH="1" flipV="1">
            <a:off x="4643280" y="2925360"/>
            <a:ext cx="43344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95280" y="263700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از خوردن مواد قندی تامین می شو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56760" y="35712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طبقه بندی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منو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تا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تم کربن </a:t>
            </a:r>
            <a:r>
              <a:rPr b="0" lang="fa-IR" sz="1800" spc="-1" strike="noStrike">
                <a:solidFill>
                  <a:srgbClr val="ff0000"/>
                </a:solidFill>
                <a:latin typeface="Century Schoolbook"/>
                <a:ea typeface="Arial"/>
              </a:rPr>
              <a:t>(گلوکز، فروکتوز، گالاکتوز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دی 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نو ساکارید که یک ملکول آب از دست داده است. [ساکارز (گلوکز+فروکتوز)، لاکتوز (گلوکز+گالاکتوز)، مالتوز (گلوکز+گلوکز)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پلی 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اهی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00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500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نوساکارید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"/>
          <p:cNvSpPr/>
          <p:nvPr/>
        </p:nvSpPr>
        <p:spPr>
          <a:xfrm>
            <a:off x="642960" y="557280"/>
            <a:ext cx="757224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</a:rPr>
              <a:t>انواع پلی ساکاریدها :</a:t>
            </a:r>
            <a:r>
              <a:rPr b="0" lang="fa-I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پلی ساکاریدهای گیاه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سلولز، نشاسته، گلوک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نشاسته </a:t>
            </a:r>
            <a:r>
              <a:rPr b="0" lang="fa-IR" sz="24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فراوانترین پلی ساکارید گیاهی</a:t>
            </a:r>
            <a:r>
              <a:rPr b="0" lang="fa-IR" sz="2400" spc="-1" strike="noStrike">
                <a:solidFill>
                  <a:srgbClr val="ff0000"/>
                </a:solidFill>
                <a:latin typeface="Times New Roman"/>
              </a:rPr>
              <a:t> 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هنگام هضم ← ابتدا به مالتوز ← گلوک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سلولز ← سازنده دیواره ساختمان گیاهان ← در برابر آنزیم های گوارشی مقاوم ← در بدن جذب نمی شود ← به دفع مواد زاید کمک می کن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28400" y="10713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پلی ساکارید حیوا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← در آب محلول است ← حدود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35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لیکوژن در بدن ذخیره است 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108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کبد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24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عضلا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ورزشکاران تا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رابر هم می رس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مواقع نیاز گلیکوژن تجزیه شده ← گلوکز ← روند تبدیل گلیکوژن کبدی به گلوکز را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گلیکوژنولیز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وی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جزیه مواد غذایی مثل پروتئین و تبدیل آن به گلوکز ←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گلوکونئوژن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28400" y="10713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دو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هضم، جذب و سوخت و ساز کربوهیدراتها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000" y="428760"/>
            <a:ext cx="78483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هضم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ولین مرحله هضم در دهان ← مخلوط با بزاق ← آنزیم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پتیالین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(آلفا ـ آمیلا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پتیالن    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نشاسته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مالتوز     فقط برای مدت کوتاهی، به علت اینکه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زاق خنثی است با ورود غذا به معده آمیلاز بزاقی غیرفعال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هضم نشاسته در معده به علت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کمتر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توقف شد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وارش مجدد در دوازدهه ← شیره لوزالمعده      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نشاسته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مالتو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روده باریک ←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آنزیم لاکتاز و سوکراز، مالتازبه ترتیب بر روی لاکتوز ساکارزو مالتوز اثر می کن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Line 5"/>
          <p:cNvSpPr/>
          <p:nvPr/>
        </p:nvSpPr>
        <p:spPr>
          <a:xfrm flipH="1">
            <a:off x="6300360" y="2130480"/>
            <a:ext cx="10796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6"/>
          <p:cNvSpPr/>
          <p:nvPr/>
        </p:nvSpPr>
        <p:spPr>
          <a:xfrm flipH="1">
            <a:off x="2050920" y="3643200"/>
            <a:ext cx="13687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142920" y="5086440"/>
            <a:ext cx="857232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وقتی کربوهیدراتها مجددا به مونوساکاریدها تجزیه می‌شوند،آنزیمهای خاصی یونهای هیدروژن و هیدروکسیل را به پلی‌ساکاریدها باز می‌گردانند و به این وسیله مونوساکاریدها را از یکدیگر جدا می‌کنند. این روند، هیدرولیز نامیده می‌شون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2:05:47Z</dcterms:created>
  <dc:creator>akbar</dc:creator>
  <dc:description/>
  <dc:language>en-US</dc:language>
  <cp:lastModifiedBy>Melisa Joon</cp:lastModifiedBy>
  <dcterms:modified xsi:type="dcterms:W3CDTF">2020-04-04T07:57:35Z</dcterms:modified>
  <cp:revision>97</cp:revision>
  <dc:subject/>
  <dc:title>Slide 1</dc:title>
</cp:coreProperties>
</file>