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2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2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ED1C-21B3-4CEC-95CB-33D2C15C37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FF4A-2267-4679-9DAB-93C33194AFF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C355-6B88-429F-BE7B-4B73D91D84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F347-5000-4090-B946-90DAD1E6B3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B3B1-01CF-4314-9CE6-AD0176160A5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830A-193F-47E3-8912-5ADD6D7DF8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3CB4-ECF7-4585-BD25-33306EE946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AFA8-EF24-48C5-9FFA-2FD162BDA3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1AA3-D607-4FEF-B8C7-638B75F65C1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2FD4-BE7E-484A-AE10-FB00F54397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2860-31AE-4DA7-8081-9992179FCF0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88AD-29AF-4DD8-B866-95A1D89224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6483-94AB-4C14-B295-8B0ED24703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DE97-CEFA-47FC-AFC1-A3FEF79BD0E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622D-3CF4-46E7-8F5E-93F3BE6A0A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5C3F-265F-4E30-9979-C2CD681F02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D361-78FD-4AE9-B9E3-941D7E6B260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F67-B79B-4A95-949F-2BC7EF44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63E-2548-4CF2-ABE0-08F3CEDD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F0CF3-BD6F-4F20-9DE1-2A01D9D0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D3281-D050-4A60-AC19-5CDA22C0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B65DE-214D-4B81-B8FF-10EEC23B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7813B-247E-472D-B28F-E5160FE0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34581-8522-43D7-B8A2-5C6FACCD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4BBDC-A49E-4E40-88FC-3DD95CBE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EEA1F-5CDE-4789-B077-462A36DE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A1B2C-E264-4859-BD34-0E1A19EE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6466B-0DC4-49B5-9B69-760CD8D7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4DB-57EA-46CB-88E2-4E3F1813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3EB-E47F-4AF3-A9B3-69FF1A74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23C6-4913-429C-AC98-C36129F9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640C-E4A3-4EC6-A52B-011A3753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8843-EE7B-4E56-B435-6E123EAF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667D-CFF4-4421-A8B4-A5C45976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37A5-A8C5-4DA2-9782-C0E558FB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FF99-E4FF-48D6-BDAC-2D67B5E0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838E-942C-4D2A-95B9-AADC256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52E-6BED-433E-9A03-0957DF16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1242-D082-487B-813D-F0AC6D99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C454-75AF-4973-BECD-AF5496D4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1364-D7B2-4BE8-9B41-AEC8A7EE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8D7A-E005-4F84-A34A-E9A50CD2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1BF6-5D33-4507-B4A1-89215A47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CAE1D-B9A2-4822-AE59-9DF68582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DF650-621C-4694-BBAA-5465DBC4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77747-F3E1-4BB3-BCFE-FD32ECFB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78204-93FC-4B6A-B71D-4DFFF03E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E2F47-9F5B-4E9B-A1EC-A1F8FABB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458-4D6F-4E39-A18B-FA17F2DE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DEB9C-9D01-489A-AD01-3D0FBEE6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04A10-D6AB-477D-BC42-78618706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D43BF-2987-49E8-B15B-D0A5531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7CFFB-8758-40FE-8E47-9E280DD9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8A92D-85ED-48DF-9AA3-37FD6366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2AD60-BD0B-4227-ADF3-2020E361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B4440-9634-47B8-B810-26037834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2009C-1B9A-49B7-9B71-3EF51C93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7E0F6-69A7-4753-B607-BC6B0A98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7311-67F6-4241-8801-B83A52C8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17E-6E8B-4BE4-A32E-99699D71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7BBD8-702A-4326-AE81-5FF06E15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EBBB-6AF8-4ED1-B073-A36D6BE6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7023A-8E11-4309-9E98-0C811743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947D-44C4-4F70-990E-B90CCDC8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2C19-CC63-458B-89E6-EFA07D5F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CA73-6484-49B3-BD4B-7DB6B4F1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E4E91-3F72-42A6-B42F-97F4284B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E02C-8DD6-4596-BF1D-22472D0C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F2DE-ED9B-456C-AEFA-7DA0A1EB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07241-8F68-45E9-ABC6-93C93C01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ED7-B688-45FA-A713-B1BADBB4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D9DE1-4FF5-4D3A-B3FA-6E3CBB5F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56243-86C1-40BC-BEFF-121BFF67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5732D-B081-40AA-9791-854E621F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AED7C-2F15-4515-9258-AA5BF710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C9CE7-DC29-4AA6-BADF-01A65403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61334-C5AE-4629-B155-AFCA0741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A4CDE-9AD2-4ACC-B566-FE9321AB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2E24C-3FC8-43C9-9F4A-BD61F2FC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D17C5-B715-4FD9-8ED2-47098261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ACC14-750D-4E11-B95F-561B3157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CBA-82A0-4E6F-9789-C6952E57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C9DF7-D2A8-4B8B-87F1-564DBBFB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F3331-23E6-4495-A45D-9DF973B9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F1A64-0A91-4A1C-B739-85A419D6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4110D-7933-446C-A505-7952BE88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3ECE1-3313-495B-A615-D7010743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BA80E-A5E5-42B6-8BBC-A58905C9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1F883-C6CE-4899-8178-2955159F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5A901-443F-401A-9932-40B862BB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358BF-2FF0-4148-A768-DAF3A363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8CBFC-F080-4573-9DF7-75993017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CA7-9135-4A16-93F6-769AC69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E44E0-D0D0-4CFC-9AF7-DA82A791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2B2E8-9C16-4E6C-8255-9A4BE651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39BAE-17DA-4EFE-99FA-1411690D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F9484-215F-441C-BCBC-4F4941B3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DEEE2-874E-4AF5-89E2-80B9F814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0827D-857E-4E9D-B36E-C95065A2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ABC9A-E7C6-4E75-B89C-7FB459DE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A6389-9E03-4FF9-B410-D55F58FF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72392-03AB-48F1-ACA1-980DE20C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E1D09-B738-45C8-8D6F-824C8252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7BB-6321-4142-9BB6-5D7E7F0E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BBA99-C5F5-4EA4-9C69-E929901E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32056-C027-4173-B345-F417074E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F8D28-B3DA-4C75-AD01-2312CCC1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6A486-6588-4388-B905-7A03AD14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01DB6-484D-4BAB-AFCD-48A04E98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23B69-94DD-4039-B236-E806688F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EF65D-E3B1-4CD8-B5A9-6B3F9484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669A1-5EB2-467C-89EE-CFE1753A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29F8F-A351-4120-85C8-C4753936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352AD-5CFC-45E1-84C3-96127D51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0C9-891F-42C9-A65E-AEC9BC4C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308B0-6EF4-4484-A59C-7BC39DD1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AE3B3-ABE4-4A8F-BFB1-F446CE1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E4146-6505-4E0B-97FF-DFADD3CE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9591F-27C5-41E2-A4A0-EBC05D41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0E550-6688-400B-B047-F2A75A75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57556-09C0-494B-892A-C3D2ABC9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7B774-AB5D-4894-8931-71E12D60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62EA3-09D6-4FD9-9EF8-6736C451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7DA91-789D-4BC9-9D70-30A9EA2E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7E08B-2280-4AEC-B3B5-2574AE7A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82E5-D4EB-4A98-848E-476B9B27B5F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2E64-9492-4415-A066-34936CD9B05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708A-BB1D-45F5-A1BC-62E4E7A0DDE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514B-D4E0-4295-8C45-EE7601FAAC0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984E-DD37-442F-84FC-F7FCDF63D48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DCFB-57D6-421F-9ABB-FC343C04451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583F-567C-48AF-AD0A-AF86A267F5D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D44D-61A0-4BED-AA2B-82344017746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3602-AA8B-4017-B03F-645E1822AF1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1403280" y="2349360"/>
          <a:ext cx="6553440" cy="3127680"/>
        </p:xfrm>
        <a:graphic>
          <a:graphicData uri="http://schemas.openxmlformats.org/drawingml/2006/table">
            <a:tbl>
              <a:tblPr/>
              <a:tblGrid>
                <a:gridCol w="4105440"/>
                <a:gridCol w="1439640"/>
                <a:gridCol w="100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الری روزانه(سوخت و ساز پای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(سال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 به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*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 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22"/>
          <p:cNvSpPr/>
          <p:nvPr/>
        </p:nvSpPr>
        <p:spPr>
          <a:xfrm>
            <a:off x="622440" y="1428840"/>
            <a:ext cx="73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برآورد میزان سوخت و ساز پایه (از سازمان بهداشت جهان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655560" y="1557360"/>
          <a:ext cx="7559640" cy="4986360"/>
        </p:xfrm>
        <a:graphic>
          <a:graphicData uri="http://schemas.openxmlformats.org/drawingml/2006/table">
            <a:tbl>
              <a:tblPr/>
              <a:tblGrid>
                <a:gridCol w="3229200"/>
                <a:gridCol w="43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کالری مورد نیا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وه سنی و شرایط فیزیولوژیک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گرم وزن بدن 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کیلو گرم وزن بدن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ودک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از تولید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اهگی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هگی تا یک سالگی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س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: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و بیشتر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خت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 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 بیشتر                                                            آبستنی                                                                  شیرده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 Box 15"/>
          <p:cNvSpPr/>
          <p:nvPr/>
        </p:nvSpPr>
        <p:spPr>
          <a:xfrm>
            <a:off x="928800" y="42876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مقدار نیازهای روزانه انرژی به نسبت کالری در سنین و شرایط مختلف فیزیولوژیک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57120" y="642600"/>
            <a:ext cx="8175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ارزش حرارتی مواد غذای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غیر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سوختن غذاها در حضور اکسیژن در بمب حرارت سنج وتعیین کالری بر حسب حرارت تولید شد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رزش حرارتی هر گرم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Line 5"/>
          <p:cNvSpPr/>
          <p:nvPr/>
        </p:nvSpPr>
        <p:spPr>
          <a:xfrm flipH="1" flipV="1">
            <a:off x="3492000" y="1279080"/>
            <a:ext cx="57492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6"/>
          <p:cNvSpPr/>
          <p:nvPr/>
        </p:nvSpPr>
        <p:spPr>
          <a:xfrm flipH="1">
            <a:off x="3492000" y="1638360"/>
            <a:ext cx="57492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900000" y="4000680"/>
          <a:ext cx="4751640" cy="1828800"/>
        </p:xfrm>
        <a:graphic>
          <a:graphicData uri="http://schemas.openxmlformats.org/drawingml/2006/table">
            <a:tbl>
              <a:tblPr/>
              <a:tblGrid>
                <a:gridCol w="1619280"/>
                <a:gridCol w="1922400"/>
                <a:gridCol w="1209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دن انس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مب کالری سنج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قند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چربی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پروتئین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85840" y="2357280"/>
            <a:ext cx="82468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مستقیم: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طاقکی سرپوشیده که اطراف آن را حجم معینی از آب گرفته و فرد یا حیوان داخل اطاقک قرار می گیرد و با اندازه گیری تغییرات درجه حرارت آب میزان حرارت آزاد شده را تعیین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غیرمستقیم: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دلیل مشکلات روش مستقیم اندازه گیری تبادلات گازها مد نظر قرار گرف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357120" y="504360"/>
            <a:ext cx="8072640" cy="183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19e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چون تمام انرژی تولید شده در بدن سرانجام به صورت حرارت آزاد می شود بنابراین اندازه گیری حرارت آزاد شده با یکی از روشهای زیرصورت می‌گیرد</a:t>
            </a: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28400" y="12855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تبادلات گازها (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،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← میزان حرارت دفع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یین میزان دفع اوره (پروتئین ها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نسبت تنفسی غذاها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ها 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→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=1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 ها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→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3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3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→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13840" y="928440"/>
            <a:ext cx="8318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 ها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ه دلیل نوع ساختمان شیمیایی و همچنین اوره دفعی نمی توان نسبت تنفسی مشخصی تعیین کرد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غذای مخلوط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2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 گرم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انرزی به ازای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انرژی تولی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5/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4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/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6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5"/>
          <p:cNvSpPr txBox="1"/>
          <p:nvPr/>
        </p:nvSpPr>
        <p:spPr>
          <a:xfrm>
            <a:off x="1500120" y="1714680"/>
            <a:ext cx="6215040" cy="39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SLIDE1_1"/>
          <p:cNvPicPr/>
          <p:nvPr/>
        </p:nvPicPr>
        <p:blipFill>
          <a:blip r:embed="rId1"/>
          <a:stretch/>
        </p:blipFill>
        <p:spPr>
          <a:xfrm>
            <a:off x="0" y="0"/>
            <a:ext cx="5500800" cy="6929280"/>
          </a:xfrm>
          <a:prstGeom prst="rect">
            <a:avLst/>
          </a:prstGeom>
          <a:ln w="0">
            <a:noFill/>
          </a:ln>
        </p:spPr>
      </p:pic>
      <p:sp>
        <p:nvSpPr>
          <p:cNvPr id="454" name="TextBox 7"/>
          <p:cNvSpPr/>
          <p:nvPr/>
        </p:nvSpPr>
        <p:spPr>
          <a:xfrm>
            <a:off x="6143760" y="90504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بخش اول</a:t>
            </a: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5357880" y="187164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imes New Roman"/>
              </a:rPr>
              <a:t>تاریخچه و شناخت مفاهیم مربوط به تغذی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5023800" y="3741840"/>
            <a:ext cx="46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اول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تاریخچه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دوم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مفاهیم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500040" y="907920"/>
            <a:ext cx="78487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ی از ارتباط بین انسان و موجودات اطراف ← ارتباط تغذیه ای اس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رکیب شیمیایی انسان بالغ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آب  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مواد معدنی 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0%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واد آل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( گلوسید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چربی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7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پروتئین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ea typeface="Arial"/>
              </a:rPr>
              <a:t>	</a:t>
            </a: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cs typeface="Arial"/>
              </a:rPr>
              <a:t>سلول برای زنده ماندن باید مرتباً این مواد را به بدن برسان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142920" y="3834360"/>
            <a:ext cx="8501040" cy="2288520"/>
          </a:xfrm>
          <a:prstGeom prst="rect">
            <a:avLst/>
          </a:prstGeom>
          <a:gradFill rotWithShape="0">
            <a:gsLst>
              <a:gs pos="0">
                <a:srgbClr val="fe8637">
                  <a:alpha val="89019"/>
                </a:srgbClr>
              </a:gs>
              <a:gs pos="50000">
                <a:srgbClr val="ffe8d9">
                  <a:alpha val="92156"/>
                </a:srgbClr>
              </a:gs>
              <a:gs pos="100000">
                <a:srgbClr val="fe8637">
                  <a:alpha val="89019"/>
                </a:srgbClr>
              </a:gs>
            </a:gsLst>
            <a:lin ang="2700000"/>
          </a:gra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وع ماده غذایی ← که همه را بدن سنتز نمی ک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ر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عواملی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یماری            ← نیاز انسان به غذا را افزایش می ده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فعالیت جسمان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حرک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684000" y="1699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همین خاطر تغذیه به صورت علم شناخته شده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لاوازیه پایه گذار علم تغذیه در قر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ریف علم تغذیه ← رساندن مواد غذایی به بدن به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مقدار مناسب</a:t>
            </a:r>
            <a:r>
              <a:rPr b="0" lang="fa-IR" sz="2400" spc="-1" strike="noStrike" u="sng">
                <a:solidFill>
                  <a:srgbClr val="000066"/>
                </a:solidFill>
                <a:uFillTx/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انتخاب غذاها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نحوی که احتیاجات روزانه انسان را برآورده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فعل و انفعالاتی که موجب می شود که سلول موجود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زنده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اشد،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رشد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ند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نگهدار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حرارت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جهت تأمین اعمال حیاتی را علم تغذیه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13840" y="856800"/>
            <a:ext cx="83185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کارهایی که مواد غذایی انجام می دهد به شرح زیر اس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رفع گرسن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انرژ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مواد جهت رشد، نموو ترم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ویتامین ها و مواد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شش نوع ماده غذایی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واد غذایی انرژی زا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02920" y="928800"/>
            <a:ext cx="6048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0" algn="ct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طبقه بندی عوامل مغذی براساس کاربرد آنها در بد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785880" y="2000160"/>
          <a:ext cx="7143840" cy="3429000"/>
        </p:xfrm>
        <a:graphic>
          <a:graphicData uri="http://schemas.openxmlformats.org/drawingml/2006/table">
            <a:tbl>
              <a:tblPr/>
              <a:tblGrid>
                <a:gridCol w="2427120"/>
                <a:gridCol w="2560680"/>
                <a:gridCol w="2156040"/>
              </a:tblGrid>
              <a:tr h="682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اربرد در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شد و ترمیم باف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نظیم اعمال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بع انرژ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 (آنزیمها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ربوهیدرا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چربی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14200" y="1199880"/>
            <a:ext cx="828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نظیم اعمال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و آنزیم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شد و ترمیم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نبع غذایی برای انسا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یوا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گیاه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این غذاها را به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گروه طبقه بندی می کنن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ارای پروتئین (گوشت)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(گیاهی و حیوانی)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غلات و برن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شیر و فراورده های لب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) سبزی ها و میوه 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نوشیدنی 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684000" y="6426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تابولیسم پایه: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حداقل میزان انرژی که برای زنده ماندن لاز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که صرف (قلب، عروق، تنفس ، گوارش، اعصاب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تقریباً برابر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الری برای یک متر مربع در یک ساعت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رایط تعیین متابولیسم پایه عبارت اند ا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حالت استراحت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الت ناشتا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رجه محیط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لری روزان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ردان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2400 – 4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زنان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600 – 3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786120" y="4397760"/>
            <a:ext cx="448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مقدار محاسبه کالری براساس وزن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6/36 + 815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مرد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1/31 + 580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ز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84000" y="5713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آن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متابولیسم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کات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آن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ذرات شیمیایی غذا به هم پیوسته و ملکول های بزرگ و درشت تر ساخته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ی شو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بدیل گلوکز ← گلیکوژن         اسید آمینه ← پروتئی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این واکنش ها ← انرژی گیر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کات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ملکول های درشت به ذرات ریزتر تبدی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گلوکز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واکنش های انرژی ز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آنابولیسم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در دوره نمو اتفاق می افتد ← حجم ماده بالا می رود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تابولیسم ← در هنگام فعالیت اتفاق می افتد. ← حجم ماده کمتر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Line 5"/>
          <p:cNvSpPr/>
          <p:nvPr/>
        </p:nvSpPr>
        <p:spPr>
          <a:xfrm flipH="1" flipV="1">
            <a:off x="6786720" y="782280"/>
            <a:ext cx="57456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H="1">
            <a:off x="6786720" y="1143000"/>
            <a:ext cx="57600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2:48Z</dcterms:modified>
  <cp:revision>84</cp:revision>
  <dc:subject/>
  <dc:title>Slide 1</dc:title>
</cp:coreProperties>
</file>