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49C-4F20-4B56-A7F9-1F1B2FA4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766-44EF-4E7B-9F8F-7E600CDE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CCA-F67C-4073-A087-AB044E3D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301-A0F5-46E3-A437-B1B51E59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66FC-A739-4381-AFCF-475A870B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A2E0-59D9-4BBA-B1EC-22100C1D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5AC0-4820-44A1-9A22-36B0E951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31D8-3B50-4F41-823D-8034B2DF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135A-0798-4CE2-952A-846BF8B1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C87E-B87B-4715-A8A5-5EAE1C4E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E82A-1FCF-4E86-A2F6-B8229532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50B-9551-4765-A84F-B7D030D1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64D3-F3CF-49DE-A5C5-EA7D2F1E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A720-1A6A-41C0-BD06-A0DFD74D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DBD5-40FA-495F-B9F2-43029EF6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BA2A-0553-4674-BAE8-0A90CE6D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5531-E438-4A84-BD05-E16BFF95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678-3D57-4E79-9859-AE463AD1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090-8F84-4964-8EF8-10E34B6E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AC8-070F-4CFC-BA05-8FD8381F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D3F-702A-4428-992A-5D3B3999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32A-296B-48B9-9F2B-351D7FCC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B5A-6A9E-4973-A232-E64676E4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50A-F38A-414A-8EC4-D1648626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DBD0-E771-42BC-A28C-72AC73BFE0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BF3C-85A1-4013-98E1-7ADD269EC9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720" y="158400"/>
            <a:ext cx="8939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برنامه ریزی و توسعه</a:t>
            </a:r>
            <a:br>
              <a:rPr sz="4400"/>
            </a:b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فصل اول ودوم وسوم وچهار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7557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اليف : استاد جلال تجلیا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هيه كننده : ساراذکیان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258920" y="692280"/>
            <a:ext cx="7200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تفاوت های اصلی و اساسی کشورهای درحال توسع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1 . ( 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شرایط طبیعی ،جغرافیایی و جمعیت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57720" y="3244680"/>
            <a:ext cx="50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2 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شرایط فرهنگی و تاریخ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067280" y="46245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3. 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اختار اقتصا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356000" y="5805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4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حوه توزیع قدرت سیاس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900000" y="1773360"/>
            <a:ext cx="74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فصل سو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پدیده توسعه یافتگی و توسعه نیافت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826920" y="1052640"/>
            <a:ext cx="7129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دیدگاه او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رخی ازدانشمندان توسعه عقیده دارنداقتصادجهانی مانندمجموعه مرکبی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ست که اقتصاد های ملی عناصراین مجموعه اند هرچند این مجموعه دائما درحال تغییرو تحول می باشن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411280" y="1052640"/>
            <a:ext cx="58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تراکم اولیه ثرو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کال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سرمای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1125360"/>
            <a:ext cx="71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دیدگاه دوم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عده ای دیگری ازدانشمندان توسعه مبدا و ریشه اصلی پدیده توسعه یافت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و توسعه نیافتگی را انقلاب صنعتی می دانن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24000" y="907920"/>
            <a:ext cx="756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عوامل به وجود آورنده انقلاب صنع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عوامل اقتصاد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اجتماعی و فرهنگ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فن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-828720" y="1928880"/>
            <a:ext cx="12604680" cy="19317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184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فصل چهار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اهمیت نرخ رشد و نقش عوامل تولید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همیت نرخ رشد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درمیان شاخص های رشداقتصادی نرخ رشد درآمدتولید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رانه اهمیت خاصی دار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ین نرخ تعیین کننده نرخ درآمد کشوربه طورسرانه اس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55640" y="1197000"/>
            <a:ext cx="6300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زمین و نقش آن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الای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ظورازبالای زمین شرایط اقلیمی وآب وهوایی آن اس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سطح زمین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زیرزمین ومنابع زیرزمین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116000" y="1628640"/>
            <a:ext cx="6696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سرمایه و نقش آن در رشد اقتصادی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در اقتصاد معمولا اشکال تجربی سرمایه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ه قسمت می شود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شامل ماشین آلات و تجهیزات ،ساختمان ها و موجودی انبا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148392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توسعه اقتصادی فرآیندی است که در آن یک رشته تحولات و تغییرات بنیادی در ساختارهای اقتصادی اجتماعی ،فرهنگی و سیاسی جامعه به وقوع می پیوندن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889080" y="1052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منابع تامین سرمای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95280" y="1916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داخل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پس انداز شخص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نواع حق بیم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الیات،سود توزیع نشده،ذخیره استهلا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خارج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صادرات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ام از خار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سرمایه گذاری خارج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2286000" y="15825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نواع تکنولوژِ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بر یا سرمایه اندوز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سرمایه بر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یا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 اندو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خنثی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971640" y="98100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نقش دولت در 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332000" y="1989000"/>
            <a:ext cx="67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گسترش خدمات اجتماعی و زیرساخت های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یکی از مهمترین وظایف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گسترش خدمات اجتماعی است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ز جمله خدمات اجتماعی می توان به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آموزش و پرورش ، بهبود بهداشت عمومی و ایجاد امکانات رفاهی برای افراد جام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شاره نمود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24000" y="1341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یاست پولی و مالی و سیاست کسری بودج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03280" y="2505240"/>
            <a:ext cx="63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لی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مالی می توان به مخارج دولت و مالیات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شاره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نم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1280" y="3992400"/>
            <a:ext cx="72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پول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پولی می توان به سپرده قانونی ،نرخ تنزیل مجدد و خرید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وراق مشارکت اشاره نم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900000" y="620640"/>
            <a:ext cx="75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 (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بازرگانی بین الملل و سیاست های حمایت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86000" y="1916280"/>
            <a:ext cx="53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با اتخاذ سیاست های مناسب در جهت کاهش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سری تراز پرداخت ها یکسری اقدامات به شرح ذیل انجام دهد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920" y="2997360"/>
            <a:ext cx="72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واردات کالاهای لوکس و مصرف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ستفاده از کالاهای ساخت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قوانین صحیح که امر صادرات را تسریع نماید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مک و تشویق صادر کنندگان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تعرفه های گمرکی به کالاهای واردات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کسری تراز پرداخت ها با توجه به استقراض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 ه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ی به موقع و حساب شد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خارج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900000" y="14130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رشد 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عبارت است از : افزایش پیوسته و مستقر در تولید ناخالص ملی سرانه در یک کشور در بلند مد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-108000" y="836640"/>
            <a:ext cx="892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معیار های اندازه گیری رشد و توسعه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الف: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از حدود هفتاد سال پیش تا کنون برای رت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بندی کشور های جهان از لحاظ رشد و توسعه و نیز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رفاه اقتصادی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آنها از معیار درآمد ملی واقعی سرانه استفاده می ش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870280" y="620640"/>
            <a:ext cx="53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وریس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شاخص های کیفیت زندگ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1280" y="1773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ی با استفاده از سه شاخص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مید به زنگی در یک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ال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،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رگ و میر نوزادا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رخ با سوا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با استفاده از روش خاص درمحاسب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رتبه بندی می کن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26920" y="333360"/>
            <a:ext cx="734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سومین رشد شاخص رشد و توسعه 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: تحت عنوان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توسعه انسانی مطرح شده است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برخورداری از عمر طولانی همراه با سعادت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معرفت اندوزی و کسب عل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دسترسی به منابع و امکانات لازم برای برخورداری از یک زندگی مناس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93492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09480" y="10875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Verdana"/>
              </a:rPr>
              <a:t>فصل دوم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84360" y="9079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مشترکات و تفاوت های اصلی کشورهای درحال توسع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الف ( سطح پایین زندگ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987640" y="324468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ب (سطح پایین بهره وری نیروی کار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444760" y="42530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,Bold"/>
                <a:ea typeface="Calibri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ea typeface="Calibri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cs typeface="Calibri"/>
              </a:rPr>
              <a:t>ج  (</a:t>
            </a:r>
            <a:r>
              <a:rPr b="0" lang="ar-SA" sz="2800" spc="-1" strike="noStrike">
                <a:solidFill>
                  <a:srgbClr val="ffffff"/>
                </a:solidFill>
                <a:latin typeface="Arial,Bold"/>
                <a:cs typeface="Calibri"/>
              </a:rPr>
              <a:t>نرخ بالای زاد و ول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539640" y="2997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ه  ( وابستگی کشور به صادرات یک محصول خام یا کشاور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56000" y="1504800"/>
            <a:ext cx="62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د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رخ بالای بیکار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556000" y="465300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و 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دوگانگی اقتصادی واجتماع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7:40:29Z</dcterms:created>
  <dc:creator>Computer 1</dc:creator>
  <dc:description/>
  <dc:language>en-US</dc:language>
  <cp:lastModifiedBy>umet</cp:lastModifiedBy>
  <dcterms:modified xsi:type="dcterms:W3CDTF">2020-03-15T09:44:12Z</dcterms:modified>
  <cp:revision>58</cp:revision>
  <dc:subject/>
  <dc:title>فصل اول تعریف مالیات و انواع آ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