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ADC-8598-4C4A-A4E1-3D2D451E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F60-6434-4A66-80E7-A671D55A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DB8-1372-487B-967F-E7172EE7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7F0-BE85-4476-810B-A925709B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5249-7A5E-4FF5-A325-CEF4CBC2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1DBB-7E10-4CE6-BF8C-F5062F12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C205-81D5-4327-B0E7-E045ED1B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F7EA-9CAA-49B9-BE9A-D54AA110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4316-B5D0-47AD-9F96-018DB466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FCC2-7C02-4412-86F1-0E2F64F7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8F5A-E662-48F7-AA41-212CF4C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563-0CF3-46CA-8C99-1D0536FF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BD00-3284-4F5E-9FBC-4CEA5DFA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0289-BABB-4C87-8516-B3321C5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EA36-C635-4E0F-978F-AE425BDD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AB55-B8E4-4D3C-B7DE-5346DC82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3028-92F6-4C13-B115-6612F9D2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91B-6054-4140-A781-5ABBAADB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40F-F51F-4815-ADD1-0421CB5E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0B8-5627-4A47-8215-607305BB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A43-167F-4BC7-AD61-85F048B0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36A-04F7-45CD-B7A9-1B7DC15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BED-EA61-490B-85DB-01D4BF07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1FB-F649-4D04-8138-B9F6BE0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B40D-837E-4C44-8855-FB83FAA72E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D29B-3C0B-4E59-9BED-ED27013E52D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720" y="158400"/>
            <a:ext cx="8939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برنامه ریزی و توسعه</a:t>
            </a:r>
            <a:br>
              <a:rPr sz="4400"/>
            </a:b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فصل اول ودوم وسوم وچهار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7557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اليف : استاد جلال تجلیا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هيه كننده : ساراذکیان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258920" y="692280"/>
            <a:ext cx="7200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تفاوت های اصلی و اساسی کشورهای درحال توسع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1 . ( 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شرایط طبیعی ،جغرافیایی و جمعیت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57720" y="3244680"/>
            <a:ext cx="50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2 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شرایط فرهنگی و تاریخ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067280" y="462456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3. 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اختار اقتصا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356000" y="5805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4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حوه توزیع قدرت سیاس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900000" y="1773360"/>
            <a:ext cx="74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فصل سو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پدیده توسعه یافتگی و توسعه نیافت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826920" y="1052640"/>
            <a:ext cx="7129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دیدگاه او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رخی ازدانشمندان توسعه عقیده دارنداقتصادجهانی مانندمجموعه مرکبی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ست که اقتصاد های ملی عناصراین مجموعه اند هرچند این مجموعه دائما درحال تغییرو تحول می باشن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411280" y="1052640"/>
            <a:ext cx="58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تراکم اولیه ثرو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کال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سرمای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1125360"/>
            <a:ext cx="71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دیدگاه دوم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عده ای دیگری ازدانشمندان توسعه مبدا و ریشه اصلی پدیده توسعه یافت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و توسعه نیافتگی را انقلاب صنعتی می دانن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24000" y="907920"/>
            <a:ext cx="756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عوامل به وجود آورنده انقلاب صنع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عوامل اقتصاد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اجتماعی و فرهنگ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فن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-828720" y="1928880"/>
            <a:ext cx="12604680" cy="19317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0" y="184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فصل چهار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اهمیت نرخ رشد و نقش عوامل تولید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همیت نرخ رشد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درمیان شاخص های رشداقتصادی نرخ رشد درآمدتولید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رانه اهمیت خاصی دار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ین نرخ تعیین کننده نرخ درآمد کشوربه طورسرانه اس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55640" y="1197000"/>
            <a:ext cx="6300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زمین و نقش آن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الای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ظورازبالای زمین شرایط اقلیمی وآب وهوایی آن اس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سطح زمین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زیرزمین ومنابع زیرزمین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116000" y="1628640"/>
            <a:ext cx="6696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سرمایه و نقش آن در رشد اقتصادی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در اقتصاد معمولا اشکال تجربی سرمایه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ه قسمت می شود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شامل ماشین آلات و تجهیزات ،ساختمان ها و موجودی انبا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148392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توسعه اقتصادی فرآیندی است که در آن یک رشته تحولات و تغییرات بنیادی در ساختارهای اقتصادی اجتماعی ،فرهنگی و سیاسی جامعه به وقوع می پیوندن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889080" y="1052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منابع تامین سرمای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95280" y="19162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داخل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پس انداز شخص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نواع حق بیم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الیات،سود توزیع نشده،ذخیره استهلا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خارج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صادرات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ام از خار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سرمایه گذاری خارج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2286000" y="15825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نواع تکنولوژِ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بر یا سرمایه اندوز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سرمایه بر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یا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 اندو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خنثی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971640" y="98100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نقش دولت در 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332000" y="1989000"/>
            <a:ext cx="67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گسترش خدمات اجتماعی و زیرساخت های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یکی از مهمترین وظایف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گسترش خدمات اجتماعی است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ز جمله خدمات اجتماعی می توان به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آموزش و پرورش ، بهبود بهداشت عمومی و ایجاد امکانات رفاهی برای افراد جام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شاره نمود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24000" y="1341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یاست پولی و مالی و سیاست کسری بودج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03280" y="2505240"/>
            <a:ext cx="63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لی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مالی می توان به مخارج دولت و مالیات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شاره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نم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11280" y="3992400"/>
            <a:ext cx="72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پول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پولی می توان به سپرده قانونی ،نرخ تنزیل مجدد و خرید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وراق مشارکت اشاره نم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900000" y="620640"/>
            <a:ext cx="75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 (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بازرگانی بین الملل و سیاست های حمایت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86000" y="1916280"/>
            <a:ext cx="53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با اتخاذ سیاست های مناسب در جهت کاهش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سری تراز پرداخت ها یکسری اقدامات به شرح ذیل انجام دهد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50920" y="2997360"/>
            <a:ext cx="72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واردات کالاهای لوکس و مصرف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ستفاده از کالاهای ساخت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قوانین صحیح که امر صادرات را تسریع نماید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مک و تشویق صادر کنندگان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تعرفه های گمرکی به کالاهای واردات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کسری تراز پرداخت ها با توجه به استقراض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 ه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ی به موقع و حساب شد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خارج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900000" y="14130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رشد 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عبارت است از : افزایش پیوسته و مستقر در تولید ناخالص ملی سرانه در یک کشور در بلند مد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-108000" y="836640"/>
            <a:ext cx="892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معیار های اندازه گیری رشد و توسعه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الف: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از حدود هفتاد سال پیش تا کنون برای رت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بندی کشور های جهان از لحاظ رشد و توسعه و نیز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رفاه اقتصادی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آنها از معیار درآمد ملی واقعی سرانه استفاده می ش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870280" y="620640"/>
            <a:ext cx="53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وریس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شاخص های کیفیت زندگ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1280" y="177336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ی با استفاده از سه شاخص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مید به زنگی در یک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ال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،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رگ و میر نوزادا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رخ با سوا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با استفاده از روش خاص درمحاسب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رتبه بندی می کن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26920" y="333360"/>
            <a:ext cx="734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سومین رشد شاخص رشد و توسعه 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: تحت عنوان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توسعه انسانی مطرح شده است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برخورداری از عمر طولانی همراه با سعادت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معرفت اندوزی و کسب عل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دسترسی به منابع و امکانات لازم برای برخورداری از یک زندگی مناس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93492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609480" y="10875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Verdana"/>
              </a:rPr>
              <a:t>فصل دوم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84360" y="90792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مشترکات و تفاوت های اصلی کشورهای درحال توسع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الف ( سطح پایین زندگ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987640" y="324468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ب (سطح پایین بهره وری نیروی کار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444760" y="42530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,Bold"/>
                <a:ea typeface="Calibri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ea typeface="Calibri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cs typeface="Calibri"/>
              </a:rPr>
              <a:t>ج  (</a:t>
            </a:r>
            <a:r>
              <a:rPr b="0" lang="ar-SA" sz="2800" spc="-1" strike="noStrike">
                <a:solidFill>
                  <a:srgbClr val="ffffff"/>
                </a:solidFill>
                <a:latin typeface="Arial,Bold"/>
                <a:cs typeface="Calibri"/>
              </a:rPr>
              <a:t>نرخ بالای زاد و ول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539640" y="2997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ه  ( وابستگی کشور به صادرات یک محصول خام یا کشاور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556000" y="1504800"/>
            <a:ext cx="62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د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رخ بالای بیکار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556000" y="465300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و 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دوگانگی اقتصادی واجتماع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7:40:29Z</dcterms:created>
  <dc:creator>Computer 1</dc:creator>
  <dc:description/>
  <dc:language>en-US</dc:language>
  <cp:lastModifiedBy>umet</cp:lastModifiedBy>
  <dcterms:modified xsi:type="dcterms:W3CDTF">2020-03-15T09:44:12Z</dcterms:modified>
  <cp:revision>58</cp:revision>
  <dc:subject/>
  <dc:title>فصل اول تعریف مالیات و انواع آ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