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6E5F3-1435-40C0-96C6-CF305A5B0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408E8-5EA5-4E6D-93C7-9E6C4F7EB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8A741D2-1866-4EBF-BFE1-7DBCD0FA21C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05DE4E4-D044-4E63-895A-D0418269DC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72283C0-BFE7-4141-8867-187EFCDB983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FDE6C2F-9761-406F-8A0F-7A01DCEE760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B658E48-6864-4FEE-A7E6-27090EF34F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FF505C3-8775-450C-8CC5-7DA85C4C20A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DA3EE8D-E12C-494F-A3CE-0807490C2C3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E3EB45B-7AD7-4E02-80C1-4E043E3210B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9CFC921-C34D-480B-82ED-2A0A4D76FFB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C1041FA-8431-4B9F-9C17-13783A54E0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A194E-F915-4B8B-AD53-C34EA7582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D0A1D37-8C1F-4279-9DF0-894D360BDF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A8CF807-4C53-463D-8B95-E17DBD1706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0891069-ECF0-45F5-8732-4A927E17D9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11B9B1F-AD7D-4979-A85D-DD626F0ED1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20688C3-4322-460F-8191-96AEA56402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CA8E3CC-9877-4D3F-BA9C-06CD601387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5F019FF-168B-40C8-8530-081CE4754B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BEF344F-CE48-4F1B-8D16-4F3EA2ECB0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3F2933E-FC51-44A6-A3EA-9A4FE8AB1E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77147BA-1762-471D-AF81-E0DF7774B2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91BBB-99CB-4B69-9D9E-115ABA992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10E80CD-EC87-4C29-AD17-1121301EB1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D6F4147-BAE9-45AE-97F8-22D4178E27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E49042FC-B472-4102-B0D5-1D0BBE15CE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A1655EA-C24C-422B-B3C9-268EAEA726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4BDC3EB-80C9-4872-BAB2-26AC830085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0A00457-1524-4F20-A363-5A76A12053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ACE57EB-6924-49BA-AB9A-308F1932D9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B01EB26-22B6-42CB-89F2-BAD11E7DD3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3451714-3651-4D8A-9432-95E956AC91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46F6678-8E67-4E19-B9C6-5145306A07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49371-D397-4C40-86BC-3646D2470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C2BC4E6D-DA47-437D-8820-F4044A4356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CA042B81-70C1-474A-A8FD-CD3E48C94C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DF615C5D-F5CD-40F3-937E-FA1AC2F09E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4CA96F0-3F23-4605-911A-67AC227A25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B3BC130-B4B2-4053-9AA6-5BC2C4AB63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D386F78-E496-4C75-A4EA-E660E770EE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2ED7CE6-FE06-43AA-A3CF-07F5BC27DA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BC2B402-8CEF-4536-87EB-ECFDB55571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790C1DB-BE74-473E-8CF6-917E0BF0C5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52C676-5D45-4727-A894-2608D694A4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5ACD8-8C30-4AB0-B962-9D3EDB7E8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91E596B-2C81-44F5-9A32-1839E42D42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F60DFA5-7C22-43B8-8B5D-930165BD6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F26DF7E-424E-4810-BECE-8162056A8C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9031A01-2A8B-4069-92C6-29A52D420F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4A9004C-9094-4A89-9193-23C0AB7141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7175A-C813-46D5-AF20-1DDBBBA2C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40C05-9A49-434F-A6FA-15040C884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07327-ADA8-4DCC-B71B-522587C51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FEECB-82CD-4FEE-B69F-1FC07829E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62516-BA39-4276-8525-7D6A99517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CFB1-4D7B-4439-AC2C-148A81216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684C3-6EB4-480E-9AFF-59F0B01B2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C6E58-7807-48F6-918E-92109B7AF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51786-E4E0-469E-BC28-5389EBC43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D44E7-BF59-48E7-8794-F6129D64C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00D83-22B3-471C-B245-D354FCF05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794CE3-FA45-460D-ADF3-44E4A547F4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DD3DAB-3EAD-4994-B160-0AD191CF9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1383D-045B-405A-AB79-A123E95B0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E7841-4912-4A5C-ABDD-2F67F929B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3D6DB-7E08-417E-936B-68F1AD52D2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7CE1-A5C2-442B-B1A1-C5E555C14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52410E-6655-4BA4-96B0-19BDBC409B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4B041-080A-4E7F-9A85-AC0A853DD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DD6F4-E2EC-4E16-B996-F572881EF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0D316-EC95-4B77-9F48-304D3DE5D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57A38A-9AA4-4FCC-8FB1-C5DEB15CB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2912FC-20C7-4825-A175-888496540A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DEDD4-F625-4FB9-9CAD-0110BCFBAA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F17805C5-926E-4CB2-89D4-55FB1816C15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18AD8044-F84A-4C14-8230-AA78419543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C47916F4-97E6-46AC-9560-013CE39E85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55DAE-2C99-407E-9B95-F97DD673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78D0950-68FE-41A2-82BE-F733E1347D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3A547751-4688-4604-AC8F-0C85E80EF7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67A431A-AFEA-47EE-A184-75A2F79A74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DD9CE2D-0B3E-4720-8D7C-F51063E8CE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34214B1-4648-4395-8946-C7889FD3C1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FEB1FF55-15FF-490B-8410-AFBA36A3E3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59655F1E-B5B8-467E-BAA6-EE2C13C69F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1BBE1496-BC6D-4D08-ACCF-B71342A4306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84117580-9C67-4531-9558-61D2BC897DB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EC07C34B-9775-4F7E-8B51-F9240394DB0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C7CCE-0E4E-4E5D-92B9-90D598C7C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AB37257-1588-49B3-95BD-4271610407D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F18602E-760E-4A1A-B0FC-C391E13703E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751728A-071B-4F46-A813-93B2A1C2A9E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C580B9F-54B5-49CB-AC65-D82DC0FBC23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928748D-4D4D-4117-9019-FD3DE3E5002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DBA030F-8A43-4B06-B554-58CF686C17E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913D925-A03A-4DD4-A7BF-F1DDD594DDB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363BE7B-D208-4EA1-8433-A9B0CD56C6D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1D3AECA-D80F-47BE-9A78-E73187F7B7B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9FB677AD-B47D-4BC1-9BF1-A758B19F0FA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CAB59-8766-4F92-9B4C-0F7E0CFC3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58FA8884-9213-4B0E-BEC2-9594CDFD586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15D9C9F3-3918-4D4B-B497-39D7716B3AB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AB08030-E45F-445D-B4F6-D11598DB1AC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964AA8F7-A2FC-418F-A854-3B95C8B84D7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FA12EDA-2769-4925-9980-12B777BA9FB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98A7F194-C659-4B1D-9EC1-9CAD8745F73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9028892B-9C39-4134-8050-BEA2F7226D3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6D0ADD8-CF7F-4F33-B4FD-66D41063764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F77C990-2B56-4082-B90D-201AE586173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6F03BB6-B1EF-49D5-A584-46E49B8946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4AB0D-4984-43A2-B688-8E34BB935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DC415F2A-2602-44F7-B93F-C8A877C65BC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435366EE-01BC-4256-B802-828E5ED72DA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D2893427-2FBA-4F22-801C-789E5BFC8F7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3687E820-F181-49ED-986C-259374D2231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2F195C37-0A72-4A92-A8DE-74F73AEFA8E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4FC38274-39ED-4989-AFFB-93CB4708A8C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F7FDA674-E579-481B-8EBE-FD633E3F9AC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B4FA1B7E-A12E-4526-88D5-7FA5C5009D7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93D64F2C-CF8F-4A7D-A849-A59055815C1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D0C47754-2EED-4169-AD57-DB8915D712A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C873-977A-49F4-BA43-76FFDCAE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E186E1C-103A-4AA0-8352-511736A27F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CCD3861-A554-4BBD-ABB1-123D80872B9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A5A8E088-9E54-4048-B1B1-A9ABF630A2A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1650D2D7-3793-4F68-AB25-5958D188513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B5941903-AD86-4CCD-833A-0857B7D5A3A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FD46F401-72B5-41C1-A4DC-9AE06ABBCF4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629D0A1-5D52-48C2-B8D3-34C5052FB27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F2B1CBC2-5981-4E71-BEE4-9835FFDD4D0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8075EA4-24D9-4D94-8EE6-F9451D89BDC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105097FB-FB79-4BF0-9B14-B1DE5576A30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FCD1-4125-4DBC-855E-CE4EBCE89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39AA700-9B56-478B-B3A4-7A666A717A0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F1823DF-DE6B-4CFE-AF61-F3FEFF919AA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E74160FC-C474-46AE-9B85-1E818BA8CE2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59C67281-9309-4182-A6FA-0621CF87582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F4669FB-376C-4E28-9A2A-D9705A89A0A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5E8DA730-2C04-4F4A-996F-BFFEA9388C4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176761AD-AB35-4240-80F6-EF3C3F93B77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9EEE93A-8B24-4C40-A91F-7323D979B62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665864F-C5C0-48E0-82CB-B87309FFBA3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241D288-9CDF-4713-8963-E10A8854E9C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A079-69FF-4B2D-9A4B-30CF1970D0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06F4-EC70-4969-873A-35A90C9185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56FC-5578-411D-99AD-5ECB5EC3A5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83C2-E685-42AB-9090-538C1362DC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B46C-D859-4981-B748-4DF9CA62AF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C34B-4C80-4284-8BD5-40B51DAC92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272B-7971-408F-ABCD-5B3473547E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A0B5-234A-4576-A8C8-376D44E336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BA18-0543-4FC6-B887-5BF0F0D773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5A32-12C0-45A5-AC45-EBF52C196F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A5DD-C51D-432D-AC7C-05A0C20015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78B7-4C69-4471-9345-39D8BF2754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240"/>
            <a:ext cx="8686800" cy="6629400"/>
          </a:xfrm>
          <a:prstGeom prst="rect">
            <a:avLst/>
          </a:prstGeom>
          <a:noFill/>
          <a:ln w="0">
            <a:noFill/>
          </a:ln>
        </p:spPr>
        <p:txBody>
          <a:bodyPr anchor="t">
            <a:normAutofit fontScale="85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اكتورهاي ارزيابي منطقه:</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نيروي انساني:</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نيروي انساني بالقوه در منطقه چه اندازه اس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مهارت و تعليم و تربيت نيروي انساني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حقوق و دستمزد و مزاياي نقدي و غير نقدي كاركنان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سطح استاندارد زندگي در منطق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وند غيبت از كار نيروي انساني و همچنين ميزان تأخيرا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گرايشات نيروي كار به عضويت در اتحاديه هاي كارگري</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609120"/>
            <a:ext cx="8686800" cy="579132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كان بازار: (بازاري كه قرار است سرويس داده شو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هزينه حمل و نقل كالا از كار خانه تا بازار</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دوام و طول عمر محصول از نظر فاسد شدن  (در صورتي كه كالاي توليدي فاسد شدني باشد بايد محل كارخانه به بازار مصرف نزديك باشد)</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تردي و شكنندگي (براي كالا هاي شكستني هر چه بازار به كارخانه نزديكتر باشد بهتر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228240"/>
            <a:ext cx="8686800" cy="662940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حمل ونقل:</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تعيين وسيله حمل ونقل مواد و كالاها دو فاكتور هزينه و سرعت از اهميت بالائي برخوردارن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هاي آبي ( كشتي ارزانترين وسيله حمل ونقل اما كندترين وسيله حمل ونقل مي باش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آهن( از كشتي گرانتر  اما سريعتر است)</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جاده‌اي ( بسيار منعطف است)</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هوائي ( سريعترين وسيله حمل ونقل است اما هزينه بالائي دارد)</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لوله‌گذاري: از لوله‌گذاري صرفاً براي انتقال مايعات و مواد فله‌اي استفاده مي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228240"/>
            <a:ext cx="8686800" cy="662940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آب و هوا:</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ين عامل در رابطه با كارخانجاتي مطرح مي‌باشد كه به آب و هواي خاصي نياز دارند. اين فاكتور در صنعت كشاورزي بسيار مطرح مي‌با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
          <p:cNvSpPr txBox="1"/>
          <p:nvPr/>
        </p:nvSpPr>
        <p:spPr>
          <a:xfrm>
            <a:off x="152280" y="228240"/>
            <a:ext cx="8686800" cy="6629400"/>
          </a:xfrm>
          <a:prstGeom prst="rect">
            <a:avLst/>
          </a:prstGeom>
          <a:noFill/>
          <a:ln w="0">
            <a:noFill/>
          </a:ln>
        </p:spPr>
        <p:txBody>
          <a:bodyPr anchor="t">
            <a:normAutofit fontScale="9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كومتهاي محلي و وضعيت مالياتها: </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سئولين محلي چه امتيازاتي را براي كارخانجاتي كه در ناحيه استقرارمي‌يابند قائل هستن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وامل مؤثر در انتخاب مكان</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ندازه محل: آيا ميزان زميني كه در حال حاضر  نياز داريم در محل وجود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يش بيني نياز هاي آينده براي توسعه: آيا اندازه زمين، ظرفيت توسعه دارد ؟</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وضعيت زمين و فاضلاب: آيا زمين از سختي مورد نياز برخوردار است؟ آيا سيستم فاضلاب بر روي سختي زمين تأثيري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آب: آيا آب مناسب و كافي براي تأمين نياز ها وجود دارد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5" name=""/>
          <p:cNvSpPr txBox="1"/>
          <p:nvPr/>
        </p:nvSpPr>
        <p:spPr>
          <a:xfrm>
            <a:off x="152280" y="228240"/>
            <a:ext cx="8686800" cy="6629400"/>
          </a:xfrm>
          <a:prstGeom prst="rect">
            <a:avLst/>
          </a:prstGeom>
          <a:noFill/>
          <a:ln w="0">
            <a:noFill/>
          </a:ln>
        </p:spPr>
        <p:txBody>
          <a:bodyPr anchor="t">
            <a:normAutofit fontScale="96000"/>
          </a:bodyPr>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نيروي (برق و گاز )و يا هر نيروي ديگري كه در خط توليد لازم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امل انهدام ضايعات: آيا مكاني براي دفع ضايعات صنعتي وجود دارد؟</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خريد زمين: پولي كه بابت خريد زمين داده مي‌شود نسبت به كل سرمايه‌گذاري چقدر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طور کلی جهت طراحی یک محل تولیدی، باید مؤلفه های بسیاری را مورد بررسی قرار داد. این پارامترها شامل ارزیابی فرآیندهای تولید هر کالا، مشخصات هر محصول (شامل ابعاد، فسادپذیری و طول عمر و ...)، ارزیابی کار و زمان تولید، انبارداری، حمل و نقل و غیره می باشند.</a:t>
            </a:r>
            <a:endParaRPr b="0" lang="en-US" sz="2800" spc="-1" strike="noStrike">
              <a:solidFill>
                <a:srgbClr val="000000"/>
              </a:solidFill>
              <a:latin typeface="Calibri"/>
            </a:endParaRPr>
          </a:p>
          <a:p>
            <a:pPr marL="329040" indent="-32904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3520" y="2362320"/>
            <a:ext cx="8229600" cy="1249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IranNastaliq"/>
                <a:cs typeface="IranNastaliq"/>
              </a:rPr>
              <a:t>فصل سوم</a:t>
            </a:r>
            <a:endParaRPr b="0" lang="en-US" sz="5400" spc="-1" strike="noStrike">
              <a:solidFill>
                <a:srgbClr val="000000"/>
              </a:solidFill>
              <a:latin typeface="Calibri"/>
            </a:endParaRPr>
          </a:p>
        </p:txBody>
      </p:sp>
      <p:sp>
        <p:nvSpPr>
          <p:cNvPr id="911" name=""/>
          <p:cNvSpPr txBox="1"/>
          <p:nvPr/>
        </p:nvSpPr>
        <p:spPr>
          <a:xfrm>
            <a:off x="228240" y="4267080"/>
            <a:ext cx="8839080" cy="14479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طراحی موقعیت و محل کارخانه</a:t>
            </a:r>
            <a:endParaRPr b="0" lang="en-US" sz="5400" spc="-1" strike="noStrike">
              <a:solidFill>
                <a:srgbClr val="000000"/>
              </a:solidFill>
              <a:latin typeface="Calibri"/>
            </a:endParaRPr>
          </a:p>
        </p:txBody>
      </p:sp>
      <p:sp>
        <p:nvSpPr>
          <p:cNvPr id="912" name="Title 1"/>
          <p:cNvSpPr/>
          <p:nvPr/>
        </p:nvSpPr>
        <p:spPr>
          <a:xfrm>
            <a:off x="509760" y="609480"/>
            <a:ext cx="8229600" cy="124956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مكان يابي</a:t>
            </a:r>
            <a:endParaRPr b="0" lang="en-US" sz="4800" spc="-1" strike="noStrike">
              <a:solidFill>
                <a:srgbClr val="000000"/>
              </a:solidFill>
              <a:latin typeface="Calibri"/>
            </a:endParaRPr>
          </a:p>
        </p:txBody>
      </p:sp>
      <p:sp>
        <p:nvSpPr>
          <p:cNvPr id="914" name=""/>
          <p:cNvSpPr txBox="1"/>
          <p:nvPr/>
        </p:nvSpPr>
        <p:spPr>
          <a:xfrm>
            <a:off x="152280" y="1600200"/>
            <a:ext cx="8839440" cy="4525920"/>
          </a:xfrm>
          <a:prstGeom prst="rect">
            <a:avLst/>
          </a:prstGeom>
          <a:noFill/>
          <a:ln w="0">
            <a:noFill/>
          </a:ln>
        </p:spPr>
        <p:txBody>
          <a:bodyPr anchor="t">
            <a:normAutofit fontScale="9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كان يابي: يك فرايند كيفي و كمي مي‌باشد كه از طريق آن مي‌توان نقطه مطلوب يا مناسب را براي استقرار واحد صنعتي پيدا كر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رايند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يابي در طي سه مرحله انجام مي‌</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شود. در مرحله اول بايد از بين مناطق موجود يك منطقه را انتخاب كرد و سپس  در مرحله دوم از بي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 نواحي موجود در منطقة انتخاب شده يك ناحيه را انتخاب كرده و سپس در نهايت از بين مكا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هاي موجود در ناحية انتخاب شده يك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 را انتخاب كن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عوامل موثر بر تصميمات مكان يابي</a:t>
            </a:r>
            <a:endParaRPr b="0" lang="en-US" sz="4800" spc="-1" strike="noStrike">
              <a:solidFill>
                <a:srgbClr val="000000"/>
              </a:solidFill>
              <a:latin typeface="Calibri"/>
            </a:endParaRPr>
          </a:p>
        </p:txBody>
      </p:sp>
      <p:sp>
        <p:nvSpPr>
          <p:cNvPr id="916" name=""/>
          <p:cNvSpPr txBox="1"/>
          <p:nvPr/>
        </p:nvSpPr>
        <p:spPr>
          <a:xfrm>
            <a:off x="152280" y="1600200"/>
            <a:ext cx="8839440" cy="4525920"/>
          </a:xfrm>
          <a:prstGeom prst="rect">
            <a:avLst/>
          </a:prstGeom>
          <a:noFill/>
          <a:ln w="0">
            <a:noFill/>
          </a:ln>
        </p:spPr>
        <p:txBody>
          <a:bodyPr anchor="t">
            <a:normAutofit fontScale="92000"/>
          </a:bodyPr>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جو كاري و نيروي كار مناسب</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بازارهاي مصرف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كيفيت زندگي</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عرضه كنندگا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تاسيسات اصلي شركت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کانات آب، برق، تلف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ساخت و ساز، وجود شيوهای چندگانه  حمل و نقل، هزينه هاي جابه جايي مواد و نيروي انساني بين كارخانه ها، هزينه هاي بيمه، مقررات محلي (كنترل آلودگي صدا) معافیت های مختل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240"/>
            <a:ext cx="8686800" cy="662940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قبل از انجام فرايند مكان‌يابي ابتدا بايد به چند سئوال اساسي پاسخ داد كه عبارتند از:</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چه بازارهايي توسط اين كارخانه (محل جديد) سرويس داده خواهند 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واد اوليه مورد مصرف كارخانه چه چيزهايي هستند و از چه مكاني تأمين مي‌شون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چه نوع نيروي انساني و با چه تخصصهايي مورد نياز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چه نوع شيوه‌ هاي حمل و نقل براي انتقال مواد اوليه لازم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5</a:t>
            </a:r>
            <a:r>
              <a:rPr b="1" lang="fa-IR" sz="2800" spc="-1" strike="noStrike">
                <a:solidFill>
                  <a:srgbClr val="000000"/>
                </a:solidFill>
                <a:latin typeface="Times New Roman"/>
                <a:ea typeface="B Nazanin"/>
              </a:rPr>
              <a:t>. چه نوع نيرويي (برق،گاز…و اتمي) براي خط توليد بايد به كار رو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6</a:t>
            </a:r>
            <a:r>
              <a:rPr b="1" lang="fa-IR" sz="2800" spc="-1" strike="noStrike">
                <a:solidFill>
                  <a:srgbClr val="000000"/>
                </a:solidFill>
                <a:latin typeface="Times New Roman"/>
                <a:ea typeface="B Nazanin"/>
              </a:rPr>
              <a:t>. آيا براي توليد كالاي مورد نظر شرايط آب و هوايي خاصي لازم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8:22Z</dcterms:modified>
  <cp:revision>1412</cp:revision>
  <dc:subject/>
  <dc:title>Slide 1</dc:title>
</cp:coreProperties>
</file>