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D2F12-BFAC-4EBA-BE24-4F3DA6C74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18110-2014-4861-B1AC-598BADD78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09BFF3F-38D1-479C-8AB5-CFCDDBA9180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289E0BA-A8CC-42BA-A146-0DEDEEF96F4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1A2EB40-2EB7-4A2B-B268-EF999679F00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C801549-1AD5-4DD6-8CC8-2404C51DB30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FD4C6D7-2ACF-4988-AC0C-27D2CC405A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747821C-4455-44FE-B9C0-0F53058E3C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2CE3FEB-5A05-45B3-B1B8-53E8CE1073F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D473936-0667-48B3-84C1-A4EADC37E00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1802D35-F089-4033-B473-3ADAA93B9CD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BD5538D-B033-489E-A969-2800594630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93A32-3001-4218-AFC9-EACDEAAFE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BFF684A-24AD-445B-BB4F-CF53DC47C1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F4A7CD6-38E9-44BE-BCFB-0EAE62878E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3D1C3DC-FC6B-4952-BD1B-3CEFE826CC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6629D4E-E794-4D6D-8CB1-05CEEA6581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D1269E5-0B13-4177-9E60-F11D8D5711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B6061A7-70C9-44C1-8252-F8DA5D2031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238DE52-D165-4EE0-A70D-700A0E1E0B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F1A9561-6229-4512-A344-1242043134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A9DCA94-FB16-4668-B8B1-FA656682D3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BDB2B32-1801-499D-8350-B44A6B9F0D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7F5AB-CBBD-4257-A797-29B73301D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C0E302D-1073-4811-B755-978F474617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40E8111E-C166-40F4-A942-53380A8B89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B08FF756-E162-44A7-8A91-BFE8FE265E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E010DEC4-92FA-41CB-87B3-40321295E8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50D124A-3631-4EEB-9406-9EFED27805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F82309B0-DA48-4B20-8B38-8C38C10168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30E3CC4A-4542-4E70-8B87-E38F15B960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F483142-2715-4BBA-93D6-8898035D08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87B3523-DDD0-46C8-A982-6AF57C0432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FEB1D6F8-9396-4795-AA49-9A2D912C29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E873D-7CA5-4710-86BC-A18B44989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F790DD6-07D6-44C5-958D-607EB1D15B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B2B16B88-124E-43B5-AD37-0EB890FB55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888C9126-EDC8-4BCA-ADE9-9C6C51E714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C0A659B-3F05-4CBE-B3EC-723DFC12FB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3E44D5D-33E9-4D8D-873A-B98283743D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B668868-8A69-4A0F-9B0D-A9B91A30FF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A70CBC2-C975-4FE7-82A5-6086AE27F5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C10501F-F4DF-4A9E-89E0-D721DB9304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D6F76A1-9830-46FD-8D0C-73F8698486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F9A1A87-85AB-4978-A5D1-7C85E2388F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B9536-6B61-49C1-BF91-B5A7EE22B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2B22DA7-F9AD-41BE-852A-05E2609EAD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8109E08-D8CE-4A9B-AD6D-72DA82A165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6BB7B9C-1EFC-480D-9710-32B8B6177E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2A6A8C2-ADB7-49D5-A76B-4C3E18F69C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ED3CDB3-59B1-4D80-A612-1991BE8A58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47ADE-F714-4F6B-B539-3D70B669D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7AE49-0B1F-447F-81F9-3867A5EE0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7295C-F6EB-4FDC-A724-549501BCF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E7EAA-E185-4081-AA82-E2BA77A57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1B026-49FE-4D4E-B6B2-FB970D300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2ED23-609C-42F6-86D1-DF1FE6469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12835-46D6-46C0-B1F7-854C46A42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D34BD-FF58-4FAF-82BE-45E97F54D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27352-35B1-42E9-871E-01F762A78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6BA41-E411-4B8C-A61B-C18170E80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F7101-2801-40A9-B8D1-465A67884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BF03F1-8546-4940-96DA-2360021D39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F00EA-0CCA-408E-A01D-5201BF5427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785AC-2F81-417F-959D-B765B51A3B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B6F7E5-8AAE-4738-B119-A9B5DE01A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1B4E26-F767-4757-85DE-4047520DD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2D1CA-1CE9-42EC-8D56-EAA718D0D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9A5B39-5A79-443C-B106-BE9542215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267DB-6628-493B-B2CD-9BF1373F6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DA2BA-534B-47EF-A9A8-E627DD11C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891D94-44A5-4AA0-BFFA-6B589CFF4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445CC9-C0C8-4D22-B34C-8B1A4B0EF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9E7059-DA98-4419-AEBC-EAB587D9FD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EA0DF7-794B-45FB-A764-E35928B198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FF76F281-2A06-4B96-9914-F967EF3C005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F6FE998-919A-4E43-B8B0-941FA719644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24F4B20D-FEA0-4262-A5E8-F79B22AFE7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BAD58-BFEE-45F8-A962-1AEBA3282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F0C37F1-9F19-4B23-8399-4C7DEAD09C2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0B21F083-20B5-40BA-913C-1E3CD284F3A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D2F174D-C584-49F8-9E9E-9F3EA8418D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B241E44-0FB7-4DA0-B34B-930B435BB1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5CDA0E1-6AEC-44F9-8FBE-42D5FD85B1A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5F7E014-40AE-49F6-A85A-55A0393CC6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C8D1847B-D6C7-4658-81CF-A4CC2CF7A4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01C82E9A-AEE5-480D-A674-982A057AB32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9857C20D-5251-4E04-B689-A89FBC8F320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CF2FCDDE-2AF1-4FFC-BD68-88DA8FC3DBD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D6BD9-61AA-4F1F-9D60-A34C5C58D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9E74306-DCEA-4410-AEB0-1B368B8A8E4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EB91AF8-4BD6-4265-9840-D1149372BBA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DF67D16A-60E4-4534-B3DC-7215459DEFB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7275A48-2590-4301-8F9F-42C5A274E03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68B24F13-66AE-4A2C-B2FE-D578298C8DC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770E71B-4723-44BA-9F50-59BCE701B33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9667385-9432-49C8-8629-3339113A8F9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D666D75-F135-491D-9B44-2E91DE3BC29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8570BB59-CDA5-47ED-BC7D-22ACD33A93C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F8C30542-45D4-4562-BF8B-4240CFB0C38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B3708-99DE-4AE3-AA74-251268780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576DCAF5-2944-43F2-BCE6-E33129F5E64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60CFD80E-A0E8-4A04-9981-AFC3F0A988C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DC054C88-EBAB-4FF8-B28B-7F412DB8177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FFA68CB5-94BF-43E1-9C02-EDEEE303A75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7C1B3CF6-7E09-45F0-8EE8-27C5102CB6C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E2B281BF-945D-42BB-94A3-10E2CAFCFA8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C468B33C-60CD-47CD-8734-A7D799A69EE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E041EDA-D89B-4CA1-9944-BFCDB8892E7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CC64085-0196-405C-8839-08374DB2385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453F058-9F9D-44D2-9834-27DB46D79D1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327B6-0F77-48DC-BDB0-584D46F9D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AE4FEB71-21A7-4C15-9F9E-18D8FFD5567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E15DB22E-9A43-4B6A-BD87-1785B8F6819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DA3DBC5E-8F6B-46C9-9DC9-7387E5AA0F5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60EF14A8-C53B-4D80-B9D1-090DCE9C53A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50631A66-8A61-4F32-A758-E054F782F4A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324A7BDA-8FCD-4A04-AC2C-052E954DE94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6FDA9AFC-4571-46EC-BCA3-C48CDF33268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0C8F2DE4-054B-41B4-ADB0-F6D2CAFFAB2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0386A631-DAF4-4C11-86D4-083014C37E4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5A55C4E8-AEAC-4362-8540-2C1EE77506F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4A001-3E60-41C0-8741-E0D1BE150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980FD5AB-D48D-4944-8D88-A1E85A7D26E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1D09864-14FC-40DA-94AB-8C029C01CC0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8F07CF5B-EB6D-47C8-8469-E839159BD83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F9B4A700-7DB9-4E02-ACD8-685D556035D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4EFE2483-7F7B-4525-BEBF-287FE4DFDE8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FB07700E-A118-4E76-8A31-5DC084A2071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DAF33E60-AF5C-4473-B5AA-4BECE0B206E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710C1DCF-C6EB-40C1-AB67-A5B2818FF55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1DCC22BA-0E8B-474D-8CC6-AA439FB463F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10C2C715-EF94-48B8-9C2C-65FC4C0D4F1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A223E-3EBA-459A-9E55-7BDE355C3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CD4B55C7-2008-481A-9DC2-CE9707910D2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6A32E922-ADB1-4153-8A4D-DB4F1853DF9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9FD4D906-73EC-40AB-9511-CFB4916C9FC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FDE17B14-CCAB-4C39-8805-207C2EBBB5E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1B2EB8F3-C370-44BF-97FF-6A1F33A853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FA944134-353B-4DF6-A33F-74ED3E732C5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994B729E-30A0-4264-9D28-1C460C980F9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1DBD59C-7905-4B7B-BD8F-011151FEB8C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BC6E6CB-6D6E-4D38-8AB8-FB3B964BB7F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9E7617B-2C5A-47CE-8186-51BD8549C14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B0D5-40EA-448B-A1C4-EEA0AB01B7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7568-F5E3-4C80-9CFD-93E76BD704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BCD7-5373-40DB-A0C2-BD3E9341F6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1AE5-08D6-4858-A7DB-27A9CBDE30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F27E-2AA5-43C2-8AA9-64AF46CD2B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F61A-1A93-4E6F-A408-C5295D4BA7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F095-00AD-48DF-9D81-8686CDC382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6AB9-3B33-4AB6-BBFE-380918808E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299E-088C-4A25-B31B-289F6093B1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DE21-9E47-461B-9EC1-CD35E99336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7CBC-D298-4515-A479-984B3A0D0F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CF8A-0B74-496D-95A0-963F29D349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8" name="Content Placeholder 3" descr=""/>
          <p:cNvPicPr/>
          <p:nvPr/>
        </p:nvPicPr>
        <p:blipFill>
          <a:blip r:embed="rId1"/>
          <a:stretch/>
        </p:blipFill>
        <p:spPr>
          <a:xfrm>
            <a:off x="304920" y="380880"/>
            <a:ext cx="8505720" cy="624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انواع شيوه های پيش بينی</a:t>
            </a:r>
            <a:endParaRPr b="0" lang="en-US" sz="4800" spc="-1" strike="noStrike">
              <a:solidFill>
                <a:srgbClr val="000000"/>
              </a:solidFill>
              <a:latin typeface="Calibri"/>
            </a:endParaRPr>
          </a:p>
        </p:txBody>
      </p:sp>
      <p:sp>
        <p:nvSpPr>
          <p:cNvPr id="920" name=""/>
          <p:cNvSpPr txBox="1"/>
          <p:nvPr/>
        </p:nvSpPr>
        <p:spPr>
          <a:xfrm>
            <a:off x="152280" y="1523880"/>
            <a:ext cx="8839440" cy="5181840"/>
          </a:xfrm>
          <a:prstGeom prst="rect">
            <a:avLst/>
          </a:prstGeom>
          <a:noFill/>
          <a:ln w="0">
            <a:noFill/>
          </a:ln>
        </p:spPr>
        <p:txBody>
          <a:bodyPr anchor="t">
            <a:normAutofit fontScale="7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یفی: از تجربه و قضاوت افراد خبره استفاده می‌کنند. برخی از این روش ها عبارتند از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 نظرخواهی از فروش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2</a:t>
            </a:r>
            <a:r>
              <a:rPr b="1" lang="fa-IR" sz="3200" spc="-1" strike="noStrike">
                <a:solidFill>
                  <a:srgbClr val="000000"/>
                </a:solidFill>
                <a:latin typeface="Times New Roman"/>
                <a:ea typeface="B Nazanin"/>
              </a:rPr>
              <a:t>. روش توافق جمع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3</a:t>
            </a:r>
            <a:r>
              <a:rPr b="1" lang="fa-IR" sz="3200" spc="-1" strike="noStrike">
                <a:solidFill>
                  <a:srgbClr val="000000"/>
                </a:solidFill>
                <a:latin typeface="Times New Roman"/>
                <a:ea typeface="B Nazanin"/>
              </a:rPr>
              <a:t>. انتظارات مصرف کن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4</a:t>
            </a:r>
            <a:r>
              <a:rPr b="1" lang="fa-IR" sz="3200" spc="-1" strike="noStrike">
                <a:solidFill>
                  <a:srgbClr val="000000"/>
                </a:solidFill>
                <a:latin typeface="Times New Roman"/>
                <a:ea typeface="B Nazanin"/>
              </a:rPr>
              <a:t>. روش دلف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مّی: از روش های ریاضی و آمار استفاده می‌کنند. که دسته بندی های زیر را شامل می شو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های کیفی</a:t>
            </a:r>
            <a:endParaRPr b="0" lang="en-US" sz="4800" spc="-1" strike="noStrike">
              <a:solidFill>
                <a:srgbClr val="000000"/>
              </a:solidFill>
              <a:latin typeface="Calibri"/>
            </a:endParaRPr>
          </a:p>
        </p:txBody>
      </p:sp>
      <p:graphicFrame>
        <p:nvGraphicFramePr>
          <p:cNvPr id="922" name=""/>
          <p:cNvGraphicFramePr/>
          <p:nvPr/>
        </p:nvGraphicFramePr>
        <p:xfrm>
          <a:off x="533520" y="1600200"/>
          <a:ext cx="8458200" cy="4191120"/>
        </p:xfrm>
        <a:graphic>
          <a:graphicData uri="http://schemas.openxmlformats.org/drawingml/2006/table">
            <a:tbl>
              <a:tblPr/>
              <a:tblGrid>
                <a:gridCol w="2003400"/>
                <a:gridCol w="2781360"/>
                <a:gridCol w="2368440"/>
                <a:gridCol w="1305000"/>
              </a:tblGrid>
              <a:tr h="40788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ضع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قو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ويژگي ه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رو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عقيده يک مدير مي‌تواند نتيجه پيش‌بيني را تحت تاثير قرارده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ناسب براي پيش‌بيني‌هاي راهبردي و محصول جدي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پيش‌بيني با توجه به نظر گروهي از مديران تعيين 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گروه مشورتي مديرا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شکل بودن طراحي پرسشنامه خوب.</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عيين کننده مناسب ترجيحات مشتر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ا استفاده از پيمايش و مصاحبه، ترجيحات مشتري‌شناسايي‌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حقيق بازا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زمان بر بود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عالي براي پيش‌بيني تقاضاي بلند مدت محصول، تحولات تکنولوژيک و پيشرفتهاي علم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ه دنبال ايجاد اجماع بين متخصصين اس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دلف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پنجم</a:t>
            </a:r>
            <a:endParaRPr b="0" lang="en-US" sz="6000" spc="-1" strike="noStrike">
              <a:solidFill>
                <a:srgbClr val="000000"/>
              </a:solidFill>
              <a:latin typeface="Calibri"/>
            </a:endParaRPr>
          </a:p>
        </p:txBody>
      </p:sp>
      <p:sp>
        <p:nvSpPr>
          <p:cNvPr id="911" name=""/>
          <p:cNvSpPr txBox="1"/>
          <p:nvPr/>
        </p:nvSpPr>
        <p:spPr>
          <a:xfrm>
            <a:off x="152280" y="5105520"/>
            <a:ext cx="8839440" cy="914400"/>
          </a:xfrm>
          <a:prstGeom prst="rect">
            <a:avLst/>
          </a:prstGeom>
          <a:noFill/>
          <a:ln w="0">
            <a:noFill/>
          </a:ln>
        </p:spPr>
        <p:txBody>
          <a:bodyPr anchor="t">
            <a:norm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0000"/>
                </a:solidFill>
                <a:latin typeface="Times New Roman"/>
                <a:cs typeface="B Nazanin"/>
              </a:rPr>
              <a:t>مدلهای پیش بینی</a:t>
            </a:r>
            <a:endParaRPr b="0" lang="en-US" sz="4800" spc="-1" strike="noStrike">
              <a:solidFill>
                <a:srgbClr val="000000"/>
              </a:solidFill>
              <a:latin typeface="Calibri"/>
            </a:endParaRPr>
          </a:p>
        </p:txBody>
      </p:sp>
      <p:sp>
        <p:nvSpPr>
          <p:cNvPr id="912" name="Title 2"/>
          <p:cNvSpPr/>
          <p:nvPr/>
        </p:nvSpPr>
        <p:spPr>
          <a:xfrm>
            <a:off x="457200" y="6476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پنج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پیش بینی</a:t>
            </a:r>
            <a:endParaRPr b="0" lang="en-US" sz="4800" spc="-1" strike="noStrike">
              <a:solidFill>
                <a:srgbClr val="000000"/>
              </a:solidFill>
              <a:latin typeface="Calibri"/>
            </a:endParaRPr>
          </a:p>
        </p:txBody>
      </p:sp>
      <p:sp>
        <p:nvSpPr>
          <p:cNvPr id="914" name=""/>
          <p:cNvSpPr txBox="1"/>
          <p:nvPr/>
        </p:nvSpPr>
        <p:spPr>
          <a:xfrm>
            <a:off x="152280" y="1599840"/>
            <a:ext cx="8839440" cy="4876920"/>
          </a:xfrm>
          <a:prstGeom prst="rect">
            <a:avLst/>
          </a:prstGeom>
          <a:noFill/>
          <a:ln w="0">
            <a:noFill/>
          </a:ln>
        </p:spPr>
        <p:txBody>
          <a:bodyPr anchor="t">
            <a:normAutofit fontScale="9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یش بینی اولین ابزار برای برنامه ‌ریزی در سازمان است. زمانی برنامه ریزی این معنا را پیدا می کند که از هم اکنون تکلیف میزان و نوع منابع مورد نیاز محدود در اختیار مان را برای آینده مشخص کنیم، در نتیجه اصلی ‌ترین چیزی که باید بدانیم این است که چه مقدار تقاضا داریم یا اینکه چقدر احتمال فروش داریم که بر اساس آن میزان تولید و یا خریدمان را مشخص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ه همین دلیل است که گفته می شود: پیش ‌بینی تقاضا اولین قدم در برنامه ‌ریزی است، که در برنامه ‌ریزی تولید معمولا برای افق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ه در نظر گرفته می‌ شود. یعنی تقاضای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 را پیش ‌بینی می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ea typeface="B Titr"/>
              </a:rPr>
              <a:t> مدل های پیش بینی</a:t>
            </a:r>
            <a:endParaRPr b="0" lang="en-US" sz="4800" spc="-1" strike="noStrike">
              <a:solidFill>
                <a:srgbClr val="000000"/>
              </a:solidFill>
              <a:latin typeface="Calibri"/>
            </a:endParaRPr>
          </a:p>
        </p:txBody>
      </p:sp>
      <p:sp>
        <p:nvSpPr>
          <p:cNvPr id="916" name=""/>
          <p:cNvSpPr txBox="1"/>
          <p:nvPr/>
        </p:nvSpPr>
        <p:spPr>
          <a:xfrm>
            <a:off x="152280" y="1599840"/>
            <a:ext cx="8839440" cy="4876920"/>
          </a:xfrm>
          <a:prstGeom prst="rect">
            <a:avLst/>
          </a:prstGeom>
          <a:noFill/>
          <a:ln w="0">
            <a:noFill/>
          </a:ln>
        </p:spPr>
        <p:txBody>
          <a:bodyPr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واردی که بايد در انتخاب مدل مناسب پيش  بينی در نظر گرفته شوند :</a:t>
            </a:r>
            <a:endParaRPr b="0" lang="en-US" sz="2800" spc="-1" strike="noStrike">
              <a:solidFill>
                <a:srgbClr val="000000"/>
              </a:solidFill>
              <a:latin typeface="Calibri"/>
            </a:endParaRPr>
          </a:p>
          <a:p>
            <a:pPr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محدوده زمانی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آمار و ارقام داده شد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ارتباط اطلاعات با متغير مورد نظر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هزين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دقت</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سادگی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7" name="Content Placeholder 2" descr=""/>
          <p:cNvPicPr/>
          <p:nvPr/>
        </p:nvPicPr>
        <p:blipFill>
          <a:blip r:embed="rId1"/>
          <a:stretch/>
        </p:blipFill>
        <p:spPr>
          <a:xfrm>
            <a:off x="228600" y="457200"/>
            <a:ext cx="8721720" cy="601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50:16Z</dcterms:modified>
  <cp:revision>1413</cp:revision>
  <dc:subject/>
  <dc:title>Slide 1</dc:title>
</cp:coreProperties>
</file>