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7BFC-AF1D-447B-83F3-07D01CDC5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D3E2-D6AE-4284-979C-4C1154DC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6F99A1-B1F3-4223-9075-ED5F1BD6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825B05-1392-4731-BEE4-5421DE5C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372AF9-0B53-4726-848D-766A3DFF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F214ED-6E4C-411B-84F2-9F9AA309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4A1774-4564-4BD3-B508-09E7228E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8D31C9-3C3B-4067-A1CC-3589EB4B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3A117B-3655-43DE-B69C-1013FE10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DEA68A-F8C4-40B1-B37F-0D2BF591E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75E209-E259-447D-937B-ACDCA1B37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B9355B-4A2F-4EAA-9A14-6B19AD701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ED76-350D-4B4B-9D80-D0CB5EDFC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BF902F-A0E9-4EC3-A84C-674D3BB0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66F800-B938-4E17-B579-B91CFB60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8D16C4-19D8-402F-AB87-A06BABC3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05E721-5214-4FBD-A957-5523C052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F5EA9C-4921-4CD4-B0A1-F862B048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17E48A-DFB0-46CD-8D2D-8FABA42D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8A0F08-D07F-4044-8D31-1B4B0F78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C402BA-EF4E-452E-ACC1-6CC2545B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C5C183-C934-4ED3-97B6-C96C9FE6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4BAF31-0B94-47AF-9634-97B7D0A31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DB21-A996-46AD-AF23-A27639E36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9F0461-2FE6-49C2-AEC9-DC9607456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B8EB6A2-729E-446E-8671-CC16F0C8A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B716679-6EAF-4545-B8A0-5AC4F1FC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784FA83-9854-49AA-BCBE-5DA23B90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841FD51-B49D-490F-A68E-C84D807C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A883678-94ED-4941-B7F0-B588B088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6D0E76B-F9A7-4DD0-BADE-49A62F2B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11042D1-5512-4CDD-9BBD-BE3BAC49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4EFA638-27C5-4224-B134-0735081F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E66A47B-9031-40DF-94B5-186F0B44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F638-C409-4D18-A1E9-7936A8BBB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70EAF73-CEEA-4BFF-AFC0-BC729EFC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D6CAF38-EAB2-44EC-8A9E-3A8D5EE04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181B016-E8B5-4E18-A1C5-F4C5A587B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9865ED-10BF-490F-AC2B-7918F55AF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BBCD0D-A1B0-4E4F-9EF2-96695A3E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CDBB0A-B6E8-4C01-A761-0E8E6CCA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BC4A79-0EEF-4BDE-B3DC-2C275F8A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21875F-146B-4913-BB79-8E5E169C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1754FA-73B3-486F-9070-05E6F383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6D9CD1-A5AA-418A-9548-FBDF4E81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C109-DD69-473E-833C-F2773E3C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4C70D4-3785-42A6-A2C6-55C707B6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92348C-E36A-448E-9BA2-06555EA8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3FDDF9-4FDD-4E7D-8157-C57B65AF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B68AB9-3AFA-4ADB-BB49-497BFA64E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B3E80B-B3B2-413E-93BB-FB945F83E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6CFC-59B3-4A9B-A6D0-A78FC9C2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E3D6-9F4D-4759-8BFC-7E0B66DF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D353-D320-46B8-B4DA-8A955C8E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91DC-41FC-4D54-8679-7EC9C16B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41D3-BB32-4A2F-AD7B-8098AC12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8F7E-1750-4451-8B9F-C57FE1A7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3F76-1D5E-48D7-8154-DDAEFBDB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9C4E-C3CF-46AE-AB0F-DBAEAFB2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D16F-6180-4EF7-99DE-DF570DEA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F350-D7C0-4401-9A9C-6A61D3B3F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9D59-21DF-4261-9C89-022905EF6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DE9E0-1861-456E-B629-19451717D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4B6C6-FA6D-48F0-8C3C-F0479515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02732-CCDD-49A1-8D8B-42471AED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3901D-F7D9-4AC8-BC02-7DD16EE8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42ED4-2279-4885-9789-B29ECF91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04E4-79B1-4489-AD6A-3E8E106C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C6601-14F8-4077-A6A7-1992227E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2C7D7-9D78-431A-B7EB-B5D8A9AE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CE782-FDFC-4151-B276-28D623D9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9A325-F156-47E6-A8C5-FB92389F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E4B37-1DC6-4B71-BD71-F18AAB4B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95C75-6C9F-45E9-931C-E0731573B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E682E-D604-4452-B234-B362552FF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79D871-5E73-498B-9461-3B63E7C89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021310-70E3-40AB-8683-5153FB1F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577802-7834-42A0-8878-91DBD73E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A03C-B409-42F8-AD5F-D1AA2CCF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9CBE58-C059-43D0-87B0-B4F9C878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57C1C9-5A6A-4FEE-A5AD-6FA8012C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BC451C-BE70-4A42-AAEB-9A15EEEF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31B930-48A4-46BE-A70C-5C8AEDAE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9A7D13-CF67-4D4B-AFC3-195D873D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4A5953-C37A-43CF-9C85-15D73A22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47E437-8322-4535-B161-FBA03F73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17C58C-6055-41E6-9EDF-A0F4CBB8A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AFA808-A4E5-4594-8B15-6BE8C597D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A1F6DB-D215-4C9C-8969-4165561AB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4D1C-A601-4812-9E77-B8265C19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1CF62B-EEF2-4112-8B94-C550E51D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BC9A7A-9922-497C-9DBF-E8337420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D79D89-49A8-401B-BA91-8511A9DE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F30FE6-9640-437C-BED7-986312FD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F03E7E-3A4E-4B99-9BBD-899FF500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E56C35-C609-4CE3-BCB1-8ED1971F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6A3EA4-CCEE-4631-A323-8F92C94B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319F42-D8F5-4009-84A8-15D84FA0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3BCB35-0736-4691-8024-3598A824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F9ED4C-CA29-4E5E-9A03-92AF24088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DB03-417B-4E72-BC1D-82800297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BEA1CC-9ECD-4AD5-897E-79C58DF8C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F60DD8-C351-470F-848B-3D1A27935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DCA645-EF7C-4C97-8059-F0ED2A29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5BDFDD-32A0-4B37-8531-E8C613E0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6C3AD8-8E4A-418F-93AC-E1A861D5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0E5737-8628-4145-8B61-64E281AE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635C9E-ED6A-4119-917A-B095AB06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CE72BF-1233-4FC6-A9EF-5A8AD04A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68524F-92C9-418C-AA3D-5820FE97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F305B6-84AE-48BA-8BD3-94BC2BA4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F8FB-0983-40A4-96C0-F3995008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47075F-99E4-4EE9-9EEF-45F7992A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66B5A1-FF6A-47E5-82C8-37574A0FC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2026ED-7211-41AA-B2AD-0B00082E5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D78372-5FEF-4F55-80D4-CD556E58A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8F6BF3-75DC-495C-8697-1C9EE654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91AAFA-C96F-44C0-AD92-7B0CF8DA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006394-2287-499D-ABCB-64872F88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8C906B-6116-4394-8EED-40E87A4E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35D12E-F8DE-4D5B-98A0-645398C8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D8059D-622A-4316-962E-122C5E9D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A57A-1CB6-4C52-A2F4-1A75F766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905225-FC04-4677-B287-CC42B7E4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866114-E11E-4A09-8548-79277CA5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6E9834-FF16-4A37-AF57-02F89CBA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BAE4E3-C1F5-4767-B427-0F6092F38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F5501A-159C-4761-B9D2-119ED9376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F1360A-144D-46B7-A61F-2D49D4443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E884F3-AF10-4C71-AD10-4A4264DF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780EC9-3D36-4AF6-AC90-D19B0E79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EDE128-3340-4EF4-AA53-37BABBC9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3E2DAB-6C6A-4713-A598-35C94069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0430-118C-4BFD-A210-AA4E8E22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90031E-8C30-42BF-90AD-6B6DB9AD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191DF5-037F-4984-834F-006895B1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5E4EDB-B9CD-447D-B4DD-A973AE80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DF7927-E0C7-44CE-A2A7-5DD04376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FE0001-4674-4C31-87F9-E63076DA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88724A-1072-438A-AD45-FBE753245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032480-1122-4E63-BDA5-E6B577C6E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F74B3B-2FC8-4ED5-93B3-53E7C5414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D9C143-A3E6-47A4-9BF4-DC0B465E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2AF0ED-403B-4365-AD70-586EA1F1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6BAA-5B45-44F2-B903-894197909E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A0AE-ADE0-47F2-88A1-0B539BA904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dt" idx="29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ftr" idx="30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BC62-E91D-4B72-9DD9-279CE383EB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dt" idx="32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ftr" idx="33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F4BA-3576-4650-8B29-697020385F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dt" idx="35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ftr" idx="36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0"/>
            <a:ext cx="9144000" cy="6019920"/>
          </a:xfrm>
          <a:prstGeom prst="rect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6172200"/>
            <a:ext cx="65530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6705720" y="6172200"/>
            <a:ext cx="243828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8571-527A-4226-BB84-DF426325D9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8339040" y="1447920"/>
            <a:ext cx="82728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A2C3-7E6C-410F-96CA-362FAC54A9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7C4E-2200-4DD6-8783-2773570D11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dt" idx="11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2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D4B4-0D5B-48D6-8D60-A7CD6FF9D2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dt" idx="14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ftr" idx="15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F8FB-CEBB-4C85-9A56-DB8D4C43C9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dt" idx="17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ftr" idx="18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2C70-0B71-460D-A482-4C3CE603EA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dt" idx="20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ftr" idx="21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1017-5675-4574-9E89-A3200B0992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dt" idx="23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ftr" idx="24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2DE8-6029-4960-A374-2BFA99390D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dt" idx="26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ftr" idx="27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12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0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0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42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800" spc="-1" strike="noStrike">
                <a:solidFill>
                  <a:srgbClr val="ffffff"/>
                </a:solidFill>
                <a:latin typeface="IranNastaliq"/>
                <a:cs typeface="IranNastaliq"/>
              </a:rPr>
              <a:t>آشنايي با سيستم‌هاي توليدي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288800" y="274680"/>
            <a:ext cx="749772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فرآیند ایجاد یک واحد صنعت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228240" y="182844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31000" indent="-457560" algn="r" rtl="1">
              <a:lnSpc>
                <a:spcPct val="100000"/>
              </a:lnSpc>
              <a:spcBef>
                <a:spcPts val="799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933c"/>
                </a:solidFill>
                <a:latin typeface="Times New Roman"/>
                <a:cs typeface="B Nazanin"/>
              </a:rPr>
              <a:t>بررسی بازار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B Nazanin"/>
              </a:rPr>
              <a:t>:مطالعه ی میزان تقاضای بازار و خواسته های مشتریا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1000" indent="-457560" algn="r" rtl="1">
              <a:lnSpc>
                <a:spcPct val="100000"/>
              </a:lnSpc>
              <a:spcBef>
                <a:spcPts val="799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933c"/>
                </a:solidFill>
                <a:latin typeface="Times New Roman"/>
                <a:cs typeface="B Nazanin"/>
              </a:rPr>
              <a:t>پیش بینی فرو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1000" indent="-457560" algn="r" rtl="1">
              <a:lnSpc>
                <a:spcPct val="100000"/>
              </a:lnSpc>
              <a:spcBef>
                <a:spcPts val="799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933c"/>
                </a:solidFill>
                <a:latin typeface="Times New Roman"/>
                <a:cs typeface="B Nazanin"/>
              </a:rPr>
              <a:t>مکان یابی واحد صنعتی</a:t>
            </a:r>
            <a:r>
              <a:rPr b="1" lang="fa-IR" sz="3200" spc="-1" strike="noStrike">
                <a:solidFill>
                  <a:srgbClr val="000000"/>
                </a:solidFill>
                <a:latin typeface="Times New Roman"/>
                <a:ea typeface="B Nazanin"/>
              </a:rPr>
              <a:t>:بازار فروش، مواد اولیه و راه های ارتباطی و . .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1000" indent="-457560" algn="r" rtl="1">
              <a:lnSpc>
                <a:spcPct val="100000"/>
              </a:lnSpc>
              <a:spcBef>
                <a:spcPts val="799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933c"/>
                </a:solidFill>
                <a:latin typeface="Times New Roman"/>
                <a:cs typeface="B Nazanin"/>
              </a:rPr>
              <a:t>ارزیابی مالی و اقتصادی طر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1000" indent="-45756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طراحی محصو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طراحی مشخصات و تهیه نقشه های فن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288800" y="274680"/>
            <a:ext cx="74977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95959"/>
                </a:solidFill>
                <a:latin typeface="Times New Roman"/>
                <a:cs typeface="B Titr"/>
              </a:rPr>
              <a:t>فرآیند ایجاد یک واحد صنعت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520" y="1676160"/>
            <a:ext cx="8620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42880" indent="-46800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طراحی فرآین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طراحی چگونگی تولید محصو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2880" indent="-46800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طراحی عملیات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عیین دقیق منابع موردنیاز اعم از ماشین آلات، تجهیزات و نیروی انسانی و شرح وظایف چگونگی عملیات هر ایستگاه کار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2880" indent="-46800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طراحی واحد صنعتی (کارخانه)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رحله ی اصلی (با پیش نیازهایی ازمراحل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5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و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6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و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7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2880" indent="-468000" algn="r" rtl="1">
              <a:lnSpc>
                <a:spcPct val="100000"/>
              </a:lnSpc>
              <a:spcBef>
                <a:spcPts val="700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7933c"/>
                </a:solidFill>
                <a:latin typeface="Times New Roman"/>
                <a:cs typeface="B Nazanin"/>
              </a:rPr>
              <a:t>طراحی تجهیزات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ین بند در کشورهای جهان سوم که عمدتاً به صورت تحت لیسانس هستند لازم نیست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2880" indent="-468000" algn="r" rtl="1">
              <a:lnSpc>
                <a:spcPct val="100000"/>
              </a:lnSpc>
              <a:spcBef>
                <a:spcPts val="700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7933c"/>
                </a:solidFill>
                <a:latin typeface="Times New Roman"/>
                <a:cs typeface="B Nazanin"/>
              </a:rPr>
              <a:t>طراحی ساختمان ه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هندسی عمر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288800" y="274680"/>
            <a:ext cx="74977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595959"/>
                </a:solidFill>
                <a:latin typeface="Times New Roman"/>
                <a:cs typeface="B Titr"/>
              </a:rPr>
              <a:t>فرآیند ایجاد یک واحد صنعت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304920" y="1828800"/>
            <a:ext cx="869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تأمین بودج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تدارکات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شامل مواد و مصالح ساختمانی، ماشین آلات و ابزارآلات و همچنین نیروی انسان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عملیات اجرای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تولید و بهره بردار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انبارداری محصولات نهای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توزی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بازاریابی و فرو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دریافت بازخورد از مشتریان و تحلیل آن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6699"/>
                </a:solidFill>
                <a:latin typeface="Times New Roman"/>
                <a:cs typeface="Titr"/>
              </a:rPr>
              <a:t>كليد طراحي كارخانه</a:t>
            </a:r>
            <a:r>
              <a:rPr b="1" lang="en-US" sz="4800" spc="-1" strike="noStrike">
                <a:solidFill>
                  <a:srgbClr val="eeece1"/>
                </a:solidFill>
                <a:latin typeface="Times New Roman"/>
                <a:ea typeface="Titr"/>
              </a:rPr>
              <a:t>[ </a:t>
            </a:r>
            <a:r>
              <a:rPr b="1" lang="en-US" sz="4800" spc="-1" strike="noStrike">
                <a:solidFill>
                  <a:srgbClr val="ff6699"/>
                </a:solidFill>
                <a:latin typeface="Times New Roman"/>
                <a:ea typeface="Titr"/>
              </a:rPr>
              <a:t>PQRST</a:t>
            </a:r>
            <a:r>
              <a:rPr b="1" lang="en-US" sz="4800" spc="-1" strike="noStrike">
                <a:solidFill>
                  <a:srgbClr val="eeece1"/>
                </a:solidFill>
                <a:latin typeface="Times New Roman"/>
                <a:ea typeface="Titr"/>
              </a:rPr>
              <a:t> ]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304560" y="1676520"/>
            <a:ext cx="883908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آقا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Muth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پنج عامل زير را به عنوان كليدي در جهت مسئله طراحي كارخانه ارائه نموده اس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حصو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produ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)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چه چيزي قرار است توليد شود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قدا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quant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)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چه مقداري از هر يك از اقلام بايد توليد شو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روش تولي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rout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)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حصول چگونه ساخته مي شود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)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فرآيند عمليات و ترتيب عمليا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خدمات پشتيبان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supporting servi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)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چه ماشين آلات و تجهيزاتي به كار گرفته مي شوند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زما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ti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) 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چه وقت محصول بايد توليد شود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انواع روش های </a:t>
            </a:r>
            <a:r>
              <a:rPr b="1" lang="fa-IR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توليد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1071720" y="1904760"/>
            <a:ext cx="792936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حصولی (خط تولید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B Nazanin"/>
              </a:rPr>
              <a:t>فرآیندی (کارگاهی-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b shop</a:t>
            </a:r>
            <a:r>
              <a:rPr b="1" lang="fa-IR" sz="3600" spc="-1" strike="noStrike">
                <a:solidFill>
                  <a:srgbClr val="000000"/>
                </a:solidFill>
                <a:latin typeface="Times New Roman"/>
                <a:ea typeface="B Nazani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imes New Roman"/>
                <a:cs typeface="B Nazanin"/>
              </a:rPr>
              <a:t>ثبات محل یا پروژه ا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imes New Roman"/>
                <a:cs typeface="B Nazanin"/>
              </a:rPr>
              <a:t>براساس تکنولوژی گروهی (سلولی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وليد نا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وليد چاب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941040" y="22860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تولید محصو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380520" y="1752120"/>
            <a:ext cx="862020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اشین ها با توجه به عملیات هایی که برای ساخت محصول لازم است پشت سر هم قرار می گیرن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Times New Roman"/>
                <a:cs typeface="B Nazanin"/>
              </a:rPr>
              <a:t>چه زمانی استفاده می شود</a:t>
            </a:r>
            <a:r>
              <a:rPr b="1" lang="fa-IR" sz="2800" spc="-1" strike="noStrike">
                <a:solidFill>
                  <a:srgbClr val="c00000"/>
                </a:solidFill>
                <a:latin typeface="Times New Roman"/>
                <a:cs typeface="B Nazanin"/>
              </a:rPr>
              <a:t>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حجم تولید بال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نوع تولید ک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وقتي كه طرح محصول و قطعات آن استاندارد و يكسان باش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وقتي كه ميزان توليد ثابت و يكنواخت باش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9" name="Picture 3" descr=""/>
          <p:cNvPicPr/>
          <p:nvPr/>
        </p:nvPicPr>
        <p:blipFill>
          <a:blip r:embed="rId1"/>
          <a:stretch/>
        </p:blipFill>
        <p:spPr>
          <a:xfrm>
            <a:off x="1893960" y="5143680"/>
            <a:ext cx="59641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800" spc="-1" strike="noStrike">
              <a:solidFill>
                <a:srgbClr val="595959"/>
              </a:solidFill>
              <a:latin typeface="Times New Roman"/>
              <a:ea typeface="B Titr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1071720" y="1214280"/>
            <a:ext cx="79293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2" name="Picture 3" descr=""/>
          <p:cNvPicPr/>
          <p:nvPr/>
        </p:nvPicPr>
        <p:blipFill>
          <a:blip r:embed="rId1"/>
          <a:stretch/>
        </p:blipFill>
        <p:spPr>
          <a:xfrm>
            <a:off x="2152800" y="4786200"/>
            <a:ext cx="5705280" cy="20289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6" descr=""/>
          <p:cNvPicPr/>
          <p:nvPr/>
        </p:nvPicPr>
        <p:blipFill>
          <a:blip r:embed="rId2"/>
          <a:stretch/>
        </p:blipFill>
        <p:spPr>
          <a:xfrm>
            <a:off x="1214280" y="285840"/>
            <a:ext cx="759780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استقرار فرآیندی (کارگاهی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152280" y="1676520"/>
            <a:ext cx="8848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براساس نوع ماشین آلات تقسیم بندی صورت می گیر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در اين روش كليه ي عمليات مشابه در يك محل انجام ميگير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6" name="Picture 3" descr="D:\IUST\FAZEL\كتاب طرح ريزي\workcell02.gif"/>
          <p:cNvPicPr/>
          <p:nvPr/>
        </p:nvPicPr>
        <p:blipFill>
          <a:blip r:embed="rId1"/>
          <a:stretch/>
        </p:blipFill>
        <p:spPr>
          <a:xfrm>
            <a:off x="1785960" y="3670200"/>
            <a:ext cx="41576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c00000"/>
                </a:solidFill>
                <a:latin typeface="Times New Roman"/>
                <a:cs typeface="Titr"/>
              </a:rPr>
              <a:t>موارد استفاد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-360" y="1600200"/>
            <a:ext cx="90010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نوع تولید زیا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حجم تولید کم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 و يا نوسان داشته باش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زمان انجام عملیات متغی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ماشين آلات گران قيمت و سنگين باشد و حركت دادن آنها ممكن نباش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9" name="Picture 2" descr=""/>
          <p:cNvPicPr/>
          <p:nvPr/>
        </p:nvPicPr>
        <p:blipFill>
          <a:blip r:embed="rId1"/>
          <a:stretch/>
        </p:blipFill>
        <p:spPr>
          <a:xfrm>
            <a:off x="2514600" y="3886200"/>
            <a:ext cx="41068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TextBox 4"/>
          <p:cNvSpPr/>
          <p:nvPr/>
        </p:nvSpPr>
        <p:spPr>
          <a:xfrm>
            <a:off x="1066680" y="1981080"/>
            <a:ext cx="6705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600" spc="-1" strike="noStrike">
                <a:solidFill>
                  <a:srgbClr val="002060"/>
                </a:solidFill>
                <a:latin typeface="IranNastaliq"/>
                <a:cs typeface="IranNastaliq"/>
              </a:rPr>
              <a:t>بسم الله الرحمن الرحی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800" spc="-1" strike="noStrike">
              <a:solidFill>
                <a:srgbClr val="595959"/>
              </a:solidFill>
              <a:latin typeface="Times New Roman"/>
              <a:ea typeface="B Titr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1071720" y="1214280"/>
            <a:ext cx="79293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2" name="Picture 2" descr=""/>
          <p:cNvPicPr/>
          <p:nvPr/>
        </p:nvPicPr>
        <p:blipFill>
          <a:blip r:embed="rId1"/>
          <a:stretch/>
        </p:blipFill>
        <p:spPr>
          <a:xfrm>
            <a:off x="357120" y="428760"/>
            <a:ext cx="859176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288800" y="142560"/>
            <a:ext cx="7497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استقرار براساس ثبات مح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-360" y="1600200"/>
            <a:ext cx="90010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روش تمام عملیات ها توسط یک یا گروهی کارگر انجام شده و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مواد و قطعات در يك محل ثابت قرار دارند و از محلي به محل ديگر منتقل نميشوند بلكه ماشين آلات و تجهيزات به آنجا آورده ميشوند، مانند كشتي سازي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00000"/>
                </a:solidFill>
                <a:latin typeface="Times New Roman"/>
                <a:cs typeface="Titr"/>
              </a:rPr>
              <a:t>موارد مورد استفاده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ماشين آلات ساده باش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هزينه حمل و نقل محصول زياد باش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قطعاتي كه محصول از آنها تشكيل شده زياد نباش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>
                <a:solidFill>
                  <a:srgbClr val="595959"/>
                </a:solidFill>
                <a:latin typeface="Times New Roman"/>
                <a:cs typeface="B Titr"/>
              </a:rPr>
              <a:t>روش استقرار گروهی (سلولی)</a:t>
            </a:r>
            <a:r>
              <a:rPr b="1" lang="fa-IR" sz="4300" spc="-1" strike="noStrike">
                <a:solidFill>
                  <a:srgbClr val="595959"/>
                </a:solidFill>
                <a:latin typeface="Times New Roman"/>
                <a:ea typeface="B Titr"/>
              </a:rPr>
              <a:t> </a:t>
            </a:r>
            <a:r>
              <a:rPr b="1" lang="en-US" sz="4300" spc="-1" strike="noStrike">
                <a:solidFill>
                  <a:srgbClr val="595959"/>
                </a:solidFill>
                <a:latin typeface="Times New Roman"/>
                <a:ea typeface="B Titr"/>
              </a:rPr>
              <a:t> </a:t>
            </a:r>
            <a:r>
              <a:rPr b="1" lang="en-US" sz="4300" spc="-1" strike="noStrike">
                <a:solidFill>
                  <a:srgbClr val="595959"/>
                </a:solidFill>
                <a:latin typeface="Times New Roman"/>
                <a:ea typeface="B Titr"/>
              </a:rPr>
              <a:t>Group technology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228600" y="3714840"/>
            <a:ext cx="87724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قسیم بندی براساس شباهت میان قطعات انجام می شود در حالی که در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job shop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شباهت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ها ی ماشین آلات مبنای تقسیم بندی بو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ثلاً قطعاتی که از هر لحاظی مثل اندازه یا روش تولید یا جنس یا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...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مشابه هستند در یک سلول قرار می گیرند و برای هر خانواده یا گروه یک شبه خط تولید دورن سلول ایجاد می شو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7" name="Picture 2" descr=""/>
          <p:cNvPicPr/>
          <p:nvPr/>
        </p:nvPicPr>
        <p:blipFill>
          <a:blip r:embed="rId1"/>
          <a:stretch/>
        </p:blipFill>
        <p:spPr>
          <a:xfrm>
            <a:off x="1428840" y="1357200"/>
            <a:ext cx="69879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800" spc="-1" strike="noStrike">
              <a:solidFill>
                <a:srgbClr val="595959"/>
              </a:solidFill>
              <a:latin typeface="Times New Roman"/>
              <a:ea typeface="B Titr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1071720" y="1214280"/>
            <a:ext cx="79293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0" name="Picture 3" descr=""/>
          <p:cNvPicPr/>
          <p:nvPr/>
        </p:nvPicPr>
        <p:blipFill>
          <a:blip r:embed="rId1"/>
          <a:stretch/>
        </p:blipFill>
        <p:spPr>
          <a:xfrm>
            <a:off x="1071720" y="2143080"/>
            <a:ext cx="7715160" cy="463248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5" descr=""/>
          <p:cNvPicPr/>
          <p:nvPr/>
        </p:nvPicPr>
        <p:blipFill>
          <a:blip r:embed="rId2"/>
          <a:stretch/>
        </p:blipFill>
        <p:spPr>
          <a:xfrm>
            <a:off x="1071720" y="285840"/>
            <a:ext cx="7724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800" spc="-1" strike="noStrike">
              <a:solidFill>
                <a:srgbClr val="595959"/>
              </a:solidFill>
              <a:latin typeface="Times New Roman"/>
              <a:ea typeface="B Titr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1071720" y="1214280"/>
            <a:ext cx="79293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4" name="Picture 2" descr=""/>
          <p:cNvPicPr/>
          <p:nvPr/>
        </p:nvPicPr>
        <p:blipFill>
          <a:blip r:embed="rId1"/>
          <a:stretch/>
        </p:blipFill>
        <p:spPr>
          <a:xfrm>
            <a:off x="1857240" y="214200"/>
            <a:ext cx="6359760" cy="64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1116000" y="1752480"/>
            <a:ext cx="703728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حذف ض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ع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ع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وب صف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استفاده از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itra"/>
              </a:rPr>
              <a:t>J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م ه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Mitra"/>
              </a:rPr>
              <a:t> چند منظور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کاهش ل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ه ه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Mitra"/>
              </a:rPr>
              <a:t> سازمان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رهبر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Mitra"/>
              </a:rPr>
              <a:t> 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م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س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ستمه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Mitra"/>
              </a:rPr>
              <a:t> اطلاع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Mitra"/>
              </a:rPr>
              <a:t> عمود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بهبود مستم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سيستم كششي تولي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06744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595959"/>
                </a:solidFill>
                <a:latin typeface="Times New Roman"/>
                <a:cs typeface="Mitra"/>
              </a:rPr>
              <a:t>مشخصه های توليد ناب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/>
          </p:nvPr>
        </p:nvSpPr>
        <p:spPr>
          <a:xfrm>
            <a:off x="1115640" y="1676160"/>
            <a:ext cx="7342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كيفيت بالاي محصول و ساخت براساس پسند مشتر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بسيج استعدادها و توانايي هاي اصل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قابليت ارتقا در محصول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پاسخگويي به جامعه و مسائل محيط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تلفيق تكنولوژي هاي مختل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پاسخ به تغييرات و عدم اطمينان 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ادغام درون سازماني و برون سازما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title"/>
          </p:nvPr>
        </p:nvSpPr>
        <p:spPr>
          <a:xfrm>
            <a:off x="1752480" y="380520"/>
            <a:ext cx="606744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595959"/>
                </a:solidFill>
                <a:latin typeface="Times New Roman"/>
                <a:cs typeface="Mitra"/>
              </a:rPr>
              <a:t>مشخصه های توليد چاب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9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9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9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2" name="Picture 3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903" name="TextBox 5"/>
          <p:cNvSpPr/>
          <p:nvPr/>
        </p:nvSpPr>
        <p:spPr>
          <a:xfrm>
            <a:off x="1066680" y="200160"/>
            <a:ext cx="6705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وزارت علوم تحقیقات و فناور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TextBox 3"/>
          <p:cNvSpPr/>
          <p:nvPr/>
        </p:nvSpPr>
        <p:spPr>
          <a:xfrm>
            <a:off x="1066680" y="1981080"/>
            <a:ext cx="6705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آموزشکده فنی و حرفه ای دختران ارومی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Box 5"/>
          <p:cNvSpPr/>
          <p:nvPr/>
        </p:nvSpPr>
        <p:spPr>
          <a:xfrm>
            <a:off x="1044720" y="30492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دانشگاه فنی و حرفه ا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Box 4"/>
          <p:cNvSpPr/>
          <p:nvPr/>
        </p:nvSpPr>
        <p:spPr>
          <a:xfrm>
            <a:off x="1103400" y="30844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درس : مدیریت تولی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Box 3"/>
          <p:cNvSpPr/>
          <p:nvPr/>
        </p:nvSpPr>
        <p:spPr>
          <a:xfrm>
            <a:off x="1103400" y="51814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استاد مربوطه : خانم جهت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Box 5"/>
          <p:cNvSpPr/>
          <p:nvPr/>
        </p:nvSpPr>
        <p:spPr>
          <a:xfrm>
            <a:off x="1103400" y="6094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مقطع تحصیلی کارشناس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Box 6"/>
          <p:cNvSpPr/>
          <p:nvPr/>
        </p:nvSpPr>
        <p:spPr>
          <a:xfrm>
            <a:off x="1103400" y="17812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رشته حسابدار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34880" y="34290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595959"/>
                </a:solidFill>
                <a:latin typeface="Times New Roman"/>
                <a:ea typeface="B Titr"/>
              </a:rPr>
              <a:t> موضوع :مدیریت توليد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TextBox 4"/>
          <p:cNvSpPr/>
          <p:nvPr/>
        </p:nvSpPr>
        <p:spPr>
          <a:xfrm>
            <a:off x="1197000" y="210492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فصل او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Box 5"/>
          <p:cNvSpPr/>
          <p:nvPr/>
        </p:nvSpPr>
        <p:spPr>
          <a:xfrm>
            <a:off x="1197000" y="34596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جلسه او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6600"/>
                </a:solidFill>
                <a:latin typeface="Times New Roman"/>
                <a:cs typeface="B Nazanin"/>
              </a:rPr>
              <a:t>تعریف مدیریت تولی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152280" y="144792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imes New Roman"/>
                <a:cs typeface="Mitra"/>
              </a:rPr>
              <a:t>طراحي، اجرا و نظارت بر سيستم هاي سازماني با استفاده از روشهايي چون تجزيه و تحليل جريان كار، برنامه ريزي توليد، كنترل موجودي و كنترل جامع كيفيت به منظور نزديك كردن فعاليت هاي مؤسسه با نيازهاي بازا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Content Placeholder 2"/>
          <p:cNvSpPr/>
          <p:nvPr/>
        </p:nvSpPr>
        <p:spPr>
          <a:xfrm>
            <a:off x="291960" y="4673520"/>
            <a:ext cx="8839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imes New Roman"/>
                <a:cs typeface="Mitra"/>
              </a:rPr>
              <a:t>به مجموعه اي از فعاليتها اطلاق مي شود كه منابع در دسترس را به كالا و خدمات تبديل مي نماي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66834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595959"/>
                </a:solidFill>
                <a:latin typeface="Times New Roman"/>
                <a:cs typeface="Mitra"/>
              </a:rPr>
              <a:t>جايگاه توليد و عمليات در سازمان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7" name="Group 44"/>
          <p:cNvGrpSpPr/>
          <p:nvPr/>
        </p:nvGrpSpPr>
        <p:grpSpPr>
          <a:xfrm>
            <a:off x="942840" y="1752480"/>
            <a:ext cx="7272000" cy="1981440"/>
            <a:chOff x="942840" y="1752480"/>
            <a:chExt cx="7272000" cy="1981440"/>
          </a:xfrm>
        </p:grpSpPr>
        <p:grpSp>
          <p:nvGrpSpPr>
            <p:cNvPr id="918" name="Group 5"/>
            <p:cNvGrpSpPr/>
            <p:nvPr/>
          </p:nvGrpSpPr>
          <p:grpSpPr>
            <a:xfrm>
              <a:off x="3547800" y="1752480"/>
              <a:ext cx="2030040" cy="633240"/>
              <a:chOff x="3547800" y="1752480"/>
              <a:chExt cx="2030040" cy="633240"/>
            </a:xfrm>
          </p:grpSpPr>
          <p:sp>
            <p:nvSpPr>
              <p:cNvPr id="919" name="Rectangle 6"/>
              <p:cNvSpPr/>
              <p:nvPr/>
            </p:nvSpPr>
            <p:spPr>
              <a:xfrm>
                <a:off x="3547800" y="2085480"/>
                <a:ext cx="1997280" cy="30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Rectangle 7"/>
              <p:cNvSpPr/>
              <p:nvPr/>
            </p:nvSpPr>
            <p:spPr>
              <a:xfrm>
                <a:off x="3684600" y="2091960"/>
                <a:ext cx="174312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Rectangle 8"/>
              <p:cNvSpPr/>
              <p:nvPr/>
            </p:nvSpPr>
            <p:spPr>
              <a:xfrm>
                <a:off x="3701880" y="1850040"/>
                <a:ext cx="17373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f497d"/>
                    </a:solidFill>
                    <a:latin typeface="Arial"/>
                    <a:ea typeface="Arial"/>
                  </a:rPr>
                  <a:t>Organiza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Rectangle 9"/>
              <p:cNvSpPr/>
              <p:nvPr/>
            </p:nvSpPr>
            <p:spPr>
              <a:xfrm>
                <a:off x="3582360" y="1752480"/>
                <a:ext cx="1995480" cy="600480"/>
              </a:xfrm>
              <a:prstGeom prst="rect">
                <a:avLst/>
              </a:prstGeom>
              <a:noFill/>
              <a:ln w="31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3" name="Line 11"/>
            <p:cNvSpPr/>
            <p:nvPr/>
          </p:nvSpPr>
          <p:spPr>
            <a:xfrm>
              <a:off x="4562280" y="2368440"/>
              <a:ext cx="1440" cy="385920"/>
            </a:xfrm>
            <a:prstGeom prst="line">
              <a:avLst/>
            </a:prstGeom>
            <a:ln w="31680">
              <a:solidFill>
                <a:srgbClr val="206f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14"/>
            <p:cNvSpPr/>
            <p:nvPr/>
          </p:nvSpPr>
          <p:spPr>
            <a:xfrm>
              <a:off x="4625640" y="3114720"/>
              <a:ext cx="5580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15"/>
            <p:cNvSpPr/>
            <p:nvPr/>
          </p:nvSpPr>
          <p:spPr>
            <a:xfrm>
              <a:off x="5940360" y="3102120"/>
              <a:ext cx="1770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6" name="Group 16"/>
            <p:cNvGrpSpPr/>
            <p:nvPr/>
          </p:nvGrpSpPr>
          <p:grpSpPr>
            <a:xfrm>
              <a:off x="942840" y="3079800"/>
              <a:ext cx="1818720" cy="654120"/>
              <a:chOff x="942840" y="3079800"/>
              <a:chExt cx="1818720" cy="654120"/>
            </a:xfrm>
          </p:grpSpPr>
          <p:sp>
            <p:nvSpPr>
              <p:cNvPr id="927" name="Rectangle 17"/>
              <p:cNvSpPr/>
              <p:nvPr/>
            </p:nvSpPr>
            <p:spPr>
              <a:xfrm>
                <a:off x="942840" y="3123360"/>
                <a:ext cx="176904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Rectangle 18"/>
              <p:cNvSpPr/>
              <p:nvPr/>
            </p:nvSpPr>
            <p:spPr>
              <a:xfrm>
                <a:off x="1035000" y="3116880"/>
                <a:ext cx="160668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Rectangle 19"/>
              <p:cNvSpPr/>
              <p:nvPr/>
            </p:nvSpPr>
            <p:spPr>
              <a:xfrm>
                <a:off x="1046160" y="3191040"/>
                <a:ext cx="17154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f497d"/>
                    </a:solidFill>
                    <a:latin typeface="Arial"/>
                    <a:ea typeface="Arial"/>
                  </a:rPr>
                  <a:t>Financ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Rectangle 20"/>
              <p:cNvSpPr/>
              <p:nvPr/>
            </p:nvSpPr>
            <p:spPr>
              <a:xfrm>
                <a:off x="973440" y="3079800"/>
                <a:ext cx="1769040" cy="654120"/>
              </a:xfrm>
              <a:prstGeom prst="rect">
                <a:avLst/>
              </a:prstGeom>
              <a:noFill/>
              <a:ln w="31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1" name="Rectangle 21"/>
            <p:cNvSpPr/>
            <p:nvPr/>
          </p:nvSpPr>
          <p:spPr>
            <a:xfrm>
              <a:off x="6356160" y="3106800"/>
              <a:ext cx="96696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2" name="Group 22"/>
            <p:cNvGrpSpPr/>
            <p:nvPr/>
          </p:nvGrpSpPr>
          <p:grpSpPr>
            <a:xfrm>
              <a:off x="3462120" y="3076560"/>
              <a:ext cx="2224080" cy="639720"/>
              <a:chOff x="3462120" y="3076560"/>
              <a:chExt cx="2224080" cy="639720"/>
            </a:xfrm>
          </p:grpSpPr>
          <p:sp>
            <p:nvSpPr>
              <p:cNvPr id="933" name="Rectangle 23"/>
              <p:cNvSpPr/>
              <p:nvPr/>
            </p:nvSpPr>
            <p:spPr>
              <a:xfrm>
                <a:off x="3462120" y="3120120"/>
                <a:ext cx="2184840" cy="39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Rectangle 24"/>
              <p:cNvSpPr/>
              <p:nvPr/>
            </p:nvSpPr>
            <p:spPr>
              <a:xfrm>
                <a:off x="3576240" y="3111840"/>
                <a:ext cx="198360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Rectangle 25"/>
              <p:cNvSpPr/>
              <p:nvPr/>
            </p:nvSpPr>
            <p:spPr>
              <a:xfrm>
                <a:off x="3851280" y="3183120"/>
                <a:ext cx="15966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f497d"/>
                    </a:solidFill>
                    <a:latin typeface="Arial"/>
                    <a:ea typeface="Arial"/>
                  </a:rPr>
                  <a:t>Operatio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Rectangle 26"/>
              <p:cNvSpPr/>
              <p:nvPr/>
            </p:nvSpPr>
            <p:spPr>
              <a:xfrm>
                <a:off x="3498840" y="3076560"/>
                <a:ext cx="2187360" cy="639720"/>
              </a:xfrm>
              <a:prstGeom prst="rect">
                <a:avLst/>
              </a:prstGeom>
              <a:noFill/>
              <a:ln w="31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7" name="Group 27"/>
            <p:cNvGrpSpPr/>
            <p:nvPr/>
          </p:nvGrpSpPr>
          <p:grpSpPr>
            <a:xfrm>
              <a:off x="6395760" y="3079800"/>
              <a:ext cx="1819080" cy="654120"/>
              <a:chOff x="6395760" y="3079800"/>
              <a:chExt cx="1819080" cy="654120"/>
            </a:xfrm>
          </p:grpSpPr>
          <p:sp>
            <p:nvSpPr>
              <p:cNvPr id="938" name="Rectangle 28"/>
              <p:cNvSpPr/>
              <p:nvPr/>
            </p:nvSpPr>
            <p:spPr>
              <a:xfrm>
                <a:off x="6395760" y="3123360"/>
                <a:ext cx="176940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Rectangle 29"/>
              <p:cNvSpPr/>
              <p:nvPr/>
            </p:nvSpPr>
            <p:spPr>
              <a:xfrm>
                <a:off x="6487920" y="3116880"/>
                <a:ext cx="1607040" cy="32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Rectangle 30"/>
              <p:cNvSpPr/>
              <p:nvPr/>
            </p:nvSpPr>
            <p:spPr>
              <a:xfrm>
                <a:off x="6499080" y="3191040"/>
                <a:ext cx="17157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f497d"/>
                    </a:solidFill>
                    <a:latin typeface="Arial"/>
                    <a:ea typeface="Arial"/>
                  </a:rPr>
                  <a:t>Marketi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Rectangle 31"/>
              <p:cNvSpPr/>
              <p:nvPr/>
            </p:nvSpPr>
            <p:spPr>
              <a:xfrm>
                <a:off x="6426360" y="3079800"/>
                <a:ext cx="1769400" cy="654120"/>
              </a:xfrm>
              <a:prstGeom prst="rect">
                <a:avLst/>
              </a:prstGeom>
              <a:noFill/>
              <a:ln w="31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2" name="Line 32"/>
            <p:cNvSpPr/>
            <p:nvPr/>
          </p:nvSpPr>
          <p:spPr>
            <a:xfrm flipV="1">
              <a:off x="1884240" y="2759040"/>
              <a:ext cx="5438880" cy="6480"/>
            </a:xfrm>
            <a:prstGeom prst="line">
              <a:avLst/>
            </a:prstGeom>
            <a:ln w="38160">
              <a:solidFill>
                <a:srgbClr val="206f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Line 33"/>
            <p:cNvSpPr/>
            <p:nvPr/>
          </p:nvSpPr>
          <p:spPr>
            <a:xfrm>
              <a:off x="7316640" y="2765520"/>
              <a:ext cx="0" cy="311040"/>
            </a:xfrm>
            <a:prstGeom prst="line">
              <a:avLst/>
            </a:prstGeom>
            <a:ln w="31680">
              <a:solidFill>
                <a:srgbClr val="206f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Line 34"/>
            <p:cNvSpPr/>
            <p:nvPr/>
          </p:nvSpPr>
          <p:spPr>
            <a:xfrm>
              <a:off x="1861920" y="2765520"/>
              <a:ext cx="0" cy="311040"/>
            </a:xfrm>
            <a:prstGeom prst="line">
              <a:avLst/>
            </a:prstGeom>
            <a:ln w="31680">
              <a:solidFill>
                <a:srgbClr val="206f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Line 35"/>
            <p:cNvSpPr/>
            <p:nvPr/>
          </p:nvSpPr>
          <p:spPr>
            <a:xfrm>
              <a:off x="4562280" y="2754360"/>
              <a:ext cx="0" cy="343080"/>
            </a:xfrm>
            <a:prstGeom prst="line">
              <a:avLst/>
            </a:prstGeom>
            <a:ln w="31680">
              <a:solidFill>
                <a:srgbClr val="206f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Group 36"/>
          <p:cNvGrpSpPr/>
          <p:nvPr/>
        </p:nvGrpSpPr>
        <p:grpSpPr>
          <a:xfrm>
            <a:off x="2514600" y="4038480"/>
            <a:ext cx="3801600" cy="2000160"/>
            <a:chOff x="2514600" y="4038480"/>
            <a:chExt cx="3801600" cy="2000160"/>
          </a:xfrm>
        </p:grpSpPr>
        <p:sp>
          <p:nvSpPr>
            <p:cNvPr id="947" name="Oval 37"/>
            <p:cNvSpPr/>
            <p:nvPr/>
          </p:nvSpPr>
          <p:spPr>
            <a:xfrm>
              <a:off x="3430440" y="4038480"/>
              <a:ext cx="2252160" cy="1314360"/>
            </a:xfrm>
            <a:prstGeom prst="ellipse">
              <a:avLst/>
            </a:prstGeom>
            <a:noFill/>
            <a:ln w="190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38"/>
            <p:cNvSpPr/>
            <p:nvPr/>
          </p:nvSpPr>
          <p:spPr>
            <a:xfrm>
              <a:off x="4500360" y="4309920"/>
              <a:ext cx="18072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39"/>
            <p:cNvSpPr/>
            <p:nvPr/>
          </p:nvSpPr>
          <p:spPr>
            <a:xfrm>
              <a:off x="3720600" y="4303440"/>
              <a:ext cx="1398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  <a:ea typeface="Arial"/>
                </a:rPr>
                <a:t>Oper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Rectangle 40"/>
            <p:cNvSpPr/>
            <p:nvPr/>
          </p:nvSpPr>
          <p:spPr>
            <a:xfrm>
              <a:off x="4932360" y="5387760"/>
              <a:ext cx="1044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  <a:ea typeface="Arial"/>
                </a:rPr>
                <a:t>Fi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41"/>
            <p:cNvSpPr/>
            <p:nvPr/>
          </p:nvSpPr>
          <p:spPr>
            <a:xfrm>
              <a:off x="2614320" y="5397120"/>
              <a:ext cx="1342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  <a:ea typeface="Arial"/>
                </a:rPr>
                <a:t>Mark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Oval 42"/>
            <p:cNvSpPr/>
            <p:nvPr/>
          </p:nvSpPr>
          <p:spPr>
            <a:xfrm>
              <a:off x="4063680" y="4724280"/>
              <a:ext cx="2252520" cy="1314360"/>
            </a:xfrm>
            <a:prstGeom prst="ellipse">
              <a:avLst/>
            </a:prstGeom>
            <a:noFill/>
            <a:ln w="190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Oval 43"/>
            <p:cNvSpPr/>
            <p:nvPr/>
          </p:nvSpPr>
          <p:spPr>
            <a:xfrm>
              <a:off x="2514600" y="4701960"/>
              <a:ext cx="2252520" cy="1314360"/>
            </a:xfrm>
            <a:prstGeom prst="ellipse">
              <a:avLst/>
            </a:prstGeom>
            <a:noFill/>
            <a:ln w="190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66834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595959"/>
                </a:solidFill>
                <a:latin typeface="Times New Roman"/>
                <a:cs typeface="B Nazanin"/>
              </a:rPr>
              <a:t>وظايف مدير تولید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0899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 rtl="1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سيستم عمليات را شناخته و به طريقي آن را به كار گيرد كه حداكثر نتيجه از منابع و امكانات سازمان حاصل شو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 rtl="1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مسؤوليت عمليات تغيير و تبديل ورودي به خروجي را بر عهده دار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 rtl="1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وظايف اصلي مديريت شامل برنامه ريزي براي تعيين اهداف آتي، انجام پيش بيني هاي لازم، سازماندهي فعاليت ها، كنترل و نظارت به منظور اطمينان يافتن از تحقق هدفها و ايفاي نقش استراتژيك را عهده دار مي باشد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skarifar</dc:creator>
  <dc:description/>
  <dc:language>en-US</dc:language>
  <cp:lastModifiedBy>Toka</cp:lastModifiedBy>
  <dcterms:modified xsi:type="dcterms:W3CDTF">2020-04-12T17:06:17Z</dcterms:modified>
  <cp:revision>1410</cp:revision>
  <dc:subject/>
  <dc:title>Slide 1</dc:title>
</cp:coreProperties>
</file>