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2"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5"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6"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03229-FF40-4963-B6A4-885799920606}" type="slidenum">
              <a:rPr b="0" lang="fa-I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124A-EAC9-474C-A4B0-94B528A72D06}"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E45F1-7158-4B24-88FE-1BBB47581014}"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A4EA-09CD-4FF3-A21C-B3B10D0540D3}"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FC33-2726-49C4-9FED-927C66A86A06}"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0E29F-374C-475B-906C-73A0389B9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F6718-4B36-4115-9D4F-1E615C8FD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9CC95E1-53F7-43CE-A305-A48730162DE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C67512D-F210-4CF1-8FF7-71E4D9D0B65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3706BB3-091C-4332-8D8C-53E7DC6BC0D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6EBF4BF-0887-4A7D-BBA2-6AB3C9A00FF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D14CD51-EC6D-4055-AB29-B006C0F93A0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1A59898-36A5-4B46-B2B5-3E75A8C942B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4F84F97-2569-465C-A0F6-8054F7DA53C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FF29889-C16E-4D1C-ACBB-2B233FEB846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3F224BD-EAE7-4E91-ABFE-5ADFB3E08AB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64401AB-075F-408A-A88D-94BF7822F0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2A390-A299-444B-A2D4-03A80CCC9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15BB738-AE89-4B9F-A014-14187EEF84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A23C85B-E83A-4565-9386-45F0E77CB6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738AEAF-7BB5-4145-9D36-E2A0F83AE3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4378734-306B-4408-AF06-DB78828FC6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DC10442-BF55-41CA-983D-54D83B5440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190D221-E80E-458B-A298-1553EC8286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5865056-B1FF-4595-9491-63A3CCEFC4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8891A47-98B3-4058-9927-3D087DDF89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A1EDF71-D6A9-4D28-B04B-A574A70A04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D6BC0A8-E797-4F19-BC8A-020E8FB261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4E7C7-7530-417C-BE26-CD05635C4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45C5CE1-B329-4491-82AC-5ECF8F0D82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69D376B0-4453-484D-B21E-239B548DCC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41EFE5CD-EE63-426F-841B-2DE1E09A5F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DBE84483-DB23-4ED0-AD78-27E768C189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10E6C198-360A-4F80-A53F-A93C18FB99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ED188232-E3A1-486B-8176-80CBB0F014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4F09991E-000D-4D43-B96D-8C4556C8CB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D24DC553-CB85-4A36-A374-01596B507F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665DAB80-B138-4DF1-8B69-9E9288E272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5CCEBDBF-E54D-417F-98B2-331E5CD968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890828-F481-4074-8D98-2243F56FD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037472BB-8DAB-4D0E-8869-810A49203B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D01F3F33-8932-47FE-AD7C-82187A9E6F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BC369A81-63E1-4B30-BB6E-FEDF1F1471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BD49A71-D5AA-469D-83AD-5FC79B20D2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594BB33-B0B5-47A2-A367-AFD063C0C6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1B63560-0F4D-49D1-A293-C9C704D856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CD93625-DEAE-4F93-9C02-81D29F16C4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EE19E26-1004-4E72-A668-3653E8246B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E0312BA-0557-4D15-A82F-CADC70B5A9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8B5F65D-500F-4AD0-B0BE-D23F4E450B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BE1EC-F93B-4F12-9145-171A25147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2DA77DD-3DE6-45D3-B887-E24F057831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F93ACD1-6E37-4B32-B187-242DF15965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3077ACB-62D3-43AE-86E7-2784BB7463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E4A07C2-587A-408D-BCBB-A0905BF0B7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912C503-AB41-48F4-81C9-1DBEA5361D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C2B54-B43F-4404-A1A3-9CCE6B94D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5D3C9-EA94-4043-99E2-87BE332CC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0D8CC-6D30-4C61-8337-7ECDBDF08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501C0-B6E7-4D90-9882-B364D349B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824D7-2BB8-45D5-99CD-63794060F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27A1E-CA20-45D7-87E2-98B093F13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533A0-9AF9-4A06-B7F5-57A0B28D1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406FC-E96F-40CF-93B1-954BA01F0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C150A-4677-440E-8913-D525A893D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8CFE4E-35CA-4E36-B630-30BBAC3E6B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2E3238-D263-4C12-8479-89B2EBCC1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A2B82A-A490-4BB1-94F0-3E93767588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C5E25F-BA17-4E2D-B85F-0150C130AA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30CD54-9751-44DE-818D-4B5A85A655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60BA40-482F-4E53-89CD-C2EA94FDF9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C96FA8-3E45-475B-8C66-A529028BA5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AB81C-BDF8-4FCF-8129-19FA936A7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E41685-5BBE-4B87-A696-8F2F53ED24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44CBB4-3CEE-4176-ADE5-37269E1C54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41E93-807C-4B23-B47A-9AEF338CAB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B48CCD-A808-4BE8-9A9B-B58411A332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3D37F7-648D-48F2-8B9E-4DA1FFDEEC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D2786D-B698-444A-8B03-75DA01027E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431754-147A-4B45-80E1-3BF786CCDF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721FCE0E-0E87-46A6-96E2-D53165BB531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37B7D84B-E02C-4616-8567-1F6F280148F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15064FC7-38A2-4A44-80E5-44F597DD8F3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6E5A0-0F7E-4DCE-8128-B5B8DECC5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A414D634-4A67-4D4F-9900-41819E38351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C5A803ED-FD5F-4658-BEB6-3ADCE22BD8E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460BF156-EFBC-4713-BA76-77B73279ADE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50B2CA40-9CC1-491D-99F1-FFD63B92DC1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E14BA6A1-CB18-4A1A-88A3-F28AD696BE3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E7EA650B-9277-4BD5-88DC-EBBC2F30133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9597AA8A-2C00-4674-92A2-D91F891E2BB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F62B4B93-3D81-4D42-B853-089634B1DA0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3134BA2A-B0AC-43D6-B5D2-040B558D688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79F8BDE1-6495-4071-8E43-7FFA66B57A0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8CF65-8BBF-4284-9903-ABD0624E8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07CD95EB-6ABC-43CF-8637-940209A5D41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A7E61287-74DF-4BAF-AEBC-37066AACFF7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94F84A2A-A968-4F32-9641-44CED6E6BB3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BF3C4F43-9566-482D-BDE6-5F3C64F4E10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F4B33E25-64D1-46F6-A9F5-C373E157321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A512CA2F-7B71-4519-8FF3-57676F01F2E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7FAF84DE-8AB2-40F2-B29B-25A6C36098B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FDAF8FBC-F36D-4D61-95F5-D811893E674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2C5B8480-5658-4324-B329-9E74E9109CD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AA96CF77-3DC6-468C-9D00-D5D9DCE857D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33211-0BFF-4B8F-926F-1691C9376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B7BA6C56-BBD5-4625-9898-C9CE882F39A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73D62172-41CD-4030-B744-8957C232B66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1E3037B2-B334-4CB7-A03F-25D7AE2F2EB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33F026CD-404C-4822-A6BB-23C93D3FC61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1C14390B-B624-47B6-AE77-4CAB2FBBBB1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5FCA144C-E710-48C6-9B97-B9D581E220E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48F46480-91C2-446D-84BD-0A9788D96A7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176564C3-7220-4DB3-978F-C05A0C91C8C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F7673AE-AAA2-4C00-B5D0-139C8F60C1B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2BDF99D3-EDE4-40A5-953D-FED544D4F17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A2966-0507-4981-9FF5-F9365465A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0D0F20C0-53E7-414D-A2BF-2436E641440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317B98F3-4854-4FF3-B345-C0F76B2A517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1CB1A7AA-1195-4468-A4D6-35EECCEA7A4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94587A1B-9363-4058-A156-30A3F60A2A1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0A6B9EDE-4B3A-4F8E-B44E-4E12B19C976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14B7DE1A-043D-4022-8786-6259CFED605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61E6888E-F622-47D2-8D0B-FCA8F81AC6A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326841B9-707D-4F3A-92E1-38A3A572A40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E7D095EA-0817-4593-854A-FBFB8A88FC7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01C7AA8A-9117-4F98-ADED-270F17BB690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58018-5EF6-49D2-B77D-E32577B02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1EA7C404-DC3D-496E-989E-71331495F9E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E10EDF56-0807-4D6F-8669-E5B5AA0EBDE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DBC6D5CB-233D-475C-8344-4C8D53D8F0E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EADC5C8F-DBC1-4D0C-B357-D9BE6A158DE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2D18F77A-7EDE-4D32-99C5-BB076D1FEE8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4F80B72D-0741-401A-AA00-0613A798E90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0C7CA7EB-DEE5-4DE8-996D-42DA8AC1B1F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93659BCD-999F-40AF-A4DD-A49D2CFDADC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83D3EEAE-5A76-44DC-96CA-5CCEF006F3A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F7623DBF-52E9-46F5-8024-2DAF2A5CA68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C9CDA-4A34-4D2E-8E08-2DE00C8BF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23B4C042-91BE-4559-9110-2D9FC90FE92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588E85C3-BFE1-472D-970C-D2AA42AB030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88CC2ACD-E740-4265-AC63-BB19AE93C9E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F347C1BD-C9E7-4149-8363-3C059624B07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057D273E-6363-4A98-B2B0-555A3262A9A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11F2C152-16EF-4055-9D90-A8DAB2F8EBE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0A101427-2F68-4871-85A4-9974AF1CC0F8}"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B7793AD-0EB5-4341-B139-3C911D688EB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CAC7D69-A9B7-493E-AFB1-8D8EF8B7DD0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7087A21-B169-4D26-9CD2-5930E6D7956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4FC0-5B23-4608-8F9F-96B423C7CBD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4769-C6DC-44B3-84D0-AD37473016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B2CF-48F9-479F-B683-8386A20D0F2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6D48-468B-42F7-92B3-48A7C52F85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AD26-33D7-480B-876E-12E31C94E68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2B2B-730C-44BD-9672-B60C24AE04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E674-8DD1-43A0-859B-A647ECD221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D473-1B3F-45BD-AC62-962582341F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4CCB8-B859-4FD5-B197-D4025BC40A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AB06-F09E-4DF5-B32E-DD2B1F8BD7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B961C-E87B-4E0F-83D7-9E6B36F62A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67DE-9D0B-46E5-AC87-F2DB96108BF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7"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7"/>
                    </p:tgtEl>
                  </p:cond>
                </p:stCondLst>
                <p:childTnLst>
                  <p:par>
                    <p:cTn id="3" fill="hold">
                      <p:stCondLst>
                        <p:cond evt="onClick">
                          <p:tgtEl>
                            <p:spTgt spid="90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روش محاسبه نقطه سربه سر:</a:t>
            </a:r>
            <a:endParaRPr b="0" lang="en-US" sz="4800" spc="-1" strike="noStrike">
              <a:solidFill>
                <a:srgbClr val="000000"/>
              </a:solidFill>
              <a:latin typeface="Calibri"/>
            </a:endParaRPr>
          </a:p>
        </p:txBody>
      </p:sp>
      <p:sp>
        <p:nvSpPr>
          <p:cNvPr id="925" name=""/>
          <p:cNvSpPr txBox="1"/>
          <p:nvPr/>
        </p:nvSpPr>
        <p:spPr>
          <a:xfrm>
            <a:off x="152280" y="1600200"/>
            <a:ext cx="8839440" cy="452592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 </a:t>
            </a:r>
            <a:r>
              <a:rPr b="0" lang="en-US" sz="3200" spc="-1" strike="noStrike">
                <a:solidFill>
                  <a:srgbClr val="000000"/>
                </a:solidFill>
                <a:latin typeface="Times New Roman"/>
                <a:ea typeface="B Nazanin"/>
              </a:rPr>
              <a:t>Q</a:t>
            </a:r>
            <a:r>
              <a:rPr b="0" lang="fa-IR" sz="3200" spc="-1" strike="noStrike">
                <a:solidFill>
                  <a:srgbClr val="000000"/>
                </a:solidFill>
                <a:latin typeface="Times New Roman"/>
                <a:ea typeface="B Nazanin"/>
              </a:rPr>
              <a:t>= تعداد تولید محصول در نقطه سربه سر</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F</a:t>
            </a:r>
            <a:r>
              <a:rPr b="0" lang="fa-IR" sz="3200" spc="-1" strike="noStrike">
                <a:solidFill>
                  <a:srgbClr val="000000"/>
                </a:solidFill>
                <a:latin typeface="Times New Roman"/>
                <a:ea typeface="B Nazanin"/>
              </a:rPr>
              <a:t> = هزینه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P</a:t>
            </a:r>
            <a:r>
              <a:rPr b="0" lang="fa-IR" sz="3200" spc="-1" strike="noStrike">
                <a:solidFill>
                  <a:srgbClr val="000000"/>
                </a:solidFill>
                <a:latin typeface="Times New Roman"/>
                <a:ea typeface="B Nazanin"/>
              </a:rPr>
              <a:t> = قیمت فروش هر واحد کالا</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V</a:t>
            </a:r>
            <a:r>
              <a:rPr b="0" lang="fa-IR" sz="3200" spc="-1" strike="noStrike">
                <a:solidFill>
                  <a:srgbClr val="000000"/>
                </a:solidFill>
                <a:latin typeface="Times New Roman"/>
                <a:ea typeface="B Nazanin"/>
              </a:rPr>
              <a:t> = هزینه هاي متغیر هر واحد کال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6" name=""/>
          <p:cNvSpPr txBox="1"/>
          <p:nvPr/>
        </p:nvSpPr>
        <p:spPr>
          <a:xfrm>
            <a:off x="152280" y="456840"/>
            <a:ext cx="8839440" cy="6248520"/>
          </a:xfrm>
          <a:prstGeom prst="rect">
            <a:avLst/>
          </a:prstGeom>
          <a:noFill/>
          <a:ln w="0">
            <a:noFill/>
          </a:ln>
        </p:spPr>
        <p:txBody>
          <a:bodyPr anchor="t">
            <a:normAutofit fontScale="93000"/>
          </a:bodyPr>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            </a:t>
            </a:r>
            <a:r>
              <a:rPr b="1" lang="en-US" sz="3200" spc="-1" strike="noStrike">
                <a:solidFill>
                  <a:srgbClr val="000000"/>
                </a:solidFill>
                <a:latin typeface="Times New Roman"/>
                <a:ea typeface="B Nazanin"/>
              </a:rPr>
              <a:t>F</a:t>
            </a: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Q</a:t>
            </a:r>
            <a:r>
              <a:rPr b="1" lang="en-US" sz="3200" spc="-1" strike="noStrike">
                <a:solidFill>
                  <a:srgbClr val="000000"/>
                </a:solidFill>
                <a:latin typeface="Times New Roman"/>
                <a:ea typeface="B Nazanin"/>
              </a:rPr>
              <a:t> = ----------</a:t>
            </a: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           </a:t>
            </a:r>
            <a:r>
              <a:rPr b="1" lang="en-US" sz="3200" spc="-1" strike="noStrike">
                <a:solidFill>
                  <a:srgbClr val="000000"/>
                </a:solidFill>
                <a:latin typeface="Times New Roman"/>
                <a:ea typeface="B Nazanin"/>
              </a:rPr>
              <a:t>P-V</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حاشیه سود: </a:t>
            </a:r>
            <a:r>
              <a:rPr b="0" lang="fa-IR" sz="3200" spc="-1" strike="noStrike">
                <a:solidFill>
                  <a:srgbClr val="000000"/>
                </a:solidFill>
                <a:latin typeface="Times New Roman"/>
                <a:cs typeface="B Nazanin"/>
              </a:rPr>
              <a:t>را می توان از مخرج کسر فرمول بالا بدست آور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حاشیه سود = قیمت فروش یک واحد - هزینه متغیر یک واح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هزینه هاي ثابت: </a:t>
            </a:r>
            <a:r>
              <a:rPr b="0" lang="fa-IR" sz="3200" spc="-1" strike="noStrike">
                <a:solidFill>
                  <a:srgbClr val="000000"/>
                </a:solidFill>
                <a:latin typeface="Times New Roman"/>
                <a:cs typeface="B Nazanin"/>
              </a:rPr>
              <a:t>همچنین از ضرب نمودن حاشیه سود در تعداد کالا در نقطه سربه سر می توان هزینه هاي</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ثابت را بدست آو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595959"/>
                </a:solidFill>
                <a:latin typeface="Times New Roman"/>
                <a:cs typeface="B Titr"/>
              </a:rPr>
              <a:t>براي درك بهتر موضوع مثالی را بیان میکنم:</a:t>
            </a:r>
            <a:endParaRPr b="0" lang="en-US" sz="4000" spc="-1" strike="noStrike">
              <a:solidFill>
                <a:srgbClr val="000000"/>
              </a:solidFill>
              <a:latin typeface="Calibri"/>
            </a:endParaRPr>
          </a:p>
        </p:txBody>
      </p:sp>
      <p:sp>
        <p:nvSpPr>
          <p:cNvPr id="928" name=""/>
          <p:cNvSpPr txBox="1"/>
          <p:nvPr/>
        </p:nvSpPr>
        <p:spPr>
          <a:xfrm>
            <a:off x="152280" y="1447560"/>
            <a:ext cx="8839440" cy="5181480"/>
          </a:xfrm>
          <a:prstGeom prst="rect">
            <a:avLst/>
          </a:prstGeom>
          <a:noFill/>
          <a:ln w="0">
            <a:noFill/>
          </a:ln>
        </p:spPr>
        <p:txBody>
          <a:bodyPr anchor="t">
            <a:normAutofit fontScale="95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فرض کنید هزینه هاي شرکت پارس عبارتند از، هزینه هاي متغیر هر واحد کالا </a:t>
            </a:r>
            <a:r>
              <a:rPr b="0" lang="fa-IR" sz="3200" spc="-1" strike="noStrike">
                <a:solidFill>
                  <a:srgbClr val="000000"/>
                </a:solidFill>
                <a:latin typeface="Times New Roman"/>
                <a:ea typeface="B Nazanin"/>
              </a:rPr>
              <a:t>2200</a:t>
            </a:r>
            <a:r>
              <a:rPr b="0" lang="fa-IR" sz="3200" spc="-1" strike="noStrike">
                <a:solidFill>
                  <a:srgbClr val="000000"/>
                </a:solidFill>
                <a:latin typeface="Times New Roman"/>
                <a:ea typeface="B Nazanin"/>
              </a:rPr>
              <a:t> ریال و هزینه هاي ثابت</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آن شرکت شامل </a:t>
            </a:r>
            <a:r>
              <a:rPr b="0" lang="fa-IR" sz="3200" spc="-1" strike="noStrike">
                <a:solidFill>
                  <a:srgbClr val="000000"/>
                </a:solidFill>
                <a:latin typeface="Times New Roman"/>
                <a:ea typeface="B Nazanin"/>
              </a:rPr>
              <a:t>4,350,000</a:t>
            </a:r>
            <a:r>
              <a:rPr b="0" lang="fa-IR" sz="3200" spc="-1" strike="noStrike">
                <a:solidFill>
                  <a:srgbClr val="000000"/>
                </a:solidFill>
                <a:latin typeface="Times New Roman"/>
                <a:ea typeface="B Nazanin"/>
              </a:rPr>
              <a:t> ریال و قیمت فروش هر واحد کالا </a:t>
            </a:r>
            <a:r>
              <a:rPr b="0" lang="fa-IR" sz="3200" spc="-1" strike="noStrike">
                <a:solidFill>
                  <a:srgbClr val="000000"/>
                </a:solidFill>
                <a:latin typeface="Times New Roman"/>
                <a:ea typeface="B Nazanin"/>
              </a:rPr>
              <a:t>2500</a:t>
            </a:r>
            <a:r>
              <a:rPr b="0" lang="fa-IR" sz="3200" spc="-1" strike="noStrike">
                <a:solidFill>
                  <a:srgbClr val="000000"/>
                </a:solidFill>
                <a:latin typeface="Times New Roman"/>
                <a:ea typeface="B Nazanin"/>
              </a:rPr>
              <a:t> ریال می</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اشد حال طبق</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فرمول فوق</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محاسبه می کنی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Q = 4,350,000 / (2500-2200) = 14,500</a:t>
            </a:r>
            <a:r>
              <a:rPr b="0" lang="en-US" sz="3200" spc="-1" strike="noStrike">
                <a:solidFill>
                  <a:srgbClr val="000000"/>
                </a:solidFill>
                <a:latin typeface="Times New Roman"/>
                <a:ea typeface="B Nazanin"/>
              </a:rPr>
              <a:t>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نکته: </a:t>
            </a:r>
            <a:r>
              <a:rPr b="0" lang="fa-IR" sz="3200" spc="-1" strike="noStrike">
                <a:solidFill>
                  <a:srgbClr val="000000"/>
                </a:solidFill>
                <a:latin typeface="Times New Roman"/>
                <a:cs typeface="B Nazanin"/>
              </a:rPr>
              <a:t>حالا اگه ما مقدار تولید رو افزایش بدیم، مازاد تولید ما نسبت به نقطه سر به سر سود ما خواهد بود.</a:t>
            </a:r>
            <a:endParaRPr b="0" lang="en-US" sz="3200" spc="-1" strike="noStrike">
              <a:solidFill>
                <a:srgbClr val="000000"/>
              </a:solidFill>
              <a:latin typeface="Calibri"/>
            </a:endParaRPr>
          </a:p>
        </p:txBody>
      </p:sp>
      <p:sp>
        <p:nvSpPr>
          <p:cNvPr id="929" name="TextBox 4"/>
          <p:cNvSpPr/>
          <p:nvPr/>
        </p:nvSpPr>
        <p:spPr>
          <a:xfrm>
            <a:off x="6705720" y="41148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Arial"/>
              </a:rPr>
              <a:t>عدد کالای تولید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95959"/>
                </a:solidFill>
                <a:latin typeface="Times New Roman"/>
                <a:cs typeface="B Titr"/>
              </a:rPr>
              <a:t>تمامی مباحث نقطه سربه سر را می توان در نمودار زیر بررسی کرد:</a:t>
            </a:r>
            <a:endParaRPr b="0" lang="en-US" sz="2400" spc="-1" strike="noStrike">
              <a:solidFill>
                <a:srgbClr val="000000"/>
              </a:solidFill>
              <a:latin typeface="Calibri"/>
            </a:endParaRPr>
          </a:p>
        </p:txBody>
      </p:sp>
      <p:pic>
        <p:nvPicPr>
          <p:cNvPr id="931" name="Content Placeholder 1" descr=""/>
          <p:cNvPicPr/>
          <p:nvPr/>
        </p:nvPicPr>
        <p:blipFill>
          <a:blip r:embed="rId1"/>
          <a:stretch/>
        </p:blipFill>
        <p:spPr>
          <a:xfrm>
            <a:off x="730080" y="1600200"/>
            <a:ext cx="744408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2" name=""/>
          <p:cNvSpPr txBox="1"/>
          <p:nvPr/>
        </p:nvSpPr>
        <p:spPr>
          <a:xfrm>
            <a:off x="152280" y="304920"/>
            <a:ext cx="8839440" cy="6400800"/>
          </a:xfrm>
          <a:prstGeom prst="rect">
            <a:avLst/>
          </a:prstGeom>
          <a:noFill/>
          <a:ln w="0">
            <a:noFill/>
          </a:ln>
        </p:spPr>
        <p:txBody>
          <a:bodyPr anchor="t">
            <a:normAutofit fontScale="9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دقت نمایید از این فرمول نمی توان براي واحد هاي تولیدي که بیش از یک کالا تولید می کنند استفاده کرد، لذا براي فهم بیشتر این مبحث از مثالی استفاده میکنیم:</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شرکت بنیاد چهار نوع کالا تولید می کند که هزینه هاي ثابت آن شرکت </a:t>
            </a:r>
            <a:r>
              <a:rPr b="0" lang="fa-IR" sz="3200" spc="-1" strike="noStrike">
                <a:solidFill>
                  <a:srgbClr val="000000"/>
                </a:solidFill>
                <a:latin typeface="Times New Roman"/>
                <a:ea typeface="B Nazanin"/>
              </a:rPr>
              <a:t>7,560,000</a:t>
            </a:r>
            <a:r>
              <a:rPr b="0" lang="fa-IR" sz="3200" spc="-1" strike="noStrike">
                <a:solidFill>
                  <a:srgbClr val="000000"/>
                </a:solidFill>
                <a:latin typeface="Times New Roman"/>
                <a:ea typeface="B Nazanin"/>
              </a:rPr>
              <a:t> ریال</a:t>
            </a:r>
            <a:r>
              <a:rPr b="0" lang="en-US" sz="3200" spc="-1" strike="noStrike">
                <a:solidFill>
                  <a:srgbClr val="000000"/>
                </a:solidFill>
                <a:latin typeface="Times New Roman"/>
                <a:ea typeface="B Nazanin"/>
              </a:rPr>
              <a:t>(</a:t>
            </a:r>
            <a:r>
              <a:rPr b="0" lang="en-US" sz="3200" spc="-1" strike="noStrike">
                <a:solidFill>
                  <a:srgbClr val="000000"/>
                </a:solidFill>
                <a:latin typeface="Times New Roman"/>
                <a:ea typeface="B Nazanin"/>
              </a:rPr>
              <a:t>FC</a:t>
            </a:r>
            <a:r>
              <a:rPr b="0" lang="en-US"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 و هزینه هاي متغیر هر واحد کالاي الف </a:t>
            </a:r>
            <a:r>
              <a:rPr b="0" lang="fa-IR" sz="3200" spc="-1" strike="noStrike">
                <a:solidFill>
                  <a:srgbClr val="000000"/>
                </a:solidFill>
                <a:latin typeface="Times New Roman"/>
                <a:ea typeface="B Nazanin"/>
              </a:rPr>
              <a:t>1950</a:t>
            </a:r>
            <a:r>
              <a:rPr b="0" lang="fa-IR" sz="3200" spc="-1" strike="noStrike">
                <a:solidFill>
                  <a:srgbClr val="000000"/>
                </a:solidFill>
                <a:latin typeface="Times New Roman"/>
                <a:ea typeface="B Nazanin"/>
              </a:rPr>
              <a:t> ریال، براي کالاي ب </a:t>
            </a:r>
            <a:r>
              <a:rPr b="0" lang="fa-IR" sz="3200" spc="-1" strike="noStrike">
                <a:solidFill>
                  <a:srgbClr val="000000"/>
                </a:solidFill>
                <a:latin typeface="Times New Roman"/>
                <a:ea typeface="B Nazanin"/>
              </a:rPr>
              <a:t>1390</a:t>
            </a:r>
            <a:r>
              <a:rPr b="0" lang="fa-IR" sz="3200" spc="-1" strike="noStrike">
                <a:solidFill>
                  <a:srgbClr val="000000"/>
                </a:solidFill>
                <a:latin typeface="Times New Roman"/>
                <a:ea typeface="B Nazanin"/>
              </a:rPr>
              <a:t> ریال، براي کالاي ج </a:t>
            </a:r>
            <a:r>
              <a:rPr b="0" lang="fa-IR" sz="3200" spc="-1" strike="noStrike">
                <a:solidFill>
                  <a:srgbClr val="000000"/>
                </a:solidFill>
                <a:latin typeface="Times New Roman"/>
                <a:ea typeface="B Nazanin"/>
              </a:rPr>
              <a:t>2120</a:t>
            </a:r>
            <a:r>
              <a:rPr b="0" lang="fa-IR" sz="3200" spc="-1" strike="noStrike">
                <a:solidFill>
                  <a:srgbClr val="000000"/>
                </a:solidFill>
                <a:latin typeface="Times New Roman"/>
                <a:ea typeface="B Nazanin"/>
              </a:rPr>
              <a:t> ریال و براي کالاي د</a:t>
            </a:r>
            <a:r>
              <a:rPr b="0" lang="fa-IR" sz="3200" spc="-1" strike="noStrike">
                <a:solidFill>
                  <a:srgbClr val="000000"/>
                </a:solidFill>
                <a:latin typeface="Times New Roman"/>
                <a:ea typeface="B Nazanin"/>
              </a:rPr>
              <a:t>750</a:t>
            </a:r>
            <a:r>
              <a:rPr b="0" lang="fa-IR" sz="3200" spc="-1" strike="noStrike">
                <a:solidFill>
                  <a:srgbClr val="000000"/>
                </a:solidFill>
                <a:latin typeface="Times New Roman"/>
                <a:ea typeface="B Nazanin"/>
              </a:rPr>
              <a:t> ریال می باشد. قیمت فروش هر واحد کالاي الف </a:t>
            </a:r>
            <a:r>
              <a:rPr b="0" lang="fa-IR" sz="3200" spc="-1" strike="noStrike">
                <a:solidFill>
                  <a:srgbClr val="000000"/>
                </a:solidFill>
                <a:latin typeface="Times New Roman"/>
                <a:ea typeface="B Nazanin"/>
              </a:rPr>
              <a:t>3500</a:t>
            </a:r>
            <a:r>
              <a:rPr b="0" lang="fa-IR" sz="3200" spc="-1" strike="noStrike">
                <a:solidFill>
                  <a:srgbClr val="000000"/>
                </a:solidFill>
                <a:latin typeface="Times New Roman"/>
                <a:ea typeface="B Nazanin"/>
              </a:rPr>
              <a:t> ریال، کالاي ب </a:t>
            </a:r>
            <a:r>
              <a:rPr b="0" lang="fa-IR" sz="3200" spc="-1" strike="noStrike">
                <a:solidFill>
                  <a:srgbClr val="000000"/>
                </a:solidFill>
                <a:latin typeface="Times New Roman"/>
                <a:ea typeface="B Nazanin"/>
              </a:rPr>
              <a:t>2800</a:t>
            </a:r>
            <a:r>
              <a:rPr b="0" lang="fa-IR" sz="3200" spc="-1" strike="noStrike">
                <a:solidFill>
                  <a:srgbClr val="000000"/>
                </a:solidFill>
                <a:latin typeface="Times New Roman"/>
                <a:ea typeface="B Nazanin"/>
              </a:rPr>
              <a:t> ریال، کالاي ج </a:t>
            </a:r>
            <a:r>
              <a:rPr b="0" lang="fa-IR" sz="3200" spc="-1" strike="noStrike">
                <a:solidFill>
                  <a:srgbClr val="000000"/>
                </a:solidFill>
                <a:latin typeface="Times New Roman"/>
                <a:ea typeface="B Nazanin"/>
              </a:rPr>
              <a:t>4250</a:t>
            </a:r>
            <a:r>
              <a:rPr b="0" lang="fa-IR" sz="3200" spc="-1" strike="noStrike">
                <a:solidFill>
                  <a:srgbClr val="000000"/>
                </a:solidFill>
                <a:latin typeface="Times New Roman"/>
                <a:ea typeface="B Nazanin"/>
              </a:rPr>
              <a:t> ریال </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و کالاي د </a:t>
            </a:r>
            <a:r>
              <a:rPr b="0" lang="fa-IR" sz="3200" spc="-1" strike="noStrike">
                <a:solidFill>
                  <a:srgbClr val="000000"/>
                </a:solidFill>
                <a:latin typeface="Times New Roman"/>
                <a:ea typeface="B Nazanin"/>
              </a:rPr>
              <a:t>1420</a:t>
            </a:r>
            <a:r>
              <a:rPr b="0" lang="fa-IR" sz="3200" spc="-1" strike="noStrike">
                <a:solidFill>
                  <a:srgbClr val="000000"/>
                </a:solidFill>
                <a:latin typeface="Times New Roman"/>
                <a:ea typeface="B Nazanin"/>
              </a:rPr>
              <a:t> ریال می باش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3" name=""/>
          <p:cNvSpPr txBox="1"/>
          <p:nvPr/>
        </p:nvSpPr>
        <p:spPr>
          <a:xfrm>
            <a:off x="152280" y="304920"/>
            <a:ext cx="8839440" cy="6400800"/>
          </a:xfrm>
          <a:prstGeom prst="rect">
            <a:avLst/>
          </a:prstGeom>
          <a:noFill/>
          <a:ln w="0">
            <a:noFill/>
          </a:ln>
        </p:spPr>
        <p:txBody>
          <a:bodyPr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طلاعات مورد نیاز براي محاسبه نقطه سربه سر براي کالاهاي متعدد عبارتند از:</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ثابت، </a:t>
            </a:r>
            <a:r>
              <a:rPr b="0" lang="fa-IR" sz="3200" spc="-1" strike="noStrike">
                <a:solidFill>
                  <a:srgbClr val="000000"/>
                </a:solidFill>
                <a:latin typeface="Times New Roman"/>
                <a:ea typeface="B Nazanin"/>
              </a:rPr>
              <a:t>2</a:t>
            </a:r>
            <a:r>
              <a:rPr b="0" lang="fa-IR" sz="3200" spc="-1" strike="noStrike">
                <a:solidFill>
                  <a:srgbClr val="000000"/>
                </a:solidFill>
                <a:latin typeface="Times New Roman"/>
                <a:ea typeface="B Nazanin"/>
              </a:rPr>
              <a:t>- هزینه هاي متغیر یک واحد کالا، </a:t>
            </a:r>
            <a:r>
              <a:rPr b="0" lang="fa-IR" sz="3200" spc="-1" strike="noStrike">
                <a:solidFill>
                  <a:srgbClr val="000000"/>
                </a:solidFill>
                <a:latin typeface="Times New Roman"/>
                <a:ea typeface="B Nazanin"/>
              </a:rPr>
              <a:t>3</a:t>
            </a:r>
            <a:r>
              <a:rPr b="0" lang="fa-IR" sz="3200" spc="-1" strike="noStrike">
                <a:solidFill>
                  <a:srgbClr val="000000"/>
                </a:solidFill>
                <a:latin typeface="Times New Roman"/>
                <a:ea typeface="B Nazanin"/>
              </a:rPr>
              <a:t>- قیمت فروش یک واحد کالا، </a:t>
            </a:r>
            <a:r>
              <a:rPr b="0" lang="fa-IR" sz="3200" spc="-1" strike="noStrike">
                <a:solidFill>
                  <a:srgbClr val="000000"/>
                </a:solidFill>
                <a:latin typeface="Times New Roman"/>
                <a:ea typeface="B Nazanin"/>
              </a:rPr>
              <a:t>4</a:t>
            </a:r>
            <a:r>
              <a:rPr b="0" lang="fa-IR" sz="3200" spc="-1" strike="noStrike">
                <a:solidFill>
                  <a:srgbClr val="000000"/>
                </a:solidFill>
                <a:latin typeface="Times New Roman"/>
                <a:ea typeface="B Nazanin"/>
              </a:rPr>
              <a:t>- حاشیه فروش براي هر واحد کالا، </a:t>
            </a:r>
            <a:r>
              <a:rPr b="0" lang="fa-IR" sz="3200" spc="-1" strike="noStrike">
                <a:solidFill>
                  <a:srgbClr val="000000"/>
                </a:solidFill>
                <a:latin typeface="Times New Roman"/>
                <a:ea typeface="B Nazanin"/>
              </a:rPr>
              <a:t>5</a:t>
            </a:r>
            <a:r>
              <a:rPr b="0" lang="fa-IR" sz="3200" spc="-1" strike="noStrike">
                <a:solidFill>
                  <a:srgbClr val="000000"/>
                </a:solidFill>
                <a:latin typeface="Times New Roman"/>
                <a:ea typeface="B Nazanin"/>
              </a:rPr>
              <a:t>- درصد فروش هر واحد کالا به کل فروش، </a:t>
            </a:r>
            <a:r>
              <a:rPr b="0" lang="fa-IR" sz="3200" spc="-1" strike="noStrike">
                <a:solidFill>
                  <a:srgbClr val="000000"/>
                </a:solidFill>
                <a:latin typeface="Times New Roman"/>
                <a:ea typeface="B Nazanin"/>
              </a:rPr>
              <a:t>6</a:t>
            </a:r>
            <a:r>
              <a:rPr b="0" lang="fa-IR" sz="3200" spc="-1" strike="noStrike">
                <a:solidFill>
                  <a:srgbClr val="000000"/>
                </a:solidFill>
                <a:latin typeface="Times New Roman"/>
                <a:ea typeface="B Nazanin"/>
              </a:rPr>
              <a:t>- میانگین موزون حاشیه فروش</a:t>
            </a:r>
            <a:r>
              <a:rPr b="0" lang="en-US" sz="3200" spc="-1" strike="noStrike">
                <a:solidFill>
                  <a:srgbClr val="000000"/>
                </a:solidFill>
                <a:latin typeface="Times New Roman"/>
                <a:ea typeface="B Nazanin"/>
              </a:rPr>
              <a:t>(</a:t>
            </a:r>
            <a:r>
              <a:rPr b="0" lang="en-US" sz="3200" spc="-1" strike="noStrike">
                <a:solidFill>
                  <a:srgbClr val="000000"/>
                </a:solidFill>
                <a:latin typeface="Times New Roman"/>
                <a:ea typeface="B Nazanin"/>
              </a:rPr>
              <a:t>CM</a:t>
            </a:r>
            <a:r>
              <a:rPr b="0" lang="en-US" sz="3200" spc="-1" strike="noStrike">
                <a:solidFill>
                  <a:srgbClr val="000000"/>
                </a:solidFill>
                <a:latin typeface="Times New Roman"/>
                <a:ea typeface="B Nazanin"/>
              </a:rPr>
              <a:t>)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موارد </a:t>
            </a:r>
            <a:r>
              <a:rPr b="0" lang="fa-IR" sz="3200" spc="-1" strike="noStrike">
                <a:solidFill>
                  <a:srgbClr val="000000"/>
                </a:solidFill>
                <a:latin typeface="Times New Roman"/>
                <a:ea typeface="B Nazanin"/>
              </a:rPr>
              <a:t>1</a:t>
            </a:r>
            <a:r>
              <a:rPr b="0" lang="fa-IR"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2</a:t>
            </a:r>
            <a:r>
              <a:rPr b="0" lang="fa-IR"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3</a:t>
            </a:r>
            <a:r>
              <a:rPr b="0" lang="fa-IR" sz="3200" spc="-1" strike="noStrike">
                <a:solidFill>
                  <a:srgbClr val="000000"/>
                </a:solidFill>
                <a:latin typeface="Times New Roman"/>
                <a:ea typeface="B Nazanin"/>
              </a:rPr>
              <a:t> را در مفروضات مثال داری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ea typeface="B Nazanin"/>
              </a:rPr>
              <a:t>4</a:t>
            </a:r>
            <a:r>
              <a:rPr b="0" lang="fa-IR" sz="3200" spc="-1" strike="noStrike">
                <a:solidFill>
                  <a:srgbClr val="000000"/>
                </a:solidFill>
                <a:latin typeface="Times New Roman"/>
                <a:ea typeface="B Nazanin"/>
              </a:rPr>
              <a:t>- حال باید حاشیه فروش هر واحد کالا را محاسبه کنیم(طبق فرمولی که قبلاً گفته ش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اشیه سود(فروش) = هزینه متغیر یک واحد - قیمت فروش یک واح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4" name=""/>
          <p:cNvSpPr txBox="1"/>
          <p:nvPr/>
        </p:nvSpPr>
        <p:spPr>
          <a:xfrm>
            <a:off x="152280" y="685800"/>
            <a:ext cx="8839440" cy="5999040"/>
          </a:xfrm>
          <a:prstGeom prst="rect">
            <a:avLst/>
          </a:prstGeom>
          <a:noFill/>
          <a:ln w="0">
            <a:noFill/>
          </a:ln>
        </p:spPr>
        <p:txBody>
          <a:bodyPr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الف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9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5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ب</a:t>
            </a:r>
            <a:r>
              <a:rPr b="0" lang="en-US"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39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41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ج</a:t>
            </a:r>
            <a:r>
              <a:rPr b="0" lang="en-US"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42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1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13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د</a:t>
            </a:r>
            <a:r>
              <a:rPr b="0" lang="en-US" sz="2800" spc="-1" strike="noStrike">
                <a:solidFill>
                  <a:srgbClr val="000000"/>
                </a:solidFill>
                <a:latin typeface="Times New Roman"/>
                <a:ea typeface="B Nazanin"/>
              </a:rPr>
              <a:t>14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7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67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فروش را می توان از طریق تقسیم قیمت هر واحد کالا به کل قیمت تمامی کالاها بدست آورد،</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قیمت کل عبارتند از</a:t>
            </a:r>
            <a:endParaRPr b="0" lang="en-US" sz="2800" spc="-1" strike="noStrike">
              <a:solidFill>
                <a:srgbClr val="000000"/>
              </a:solidFill>
              <a:latin typeface="Calibri"/>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ریال</a:t>
            </a:r>
            <a:r>
              <a:rPr b="0" lang="en-US"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42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4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که با تقسیم هر یک این قیمت ها به قیمت کل درصد قیمت فروش هر کالا مشخص می شو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5" name=""/>
          <p:cNvSpPr txBox="1"/>
          <p:nvPr/>
        </p:nvSpPr>
        <p:spPr>
          <a:xfrm>
            <a:off x="-360" y="304560"/>
            <a:ext cx="8839080" cy="6303960"/>
          </a:xfrm>
          <a:prstGeom prst="rect">
            <a:avLst/>
          </a:prstGeom>
          <a:noFill/>
          <a:ln w="0">
            <a:noFill/>
          </a:ln>
        </p:spPr>
        <p:txBody>
          <a:bodyPr anchor="t">
            <a:normAutofit fontScale="7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الف می شود:  </a:t>
            </a:r>
            <a:r>
              <a:rPr b="0" lang="fa-IR" sz="2800" spc="-1" strike="noStrike">
                <a:solidFill>
                  <a:srgbClr val="000000"/>
                </a:solidFill>
                <a:latin typeface="Times New Roman"/>
                <a:ea typeface="B Nazanin"/>
              </a:rPr>
              <a:t>29</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ب می شود:   </a:t>
            </a:r>
            <a:r>
              <a:rPr b="0" lang="fa-IR" sz="2800" spc="-1" strike="noStrike">
                <a:solidFill>
                  <a:srgbClr val="000000"/>
                </a:solidFill>
                <a:latin typeface="Times New Roman"/>
                <a:ea typeface="B Nazanin"/>
              </a:rPr>
              <a:t>23</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Nazanin"/>
              </a:rPr>
              <a:t> درصد قیمت فروش هر واحد کالاي ج می شود:  </a:t>
            </a:r>
            <a:r>
              <a:rPr b="0" lang="fa-IR" sz="2800" spc="-1" strike="noStrike">
                <a:solidFill>
                  <a:srgbClr val="000000"/>
                </a:solidFill>
                <a:latin typeface="Times New Roman"/>
                <a:ea typeface="B Nazanin"/>
              </a:rPr>
              <a:t>36</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42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د می شود:   </a:t>
            </a:r>
            <a:r>
              <a:rPr b="0" lang="fa-IR" sz="2800" spc="-1" strike="noStrike">
                <a:solidFill>
                  <a:srgbClr val="000000"/>
                </a:solidFill>
                <a:latin typeface="Times New Roman"/>
                <a:ea typeface="B Nazanin"/>
              </a:rPr>
              <a:t>12</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42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Nazanin"/>
              </a:rPr>
              <a:t>6</a:t>
            </a:r>
            <a:r>
              <a:rPr b="0" lang="fa-IR"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به محاسبه میانگین موزون حاشیه فروش </a:t>
            </a:r>
            <a:r>
              <a:rPr b="0" lang="en-US" sz="2800" spc="-1" strike="noStrike">
                <a:solidFill>
                  <a:srgbClr val="000000"/>
                </a:solidFill>
                <a:latin typeface="Times New Roman"/>
                <a:ea typeface="B Nazanin"/>
              </a:rPr>
              <a:t>(</a:t>
            </a:r>
            <a:r>
              <a:rPr b="0" lang="en-US" sz="2800" spc="-1" strike="noStrike">
                <a:solidFill>
                  <a:srgbClr val="000000"/>
                </a:solidFill>
                <a:latin typeface="Times New Roman"/>
                <a:ea typeface="B Nazanin"/>
              </a:rPr>
              <a:t>CM</a:t>
            </a:r>
            <a:r>
              <a:rPr b="0" lang="en-US" sz="2800" spc="-1" strike="noStrike">
                <a:solidFill>
                  <a:srgbClr val="000000"/>
                </a:solidFill>
                <a:latin typeface="Times New Roman"/>
                <a:ea typeface="B Nazanin"/>
              </a:rPr>
              <a:t>)</a:t>
            </a:r>
            <a:r>
              <a:rPr b="0" lang="fa-IR" sz="2800" spc="-1" strike="noStrike">
                <a:solidFill>
                  <a:srgbClr val="000000"/>
                </a:solidFill>
                <a:latin typeface="Times New Roman"/>
                <a:ea typeface="B Nazanin"/>
              </a:rPr>
              <a:t> می رسیم:</a:t>
            </a:r>
            <a:endParaRPr b="0" lang="en-US" sz="2800" spc="-1" strike="noStrike">
              <a:solidFill>
                <a:srgbClr val="000000"/>
              </a:solidFill>
              <a:latin typeface="Calibri"/>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میانگین موزون حاشیه فروش = درصد قیمت فروش هر واحد × هزینه متغیر هر واحد محصول</a:t>
            </a:r>
            <a:endParaRPr b="0" lang="en-US" sz="20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الف:          </a:t>
            </a:r>
            <a:r>
              <a:rPr b="0" lang="fa-IR" sz="2800" spc="-1" strike="noStrike">
                <a:solidFill>
                  <a:srgbClr val="000000"/>
                </a:solidFill>
                <a:latin typeface="Times New Roman"/>
                <a:ea typeface="B Nazanin"/>
              </a:rPr>
              <a:t>566</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9</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9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ب:          </a:t>
            </a:r>
            <a:r>
              <a:rPr b="0" lang="fa-IR" sz="2800" spc="-1" strike="noStrike">
                <a:solidFill>
                  <a:srgbClr val="000000"/>
                </a:solidFill>
                <a:latin typeface="Times New Roman"/>
                <a:ea typeface="B Nazanin"/>
              </a:rPr>
              <a:t>32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3</a:t>
            </a:r>
            <a:r>
              <a:rPr b="0" lang="fa-IR" sz="2800" spc="-1" strike="noStrike">
                <a:solidFill>
                  <a:srgbClr val="000000"/>
                </a:solidFill>
                <a:latin typeface="Times New Roman"/>
                <a:ea typeface="B Nazanin"/>
              </a:rPr>
              <a:t> % × </a:t>
            </a:r>
            <a:r>
              <a:rPr b="0" lang="fa-IR" sz="2800" spc="-1" strike="noStrike">
                <a:solidFill>
                  <a:srgbClr val="000000"/>
                </a:solidFill>
                <a:latin typeface="Times New Roman"/>
                <a:ea typeface="B Nazanin"/>
              </a:rPr>
              <a:t>139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ج:          </a:t>
            </a:r>
            <a:r>
              <a:rPr b="0" lang="fa-IR" sz="2800" spc="-1" strike="noStrike">
                <a:solidFill>
                  <a:srgbClr val="000000"/>
                </a:solidFill>
                <a:latin typeface="Times New Roman"/>
                <a:ea typeface="B Nazanin"/>
              </a:rPr>
              <a:t>763</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36</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12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د:        </a:t>
            </a:r>
            <a:r>
              <a:rPr b="0" lang="fa-IR" sz="2800" spc="-1" strike="noStrike">
                <a:solidFill>
                  <a:srgbClr val="000000"/>
                </a:solidFill>
                <a:latin typeface="Times New Roman"/>
                <a:ea typeface="B Nazanin"/>
              </a:rPr>
              <a:t>9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2</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750</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6" name=""/>
          <p:cNvSpPr txBox="1"/>
          <p:nvPr/>
        </p:nvSpPr>
        <p:spPr>
          <a:xfrm>
            <a:off x="3240" y="228600"/>
            <a:ext cx="8991360" cy="6477120"/>
          </a:xfrm>
          <a:prstGeom prst="rect">
            <a:avLst/>
          </a:prstGeom>
          <a:noFill/>
          <a:ln w="0">
            <a:noFill/>
          </a:ln>
        </p:spPr>
        <p:txBody>
          <a:bodyPr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جمع میانگین موزون حاشیه فروش کالاها</a:t>
            </a:r>
            <a:r>
              <a:rPr b="0" lang="fa-IR" sz="2800" spc="-1" strike="noStrike">
                <a:solidFill>
                  <a:srgbClr val="000000"/>
                </a:solidFill>
                <a:latin typeface="Times New Roman"/>
                <a:ea typeface="B Nazanin"/>
              </a:rPr>
              <a:t>:  ریال </a:t>
            </a:r>
            <a:r>
              <a:rPr b="0" lang="fa-IR" sz="2800" spc="-1" strike="noStrike">
                <a:solidFill>
                  <a:srgbClr val="000000"/>
                </a:solidFill>
                <a:latin typeface="Times New Roman"/>
                <a:ea typeface="B Nazanin"/>
              </a:rPr>
              <a:t>1739</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566</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32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763</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9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لا که تمامی مجهولات مثال را بدست آوردیم به مرحله نهایی و محاسبه نقطه سر به سر تمامی کالاها میرویم: </a:t>
            </a:r>
            <a:endParaRPr b="0" lang="en-US" sz="2800" spc="-1" strike="noStrike">
              <a:solidFill>
                <a:srgbClr val="000000"/>
              </a:solidFill>
              <a:latin typeface="Calibri"/>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جمع میانگین موزون کالاها </a:t>
            </a:r>
            <a:r>
              <a:rPr b="1" lang="en-US" sz="2400" spc="-1" strike="noStrike">
                <a:solidFill>
                  <a:srgbClr val="000000"/>
                </a:solidFill>
                <a:latin typeface="Times New Roman"/>
                <a:ea typeface="B Nazanin"/>
              </a:rPr>
              <a:t>÷</a:t>
            </a:r>
            <a:r>
              <a:rPr b="1" lang="fa-IR" sz="2400" spc="-1" strike="noStrike">
                <a:solidFill>
                  <a:srgbClr val="000000"/>
                </a:solidFill>
                <a:latin typeface="Times New Roman"/>
                <a:ea typeface="B Nazanin"/>
              </a:rPr>
              <a:t> هزینه هاي ثابت = نقطه سر به سر تمامی کالاها</a:t>
            </a:r>
            <a:endParaRPr b="0" lang="en-US" sz="2400" spc="-1" strike="noStrike">
              <a:solidFill>
                <a:srgbClr val="000000"/>
              </a:solidFill>
              <a:latin typeface="Calibri"/>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ریال براي کل کالاها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r>
              <a:rPr b="0" lang="fa-IR" sz="2400" spc="-1" strike="noStrike">
                <a:solidFill>
                  <a:srgbClr val="000000"/>
                </a:solidFill>
                <a:latin typeface="Times New Roman"/>
                <a:ea typeface="B Nazanin"/>
              </a:rPr>
              <a:t>1739</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7,560,000</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حال میخواهیم نقطه سربه سر براي هر کالا به تفکیک محاسبه کنیم:</a:t>
            </a:r>
            <a:endParaRPr b="0" lang="en-US" sz="2400" spc="-1" strike="noStrike">
              <a:solidFill>
                <a:srgbClr val="000000"/>
              </a:solidFill>
              <a:latin typeface="Calibri"/>
            </a:endParaRPr>
          </a:p>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تعداد محصول در نقطه سربه سر =درصد قیمت فروش هر واحد</a:t>
            </a:r>
            <a:r>
              <a:rPr b="1" lang="en-US" sz="2000" spc="-1" strike="noStrike">
                <a:solidFill>
                  <a:srgbClr val="000000"/>
                </a:solidFill>
                <a:latin typeface="Times New Roman"/>
                <a:ea typeface="B Nazanin"/>
              </a:rPr>
              <a:t> × </a:t>
            </a:r>
            <a:r>
              <a:rPr b="1" lang="fa-IR" sz="2000" spc="-1" strike="noStrike">
                <a:solidFill>
                  <a:srgbClr val="000000"/>
                </a:solidFill>
                <a:latin typeface="Times New Roman"/>
                <a:cs typeface="B Nazanin"/>
              </a:rPr>
              <a:t>جمع میانگین موزون کالاها</a:t>
            </a:r>
            <a:endParaRPr b="0" lang="en-US" sz="20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الف در نقطه سر به سر:                    </a:t>
            </a:r>
            <a:r>
              <a:rPr b="0" lang="fa-IR" sz="2400" spc="-1" strike="noStrike">
                <a:solidFill>
                  <a:srgbClr val="000000"/>
                </a:solidFill>
                <a:latin typeface="Times New Roman"/>
                <a:ea typeface="B Nazanin"/>
              </a:rPr>
              <a:t>1261</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29</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ب در نقطه سر به سر:                     </a:t>
            </a:r>
            <a:r>
              <a:rPr b="0" lang="fa-IR" sz="2400" spc="-1" strike="noStrike">
                <a:solidFill>
                  <a:srgbClr val="000000"/>
                </a:solidFill>
                <a:latin typeface="Times New Roman"/>
                <a:ea typeface="B Nazanin"/>
              </a:rPr>
              <a:t>1000</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23</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ج در نقطه سر به سر:                      </a:t>
            </a:r>
            <a:r>
              <a:rPr b="0" lang="fa-IR" sz="2400" spc="-1" strike="noStrike">
                <a:solidFill>
                  <a:srgbClr val="000000"/>
                </a:solidFill>
                <a:latin typeface="Times New Roman"/>
                <a:ea typeface="B Nazanin"/>
              </a:rPr>
              <a:t>1565</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36</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د در نقطه سر به سر:                        </a:t>
            </a:r>
            <a:r>
              <a:rPr b="0" lang="fa-IR" sz="2400" spc="-1" strike="noStrike">
                <a:solidFill>
                  <a:srgbClr val="000000"/>
                </a:solidFill>
                <a:latin typeface="Times New Roman"/>
                <a:ea typeface="B Nazanin"/>
              </a:rPr>
              <a:t>522</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12</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یعنی براي هر یک از محصولات فوق در صورت تولید و فروش این تعداد، </a:t>
            </a:r>
            <a:r>
              <a:rPr b="1" lang="fa-IR" sz="2400" spc="-1" strike="noStrike">
                <a:solidFill>
                  <a:srgbClr val="000000"/>
                </a:solidFill>
                <a:latin typeface="Times New Roman"/>
                <a:cs typeface="B Nazanin"/>
              </a:rPr>
              <a:t>نه سودي وجود دارد و نه زیان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8"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9" name="Picture 3" descr=""/>
          <p:cNvPicPr/>
          <p:nvPr/>
        </p:nvPicPr>
        <p:blipFill>
          <a:blip r:embed="rId1"/>
          <a:stretch/>
        </p:blipFill>
        <p:spPr>
          <a:xfrm>
            <a:off x="0" y="1676520"/>
            <a:ext cx="9144000" cy="5181480"/>
          </a:xfrm>
          <a:prstGeom prst="rect">
            <a:avLst/>
          </a:prstGeom>
          <a:ln w="0">
            <a:noFill/>
          </a:ln>
        </p:spPr>
      </p:pic>
      <p:sp>
        <p:nvSpPr>
          <p:cNvPr id="910"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1"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12"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14"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15"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16"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ششم</a:t>
            </a:r>
            <a:endParaRPr b="0" lang="en-US" sz="6000" spc="-1" strike="noStrike">
              <a:solidFill>
                <a:srgbClr val="000000"/>
              </a:solidFill>
              <a:latin typeface="Calibri"/>
            </a:endParaRPr>
          </a:p>
        </p:txBody>
      </p:sp>
      <p:sp>
        <p:nvSpPr>
          <p:cNvPr id="918" name=""/>
          <p:cNvSpPr txBox="1"/>
          <p:nvPr/>
        </p:nvSpPr>
        <p:spPr>
          <a:xfrm>
            <a:off x="174240" y="4876920"/>
            <a:ext cx="8839080" cy="761760"/>
          </a:xfrm>
          <a:prstGeom prst="rect">
            <a:avLst/>
          </a:prstGeom>
          <a:noFill/>
          <a:ln w="0">
            <a:noFill/>
          </a:ln>
        </p:spPr>
        <p:txBody>
          <a:bodyPr anchor="t">
            <a:normAutofit fontScale="99000"/>
          </a:bodyPr>
          <a:p>
            <a:pPr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B Nazanin"/>
              </a:rPr>
              <a:t>تجزیه و تحلیل نقطه سر به سر</a:t>
            </a:r>
            <a:endParaRPr b="0" lang="en-US" sz="4400" spc="-1" strike="noStrike">
              <a:solidFill>
                <a:srgbClr val="000000"/>
              </a:solidFill>
              <a:latin typeface="Calibri"/>
            </a:endParaRPr>
          </a:p>
        </p:txBody>
      </p:sp>
      <p:sp>
        <p:nvSpPr>
          <p:cNvPr id="919" name="Title 1"/>
          <p:cNvSpPr/>
          <p:nvPr/>
        </p:nvSpPr>
        <p:spPr>
          <a:xfrm>
            <a:off x="479520" y="6094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شش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595959"/>
                </a:solidFill>
                <a:latin typeface="Times New Roman"/>
                <a:cs typeface="B Titr"/>
              </a:rPr>
              <a:t>نقطه سر به سر چیست؟</a:t>
            </a:r>
            <a:endParaRPr b="0" lang="en-US" sz="3600" spc="-1" strike="noStrike">
              <a:solidFill>
                <a:srgbClr val="000000"/>
              </a:solidFill>
              <a:latin typeface="Calibri"/>
            </a:endParaRPr>
          </a:p>
        </p:txBody>
      </p:sp>
      <p:sp>
        <p:nvSpPr>
          <p:cNvPr id="921" name=""/>
          <p:cNvSpPr txBox="1"/>
          <p:nvPr/>
        </p:nvSpPr>
        <p:spPr>
          <a:xfrm>
            <a:off x="152280" y="1600200"/>
            <a:ext cx="8839440" cy="495288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عریف نقطه سر به سر: </a:t>
            </a:r>
            <a:r>
              <a:rPr b="0" lang="fa-IR" sz="3200" spc="-1" strike="noStrike">
                <a:solidFill>
                  <a:srgbClr val="000000"/>
                </a:solidFill>
                <a:latin typeface="Times New Roman"/>
                <a:cs typeface="B Nazanin"/>
              </a:rPr>
              <a:t>نقطه اي است که در آن، درآمد ها با هزینه ها برابر اس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و این نقطه نشان می دهد که یک سرمایه گذار چه زمانی می تواند به سود برسد نقطه سر</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ه سر را میتوان برابری فروش و هزینه یا برابری ورودی ها و خروجی ها بیان کرد که همگی یک معنا دارند که در نقطه سر به سر نه سودی وجود دارد نه زیانی یعنی سود حاصله از فروش کالاها فقط و فقط می تواند هزینه هاي تولید کالاها را جبران ک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2" name=""/>
          <p:cNvSpPr txBox="1"/>
          <p:nvPr/>
        </p:nvSpPr>
        <p:spPr>
          <a:xfrm>
            <a:off x="152280" y="533160"/>
            <a:ext cx="8839440" cy="5592600"/>
          </a:xfrm>
          <a:prstGeom prst="rect">
            <a:avLst/>
          </a:prstGeom>
          <a:noFill/>
          <a:ln w="0">
            <a:noFill/>
          </a:ln>
        </p:spPr>
        <p:txBody>
          <a:bodyPr anchor="t">
            <a:normAutofit fontScale="92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تحلیل نقطه سر</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ه سر این امکان را فراهم می آورد که ارتباط بین هزینه هایی که ثابت و متغییر  و سود ناشی از کسب و کار را بشناسیم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مچنین می توان با استفاده از این تحلیل متوجه شد که چه میزان از محصول در قیمت مشخص فروخته شود تا کسب و کار به مرز سوددهی برس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تولید شامل:</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 هزینه متغیر</a:t>
            </a:r>
            <a:r>
              <a:rPr b="0" lang="fa-IR" sz="3200" spc="-1" strike="noStrike">
                <a:solidFill>
                  <a:srgbClr val="000000"/>
                </a:solidFill>
                <a:latin typeface="Times New Roman"/>
                <a:ea typeface="B Nazanin"/>
              </a:rPr>
              <a:t>(هزینه هاي تولید یک واحد محصول)</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متغیر هزینه هایی هستند که با افزایش تولید افزایش پیدا می کنند و یا باکاهش تولید کاه ش پیدا</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میکنند مانند: مواداولیه مصرف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3" name=""/>
          <p:cNvSpPr txBox="1"/>
          <p:nvPr/>
        </p:nvSpPr>
        <p:spPr>
          <a:xfrm>
            <a:off x="152280" y="533160"/>
            <a:ext cx="8839440" cy="5592600"/>
          </a:xfrm>
          <a:prstGeom prst="rect">
            <a:avLst/>
          </a:prstGeom>
          <a:noFill/>
          <a:ln w="0">
            <a:noFill/>
          </a:ln>
        </p:spPr>
        <p:txBody>
          <a:bodyPr anchor="t">
            <a:normAutofit fontScale="95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هزینه ثابت</a:t>
            </a:r>
            <a:r>
              <a:rPr b="0" lang="fa-IR" sz="3200" spc="-1" strike="noStrike">
                <a:solidFill>
                  <a:srgbClr val="000000"/>
                </a:solidFill>
                <a:latin typeface="Times New Roman"/>
                <a:ea typeface="B Nazanin"/>
              </a:rPr>
              <a:t>(هزینه هایی از قبیل: آب، برق، اجاره، استهلاك و...)</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ثابت هزینه هایی هستند که با افزایش و یا کاهش تولید تغییري نمیکنند مانند: هزینه اجاره</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ج- نوع سوم هزینه ها </a:t>
            </a:r>
            <a:r>
              <a:rPr b="0" lang="fa-IR" sz="3200" spc="-1" strike="noStrike">
                <a:solidFill>
                  <a:srgbClr val="000000"/>
                </a:solidFill>
                <a:latin typeface="Times New Roman"/>
                <a:cs typeface="B Nazanin"/>
              </a:rPr>
              <a:t>وجود دارد که شامل هر دو دسته از هزینه هاي هستند مانند هزینه هاي پرسنل، مثلاً در زمان افزایش تولید هزینه پرسنل خط تولید افزایش پیدا میکند ولی در هزینه پرسنل اداري هیچ تغییري نمیکند اما می توان در اینگونه موارد با تعیین درصد متغیر و ثابت بودن هزینه ها را از یکدیگر تفکیک ک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6:55Z</dcterms:modified>
  <cp:revision>1412</cp:revision>
  <dc:subject/>
  <dc:title>Slide 1</dc:title>
</cp:coreProperties>
</file>