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69972-CB2B-4D3F-8A19-FF0736C80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083AF-B9C0-40F3-B18D-7815C7AEB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570523C-2C24-4AFC-9661-502949F0B89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5FDE4A2-A22D-4B36-8CCD-8C9CC30BD79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CC67591-2285-4CEF-9C89-71297D4136E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FBE667A-DE67-48FA-9CCB-00447E38092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6AD4718-14D7-499B-87DD-9A785A5AE0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167A73D-2370-4871-A2B6-53F08E1DA0E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B5420E9-34AB-474E-B6D8-90158894994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4E8C880-BC60-43EA-B093-9DF9CE7B4EB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59B80E5-AC50-4018-A632-E32370AB64E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B1B788F-445F-42A0-8946-B7AEEE2249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1A880-1D82-4BAC-858C-4D61311AD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D7FBC02-9C79-4BA9-81C7-D66E55C743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A4DCBC4-F085-438D-9E97-2915CC185A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AD27C88-73C5-468B-BC3F-8998E1D06F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1E0F4B2-6D3C-44AF-8266-3E11B1A2D4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77FE778-24EF-4984-87FF-A3B7795B64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1465A61-F12C-4836-9E61-95DA7504F4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D263432-0143-4820-B528-A63A309137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584D9AB-F1A6-4105-BE5D-EC052E5AC8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BB5CAE3-D9CF-4E5E-BF26-1E63C65EC8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8780AF0-7A3B-4514-87BD-7B7F972360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5FF39-D6FC-4DD8-95A4-EA40A976A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DF0CA74-4F68-4BC9-BD9F-C32D5BF06D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47D80F51-BA48-4C7D-A5F1-727D4532B1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5C24834-83FE-451A-BEC2-916141AB72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4F0B77EE-6E8C-4B07-B938-A261E4235A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7AA4C5A2-CF56-4DAE-9753-773586398F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F1F937C-99DA-4995-A99B-DB6895C3BC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AD77F9A-C846-45BB-8609-C53C3830D8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98BAB1EB-905B-4010-925D-D0471441A1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19B3B1C8-9FB3-4D82-94CB-74D27DBE5C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C94D755-62B6-4971-BDA3-1BCAD5B508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21536-D621-4562-93DE-167C32445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C4D98235-1A23-439A-BCC0-CBF07E4ACE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662DCA23-86D9-4050-881C-9FAE99277B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3DB8C312-8265-46A4-9F8A-7B4E5DD6CD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2331DFA-9AD2-4E0A-A0E3-B2B3F722A5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03FDD8B-464D-4D41-8DA0-34536958C2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9108E1B-321F-470A-A463-49BD02B6F4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36E1497-D362-4C50-84EF-A858447997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FFD04CB-9B5B-4CA5-A020-51CC8FC016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6F5F670-8F9A-46BB-907A-CE87B83888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CFD4F82-CAA1-4135-B14C-611CFD8B10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ED6B1-21F3-4909-9F51-D2D1C7A91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64D82E0-7075-4631-985E-CF5B831FE5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F13FF78-2D06-4BFE-8A71-6D2CBCF1DC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358EC4F-8B24-43CF-9A6A-3441A27D78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8CDE624-A63D-4E8A-B0B1-41AD7662BC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B043AC6-ED4D-472F-8184-A599F65FE1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F3862-7917-4922-9256-6A8F19C55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D3F14-E50E-4967-A5F7-0E8F83D7F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41416-C5B9-4DB1-BE1D-1766A9302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FEAFE-517D-45D0-BAAD-FCC485D7D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12793-A757-4035-8AF9-CC02DE68E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AC3F7-D7DA-423C-9C64-62A05DC09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B7456-44F1-466B-A682-5C1DBB404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FFD6C-77AC-48FB-B963-5566F74EE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4A60E-CF52-4D9B-B56F-1242B775B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25400-E875-4632-8D11-C63C768E1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512FA-FB85-4FAB-9304-5D237B708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C59D33-EC41-46EF-B04B-476D5275AE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B4E16-3E8D-4105-A5D2-5DED7A949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B90DFF-1E32-4059-8E4C-938AAEA109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82DDBA-BCE1-4EAC-835B-D634D3304E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EEC26-798C-420F-85BA-5541C70A09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2B34C-83F1-4535-8FE9-5105594BB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5EE21-5EA6-467F-B153-68A45CE5A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58EA4-1D3A-493F-BE91-F00E453DD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F89A0-F306-4274-9682-A634C19D0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55DBA-4D7C-43A6-8742-2F2193C829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307501-603E-441B-8589-48FDD5F43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A907B8-4C2B-420A-9A65-3937751C32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23BAAA-766B-4B78-AFB7-7FFEE904A7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5C63028A-17C3-4433-9964-9D0DE28BD64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A53E1F89-16A4-41A2-9B81-07E7A9B4D3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85E6DA24-78D8-4403-99D2-B671E8B7831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B2327-96B2-406B-A6AF-DA9A78503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5E45248A-4671-446C-961B-E34D4F441FF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D3DDDAED-13D9-44F2-94DE-88A0ED9D4E0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2C1FC97A-CB55-4405-825B-9A8BB80CB64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570C1B73-7AFD-4592-B6D8-CD510778069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DC780FD9-2333-4EBC-8813-F4086C05082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C24B19A3-075F-4441-9579-0D5DD98196B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31349CC9-3FBD-4255-9581-47B221F51B8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01E24D87-E611-42EF-8AE7-92D1BABBAB4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C13B23B0-1162-476D-94CA-0C848010388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D881FF7E-FCBA-49C4-A8AB-78B3C09DB5E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E5CAD-1513-4384-A69F-EA6D80DE6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1F366897-4DFE-43BE-B1D9-F63B2C14AB8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51C2ED0E-1F63-449C-A32A-CA7C927E928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6A3F6DFC-0BDC-45D0-86C2-27C72BBBD1A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7BE36C2E-D2A0-4785-BC18-DE7B9AADEBE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B43D601A-A75F-4439-BAC4-1AE9D26882A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7D9C0449-2281-47B0-8355-4CA48986AA1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238B229-3B7D-461C-A850-4CA1B3A9C49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DBD3967-0083-4EF6-AAD9-06D987AB3E6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7BDACEF2-68AC-480B-A746-362F58A698E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652EA445-CC87-4A73-B9F5-86E4DFC357B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05CF4-2121-46A6-99CF-136F39475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B9F4E6D3-C0BA-4A1C-A431-23C8A02448B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8CE4E7EE-25BF-4F47-AD8D-710E10B251B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08688A02-0ED1-4F98-9F89-A5D1ABC6B91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0E2A1991-2EDC-4350-999F-115588B65E6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F4368F17-2768-42D6-885F-A192BE10E93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0A969A88-0D98-43FA-ABC0-F449C375FDD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1A4701B2-B1FF-43C3-A305-0A7E017C39C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6EBA3BD-962A-46DF-BA10-839428F60BA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C354A22-ED86-48C4-899B-12A5146FDEC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8043E278-D399-4D2E-BE1E-2AE0AF692B2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E65E-25A3-42D3-AF93-6CA7519B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6B1EF7E3-6E94-45A4-A03A-3E19DEFAD7F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5C5CA28C-2C37-4FDD-BD68-DCA7F047FB9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E621A106-B67E-483F-9B7A-038CEBBE968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19FE29D3-FB2A-4CAF-A183-F001DCCDCFF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95D86708-D65A-441E-B9A1-D64315AECFD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968AFE35-260A-4F26-92E6-3539AFFDE06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8F1B68D-1ADE-4D31-8DAA-A2E7537B51F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77215F3F-A6D1-41E8-B0CF-2017F165211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68AD87A2-EFA6-4C6D-A40E-AE83C3341BE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B41237CA-9DBF-4BD1-BC8B-4EE931CEF5B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757F0-191A-4C53-A4C7-667820912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312934CC-33CE-439B-A545-0A86A9EEF71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273B7991-0050-4B0C-8C89-E212942F425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A14095FD-DB90-4887-A8B8-9ED4C5F5CCA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DB125296-1770-43E7-8311-C38E2B15E68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AEC7EAA9-E17D-4339-B283-846ADA0C82E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700EE9A4-93C6-4560-B640-F3362FFC822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38E85B02-9B83-4715-8385-2927FA97B66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BC6D2E78-E443-460A-8134-09951CAF7F7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F43ECA87-A67A-46ED-B23C-0B6A44E76FF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7B3A2D2A-3462-4B0E-B335-B60FCC90AFB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4968C-7611-42C0-9903-6114DE15B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208F5A7C-EB76-4F2E-94F3-4212BCB1829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96C42BC-0476-4EC3-80D7-0842ECBA9F3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B10D8CBB-B12D-431B-B238-ADBE86CFF83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F4F3D6D9-C962-4507-8EA3-9F276A259CF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17F61FDF-DBC9-4A43-9912-2004BCC0292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AC420375-84AD-4063-9766-C83F3C6EE79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9FFBAF93-8E4E-43EC-A06A-F82116A265C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C2FA157-7E0B-4B4D-8A3F-68D24D0072A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1A50D4B-5453-4DFA-A979-AADA2B52B1B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7ACF86F-79F9-42BF-AC77-53ED40A7C24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981A-7978-4DFD-B72B-93B1DD7BF4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2F38-BFA8-46A8-BFAA-B485F73C07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678F-74F7-468D-896C-D59F56BAE3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AC83-BFE1-4E32-89FE-2D500A2A1D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5F61-F651-4C31-9160-D1956516C2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1C04-8370-466E-9DCD-BDB5B33BC3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755C-6E4D-4F92-BEBC-22C0D7BABD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E2D9-F602-4CBF-9E65-18B59953B4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240F-5AD7-4356-95EF-EF3C6C92C2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B9C8-26BC-482D-95C6-7EA55BDAED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5FE8-3E93-4618-ADBE-2C08F6F11F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DC4D-9365-43DB-9CEE-F18D4F13D1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6" name=""/>
          <p:cNvSpPr txBox="1"/>
          <p:nvPr/>
        </p:nvSpPr>
        <p:spPr>
          <a:xfrm>
            <a:off x="152280" y="228600"/>
            <a:ext cx="8839440" cy="6324480"/>
          </a:xfrm>
          <a:prstGeom prst="rect">
            <a:avLst/>
          </a:prstGeom>
          <a:noFill/>
          <a:ln w="0">
            <a:noFill/>
          </a:ln>
        </p:spPr>
        <p:txBody>
          <a:bodyPr anchor="t">
            <a:normAutofit fontScale="93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۲</a:t>
            </a:r>
            <a:r>
              <a:rPr b="1" lang="fa-IR" sz="3200" spc="-1" strike="noStrike">
                <a:solidFill>
                  <a:srgbClr val="000000"/>
                </a:solidFill>
                <a:latin typeface="Times New Roman"/>
                <a:ea typeface="B Nazanin"/>
              </a:rPr>
              <a:t>:به حداقل رساندن زمان فرایند از طریق فرایند زیر:</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طراحی خطوط تولیدی مناسب برای گردش سریع مواد و کالاها</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وسایل مناسب برای حمل و نقل سریع موا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۳</a:t>
            </a:r>
            <a:r>
              <a:rPr b="1" lang="fa-IR" sz="3200" spc="-1" strike="noStrike">
                <a:solidFill>
                  <a:srgbClr val="000000"/>
                </a:solidFill>
                <a:latin typeface="Times New Roman"/>
                <a:ea typeface="B Nazanin"/>
              </a:rPr>
              <a:t>:استفاده بهینه از فضای موج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۴</a:t>
            </a:r>
            <a:r>
              <a:rPr b="1" lang="fa-IR" sz="3200" spc="-1" strike="noStrike">
                <a:solidFill>
                  <a:srgbClr val="000000"/>
                </a:solidFill>
                <a:latin typeface="Times New Roman"/>
                <a:ea typeface="B Nazanin"/>
              </a:rPr>
              <a:t>: استفاده بهینه از نیروی انسانی با فراهم کردن محیط کار مناسب و ایمن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70c0"/>
                </a:solidFill>
                <a:latin typeface="Times New Roman"/>
                <a:cs typeface="B Nazanin"/>
              </a:rPr>
              <a:t>اصل موازنه</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نظور از اصل موازنه  یا توازن در مدیریت تولید  این است که هر ایستگاه کار در خط تولید باید دارای چنان ظرفیتی باشد که بتواند تمام کار مرحله قبلی دریافت ک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وازون تولید باعث کاهش موجودی انبارها و کاهش زمان بیکاری و زیان ناشی از تاخیر تولید محصولات می شود</a:t>
            </a:r>
            <a:endParaRPr b="0" lang="en-US" sz="3200" spc="-1" strike="noStrike">
              <a:solidFill>
                <a:srgbClr val="000000"/>
              </a:solidFill>
              <a:latin typeface="Calibri"/>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ظرفیت هر یک از  ایستگاه های کار باید طوری باشد که به راحتی تمام کار ماشین یا ایستگاه کار قبلی را دریافت کند و خود نیز به اندازه ظرفیت ماشین یا ایستگاه کار بعدی کار  ایجاد نمای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1920" y="304920"/>
            <a:ext cx="8915400" cy="6324480"/>
          </a:xfrm>
          <a:prstGeom prst="rect">
            <a:avLst/>
          </a:prstGeom>
          <a:noFill/>
          <a:ln w="0">
            <a:noFill/>
          </a:ln>
        </p:spPr>
        <p:txBody>
          <a:bodyPr anchor="t">
            <a:normAutofit fontScale="89000"/>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215968"/>
                </a:solidFill>
                <a:latin typeface="Times New Roman"/>
                <a:cs typeface="B Nazanin"/>
              </a:rPr>
              <a:t>سطوح عمودي كارخانه :</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بطور كلي شش سطح در يك كارخانه وجود دارد كه عبارتند از:</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زيرزميني: در اين سطح معمولاً وسائل گرمايش، فاضلاب و ضايعات قرار مي‌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همكف: در اين سطح تجهيزات، انبارها و ابزار قرار مي 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حركت محصولات: سطحي است فرضي حدود يك متر بالاتر از سطح زمين قرار دارد مواد در اين سطح بين ماشين‌آلات انتقال مي‌يابن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600"/>
            <a:ext cx="8839440" cy="64771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آزاد: از بالاي بالاترين ماشين تا پايين خرپاي نگهدارندة سقف را شامل مي‌گردد معمولاً از اين سطح براي نقاله‌هاي بالابر و ياجابجا كننده استفاده مي‌ش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اسكلت فلزي: از پايين‌ترين قسمت اسكلت فلزي تا زير سقف را شامل مي‌شود و از اين سطح براي وسائل تهويه، سرمايشي، سيم‌كشي‌ها و لوله‌هاي آب پاشي استفاده مي گرد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پشت بام: براي وسائل تهويه و تانكرهاي آب مورد استفاده قرار مي‌گي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1904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چهارم</a:t>
            </a:r>
            <a:endParaRPr b="0" lang="en-US" sz="6000" spc="-1" strike="noStrike">
              <a:solidFill>
                <a:srgbClr val="000000"/>
              </a:solidFill>
              <a:latin typeface="Calibri"/>
            </a:endParaRPr>
          </a:p>
        </p:txBody>
      </p:sp>
      <p:sp>
        <p:nvSpPr>
          <p:cNvPr id="911" name=""/>
          <p:cNvSpPr txBox="1"/>
          <p:nvPr/>
        </p:nvSpPr>
        <p:spPr>
          <a:xfrm>
            <a:off x="152280" y="4952520"/>
            <a:ext cx="8763120" cy="12193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نحوه استقرار ماشین آلات</a:t>
            </a:r>
            <a:endParaRPr b="0" lang="en-US" sz="5400" spc="-1" strike="noStrike">
              <a:solidFill>
                <a:srgbClr val="000000"/>
              </a:solidFill>
              <a:latin typeface="Calibri"/>
            </a:endParaRPr>
          </a:p>
        </p:txBody>
      </p:sp>
      <p:sp>
        <p:nvSpPr>
          <p:cNvPr id="912" name="Title 1"/>
          <p:cNvSpPr/>
          <p:nvPr/>
        </p:nvSpPr>
        <p:spPr>
          <a:xfrm>
            <a:off x="419040" y="9302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ff"/>
                </a:solidFill>
                <a:latin typeface="IranNastaliq"/>
                <a:cs typeface="IranNastaliq"/>
              </a:rPr>
              <a:t>جلسه چهار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
          <p:cNvSpPr txBox="1"/>
          <p:nvPr/>
        </p:nvSpPr>
        <p:spPr>
          <a:xfrm>
            <a:off x="152280" y="533160"/>
            <a:ext cx="8839440" cy="56386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قدمه :</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Nazanin"/>
              </a:rPr>
              <a:t> </a:t>
            </a:r>
            <a:r>
              <a:rPr b="1" lang="fa-IR" sz="2800" spc="-1" strike="noStrike">
                <a:solidFill>
                  <a:srgbClr val="000000"/>
                </a:solidFill>
                <a:latin typeface="Times New Roman"/>
                <a:cs typeface="B Nazanin"/>
              </a:rPr>
              <a:t>ماشین آلات بگونه ای استقرار می یابد که تولید ، اقتصادی و مقرون به صرفه باشد. این محل احتیاج به تحلیل هدف ، مراحل کار ، گردش عملیات ، تسهیلات و . . . دار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خط و مشی های مدیریت:</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نظور ، سیاستهای مشخص کننده نوع ، کیفیت محصول ، اندازه کارخانه ، نحوه انعطاف پذیری در کارخانه ، برنامه های توسعه ، میزان موجودی و نوع تسهیلات برای کارکنان است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4" name=""/>
          <p:cNvSpPr txBox="1"/>
          <p:nvPr/>
        </p:nvSpPr>
        <p:spPr>
          <a:xfrm>
            <a:off x="152280" y="456840"/>
            <a:ext cx="8839440" cy="6095880"/>
          </a:xfrm>
          <a:prstGeom prst="rect">
            <a:avLst/>
          </a:prstGeom>
          <a:noFill/>
          <a:ln w="0">
            <a:noFill/>
          </a:ln>
        </p:spPr>
        <p:txBody>
          <a:bodyPr anchor="t">
            <a:normAutofit fontScale="9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حل و موقعیت : </a:t>
            </a:r>
            <a:r>
              <a:rPr b="1" lang="fa-IR" sz="3200" spc="-1" strike="noStrike">
                <a:solidFill>
                  <a:srgbClr val="000000"/>
                </a:solidFill>
                <a:latin typeface="Times New Roman"/>
                <a:cs typeface="B Nazanin"/>
              </a:rPr>
              <a:t>ترکیب عوامل تولید در یک منطقه با منطقه دیگر بکلی متفاوت است. محل کارخانه از نظر وسعت و اندازه و شکل و موقعیت جغرافیایی و نوع ساختمان و ترتیب کلی استقرار و مکان آن به منظور دریافت حمل و نقل مواد و بارگیری صحیح و به منظور جریان صحیح تولید  در داخل و خارج کارخانه موث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فرایند های ساخت: </a:t>
            </a:r>
            <a:r>
              <a:rPr b="1" lang="fa-IR" sz="3200" spc="-1" strike="noStrike">
                <a:solidFill>
                  <a:srgbClr val="000000"/>
                </a:solidFill>
                <a:latin typeface="Times New Roman"/>
                <a:cs typeface="B Nazanin"/>
              </a:rPr>
              <a:t>نوع فرایند ساخت مورد استفاده در کارخانه یا عملیاتی که برای تولید انجام می شود در نوع جا و مکان مورد نظر در کارخانه موثر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
          <p:cNvSpPr txBox="1"/>
          <p:nvPr/>
        </p:nvSpPr>
        <p:spPr>
          <a:xfrm>
            <a:off x="152280" y="228600"/>
            <a:ext cx="8839440" cy="6324480"/>
          </a:xfrm>
          <a:prstGeom prst="rect">
            <a:avLst/>
          </a:prstGeom>
          <a:noFill/>
          <a:ln w="0">
            <a:noFill/>
          </a:ln>
        </p:spPr>
        <p:txBody>
          <a:bodyPr anchor="t">
            <a:normAutofit fontScale="96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اهداف و مزایای استفاده از محل و طرز استقرار داخلی:</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تسهیل فرایند تولید از طریق تدابیر زیر:</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تجهیزات در محلی که حداکثر استفاده از آن به عمل آ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کاهش تجمع و تراکم بیهوده مواد و نیروی انسانی از طریق تعیین صحیح ایستگاه های تول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دسترسی سریعتر به وسایل و خدمات تعمیرات و نگهدار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9:01Z</dcterms:modified>
  <cp:revision>1411</cp:revision>
  <dc:subject/>
  <dc:title>Slide 1</dc:title>
</cp:coreProperties>
</file>