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F4B06-C17B-4B8F-8271-46C85681F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14215-9C0E-4522-BBBC-20FFECBE9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14A554F-A4EF-4DAF-BBC4-5CF8D4327BD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4E245C4-0DCF-4717-941A-451C70FD069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0A0F02F-E9F9-4912-95AF-DE2D832E776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FB284D0-9B0F-47D7-9576-F2DD63883B4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7C62C1F-64C5-47E2-9E6B-B76ACC3A768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3F8172E-F514-4A17-ACDB-DF81B463B49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B4644DE-93F2-4F1C-A6E1-1DD526A1907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9C97944-3044-4733-B9BB-0171536D468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69D39D8-3684-41F5-AF6D-56E66E2C861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F901759-1A5F-4062-BA8C-28EE2B69AB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D5BFF-790C-4C4F-98A3-2A05B626F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409132B-ACD7-4210-AA19-A6F20A2242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C59E01C-9C37-4C90-9E57-4D28940923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E51388A-E8BA-440F-A195-902990C03F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E132474-97A5-4278-9022-41D6774BA4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7031EC9-246C-4910-AA69-5B445A0515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BFA1B96-676C-40DB-8DDC-52A6FA1B1A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01FF5E5-BA45-4AC7-AD87-DA28D6B4D1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FB550C7-FF53-44F3-B258-F7B835C51A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A5DBA4F-C905-4AC7-B031-80FC28885A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76229DE-1AB1-4E7E-8819-32405580393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6374D-9599-42A0-B93F-8CE9B2285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BB365D5-EA94-453A-B695-C8435E81D0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AD72A88B-BC9D-41D0-A575-42F3E0CAEE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E3DD5984-8850-4DCE-BC81-646F8915AC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038A59EE-F1C2-48CE-AA98-7F8CFCA345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D2C2C790-AF45-4875-8853-FB6A901850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A0CEF25E-DE9A-45DD-94F5-4FC169F5FC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AB3261F7-4C6E-4625-8484-ACCEBAF35A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0700B066-B926-4357-964C-0656DD6876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A63FC52A-3947-4367-8C06-745B30F849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239635C0-C58E-4567-8707-4BDC097444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AC9B9C-A3D2-411C-A13E-B166F672F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A3FDAD84-E67B-498E-AD86-CA0B269408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13D0275C-0B8D-4E01-B8DB-ACABB30F73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C5CB5859-C857-48BD-9512-F0E3918B47E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E90328A-0164-46F1-AA8D-A47360F453B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F9C7CF0-C663-4BC1-B4CA-F8B5289CD5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75AFE7C-29F1-400C-9438-E3A3FEE3C7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2E3B50F-2F7F-472B-840C-001F7479CA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A6ECD19-472E-4AF9-BA19-923B342848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DFBE813-78AF-4628-9F8B-5BF0C18F79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E46F75F-88E3-4A54-A752-FF6418E83F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CAB3F-A04B-4A09-90DB-2ED408F3A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9C6A82E-DAA4-4727-B1C1-AA40C17D01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5AFD5FC-E0BF-4FCB-ACE1-CE7FDC850A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59479DA-3E45-4D8E-AEFC-CCE6995BAF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1BFFF8D-1839-42B3-A6D6-4AED41E09A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02DDE97-D871-4FA1-9D92-16E0758B2E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DB5DD-EC0E-457B-8082-EC7D07585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9B975-923F-4EAD-A144-1C039F7D6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28510-2C9F-42E7-8F81-7BF68263F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1431D-4FFD-4636-81ED-BA3B0D53C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C4251-738C-47F6-8BAE-3DDA0C3DC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54FFF-2BCA-4E0D-BEB0-C8F35EDBC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89B95-8A8F-4DE8-904E-8432A6BCF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11339-46CF-46C9-8FC2-8BABBCCBD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32F47-0E75-42CE-9360-60938E9FD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5E607-C831-4764-9DD6-D7C2FAD24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789AC-FB3C-4417-B0A8-A1829F156C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731539-2EB0-44B0-8D3C-10045FE5A1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3A9D9C-BDF0-4006-866F-E7527D8124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4406C3-DD6A-4F9A-B40D-276D1E0993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34E388-9E1B-4B8C-9481-97FC1B4F0E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CA50CD-6FD0-4FD2-B365-B2EE4C5AF0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BE8A3-CD9A-499F-9315-884A5A6DD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3687E4-F01F-4EAF-A960-73C3195009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5814ED-2EC5-41B3-AE53-A8F033207E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9C2A45-FAE8-4135-BD3B-E36D3A916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3EC708-6B80-46CC-8252-A98A39062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377CB1-0DAD-44E3-9299-766C46D851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678AED-789A-42F6-9E81-8694DCF4FB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A7268D-9D73-499B-B82D-41DD5C9765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16379013-5147-49BE-B7C6-88BA2E71544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2C36C139-16F6-4FB1-8A62-12705DD386C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2385C0CE-285F-46BB-81B6-3304C976A49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700E9-7745-4528-A0F7-FFAF01AC6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BFA7D324-6EF7-4C0C-99D2-8D67074292C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CDD65EC2-5D29-4EF5-ACB4-FB8A51E348A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7A23AEB3-37C5-4E3F-96FB-03691CC4E37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17C5CD4F-2EF4-4A78-BDB4-315F4B91858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3CD2ABCF-C39E-4A5F-88CA-31BA744AE37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65468755-9BA1-484A-891D-81E263231A3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78DFC155-AE43-4FA8-9857-95340EF5853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5749D18B-FE42-4DAA-8F20-B3E3628FEF0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87A1CEB7-3853-424D-A035-6BDE1099A8A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6F97CC95-277F-4AC5-8BE2-78742AA921E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A393A-E40D-4698-A74C-20ADB31E8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2B574070-BBD1-4F23-9300-2097228A410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B3EF306A-33D9-4D7F-8673-B9591B88A30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B0C89BAE-35C0-4164-845A-69DD69F49B3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28515045-0248-49E5-BFC6-428528DFD04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7CFFBD28-E7A1-4445-A38A-1AD281A7AAC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ABBD25BB-9865-4ED1-83A5-4B452E03B91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592C3289-0874-4B59-B377-4B5E3A4E181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DD4909C7-BBFD-4876-95F5-CE6B3707502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33CCA59A-7E5C-4AA7-9189-6F371080F11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F7A66ED3-5E40-4DBE-899B-A8DF00FFC21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D73EA-176A-401D-B122-7B8B05BFA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FB694967-4E79-4499-8461-A9CD35E5132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750D82C5-103D-4D2B-8816-8FC7D30C84D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AFB3E6BC-C915-451C-841F-324BEEF0FA3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B1DAAD0C-5514-47E7-B0D3-61DEC839085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825D1855-E6FD-4A5E-8900-35BD0DE5F0B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E739F0AC-B112-421B-AC4C-6277A208E67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4E3CB56B-2A7A-4248-B69C-4A509394795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5976DF22-2759-49FE-86BF-030C9907509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87A3D1FC-D5CD-497C-A41D-3AB0E45427D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BD8E238E-A15B-49F8-B432-888AC3B6480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224FD-F956-4A74-B92C-F1ABF12D3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950DCABD-7616-4135-88C7-8F1D48EB81E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9630019C-C53F-4861-A4ED-16F5A110783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5DB79F27-6F7C-4FBE-842B-D7CF0B0F3DD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B4E63DB0-787C-42AF-9F3B-B0FD64DA8FF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388F0ACB-88EA-44F1-A1E9-2BD4BD8465B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A7A41E47-2212-4C34-975D-B0581647149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8E803B1C-317D-4448-A48A-823A46384F5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47582436-B919-4947-A317-B2206BA8A2A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4F78408A-72F1-45D0-8487-C7102019C47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E157C029-1D46-4738-A8FB-B32A32E2517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79300-6377-42BF-8631-89B2E8F7F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079B904A-353E-479E-91AB-9727DE78A7A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C5C7AA9B-D250-4672-9D28-5D5712771D1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3E71E36D-0184-48A2-AB5E-E73DAC44795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F8142718-A21B-4370-9513-B68B94673B0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31068E2B-9619-473E-9C06-C5E9DCD0C65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D46EC84D-07EA-4116-9C70-1BBDDB41613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429BEB61-914B-4739-BCB5-6E3D92A0BB3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016087C2-AB71-44B4-817E-1B75B2B2ED5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24266312-1650-4018-B624-6419E23E8DA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A70A6FFC-DC8E-451E-A6C6-B3055C22F9B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433E2-BD4A-455C-B4AE-2909243F7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028386A7-57A8-4D81-A837-0C2654CAFF4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3A6D9302-1C86-4794-A37D-C4DE853C07B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876E2B78-E085-4511-ABF8-7BE36F5F748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45F10C9A-09CC-4F54-B603-72E78B8D374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AD8FE54D-E078-4B5A-8906-4E770F97E8B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328FAD47-FC99-4B34-815A-F2AE61C783F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2FCA6CA4-F9BC-4030-9301-5BEEF9E1531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DB5133B-2B4F-46D7-9ACB-64DF60743D5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3CDDDF5-59E6-4EB2-9F9F-565559266BB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ACF0D4F-2FE7-4218-9815-6CBA8536CD4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820D-862A-476F-AB80-AA2E4F6AC6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2D75-F709-4567-98DD-9CD1414BFB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F9EF-1D38-4D21-AB47-26366C7F3B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BD16-FC44-4F77-908A-7622489BA7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8BB6-0725-4C7F-9CE2-B334A816FD9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E1AD-46D9-4DA8-8039-7EBAA26A4F7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6520-04FA-41D8-93F0-68A1C19EC4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AC7E-1746-42F4-9854-317A03BDB2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BBBCB-22DF-420F-9212-5247B0F88B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70BB-3138-424E-990C-83AD782743B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420B-A217-4163-AEF7-718B7D2C801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AFD32-8F96-462A-83DD-23DD90D53B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18" name="Content Placeholder 3" descr=""/>
          <p:cNvPicPr/>
          <p:nvPr/>
        </p:nvPicPr>
        <p:blipFill>
          <a:blip r:embed="rId1"/>
          <a:stretch/>
        </p:blipFill>
        <p:spPr>
          <a:xfrm>
            <a:off x="304920" y="380880"/>
            <a:ext cx="8505720" cy="624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انواع شيوه های پيش بينی</a:t>
            </a:r>
            <a:endParaRPr b="0" lang="en-US" sz="4800" spc="-1" strike="noStrike">
              <a:solidFill>
                <a:srgbClr val="000000"/>
              </a:solidFill>
              <a:latin typeface="Calibri"/>
            </a:endParaRPr>
          </a:p>
        </p:txBody>
      </p:sp>
      <p:sp>
        <p:nvSpPr>
          <p:cNvPr id="920" name=""/>
          <p:cNvSpPr txBox="1"/>
          <p:nvPr/>
        </p:nvSpPr>
        <p:spPr>
          <a:xfrm>
            <a:off x="152280" y="1523880"/>
            <a:ext cx="8839440" cy="5181840"/>
          </a:xfrm>
          <a:prstGeom prst="rect">
            <a:avLst/>
          </a:prstGeom>
          <a:noFill/>
          <a:ln w="0">
            <a:noFill/>
          </a:ln>
        </p:spPr>
        <p:txBody>
          <a:bodyPr anchor="t">
            <a:normAutofit fontScale="7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روش های کیفی: از تجربه و قضاوت افراد خبره استفاده می‌کنند. برخی از این روش ها عبارتند از :</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1</a:t>
            </a:r>
            <a:r>
              <a:rPr b="1" lang="fa-IR" sz="3200" spc="-1" strike="noStrike">
                <a:solidFill>
                  <a:srgbClr val="000000"/>
                </a:solidFill>
                <a:latin typeface="Times New Roman"/>
                <a:ea typeface="B Nazanin"/>
              </a:rPr>
              <a:t>. نظرخواهی از فروشندگان</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2</a:t>
            </a:r>
            <a:r>
              <a:rPr b="1" lang="fa-IR" sz="3200" spc="-1" strike="noStrike">
                <a:solidFill>
                  <a:srgbClr val="000000"/>
                </a:solidFill>
                <a:latin typeface="Times New Roman"/>
                <a:ea typeface="B Nazanin"/>
              </a:rPr>
              <a:t>. روش توافق جمعی</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3</a:t>
            </a:r>
            <a:r>
              <a:rPr b="1" lang="fa-IR" sz="3200" spc="-1" strike="noStrike">
                <a:solidFill>
                  <a:srgbClr val="000000"/>
                </a:solidFill>
                <a:latin typeface="Times New Roman"/>
                <a:ea typeface="B Nazanin"/>
              </a:rPr>
              <a:t>. انتظارات مصرف کنندگان</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4</a:t>
            </a:r>
            <a:r>
              <a:rPr b="1" lang="fa-IR" sz="3200" spc="-1" strike="noStrike">
                <a:solidFill>
                  <a:srgbClr val="000000"/>
                </a:solidFill>
                <a:latin typeface="Times New Roman"/>
                <a:ea typeface="B Nazanin"/>
              </a:rPr>
              <a:t>. روش دلفی</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روش های کمّی: از روش های ریاضی و آمار استفاده می‌کنند. که دسته بندی های زیر را شامل می شوند:</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روش های کیفی</a:t>
            </a:r>
            <a:endParaRPr b="0" lang="en-US" sz="4800" spc="-1" strike="noStrike">
              <a:solidFill>
                <a:srgbClr val="000000"/>
              </a:solidFill>
              <a:latin typeface="Calibri"/>
            </a:endParaRPr>
          </a:p>
        </p:txBody>
      </p:sp>
      <p:graphicFrame>
        <p:nvGraphicFramePr>
          <p:cNvPr id="922" name=""/>
          <p:cNvGraphicFramePr/>
          <p:nvPr/>
        </p:nvGraphicFramePr>
        <p:xfrm>
          <a:off x="533520" y="1600200"/>
          <a:ext cx="8458200" cy="4191120"/>
        </p:xfrm>
        <a:graphic>
          <a:graphicData uri="http://schemas.openxmlformats.org/drawingml/2006/table">
            <a:tbl>
              <a:tblPr/>
              <a:tblGrid>
                <a:gridCol w="2003400"/>
                <a:gridCol w="2781360"/>
                <a:gridCol w="2368440"/>
                <a:gridCol w="1305000"/>
              </a:tblGrid>
              <a:tr h="40788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نقاط ضع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نقاط قوت</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ويژگي ه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رو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072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عقيده يک مدير مي‌تواند نتيجه پيش‌بيني را تحت تاثير قرارده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مناسب براي پيش‌بيني‌هاي راهبردي و محصول جدي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پيش‌بيني با توجه به نظر گروهي از مديران تعيين مي‌شو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گروه مشورتي مديرا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مشکل بودن طراحي پرسشنامه خوب.</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تعيين کننده مناسب ترجيحات مشتر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با استفاده از پيمايش و مصاحبه، ترجيحات مشتري‌شناسايي‌مي‌شو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تحقيق بازا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072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زمان بر بود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روش عالي براي پيش‌بيني تقاضاي بلند مدت محصول، تحولات تکنولوژيک و پيشرفتهاي علم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به دنبال ايجاد اجماع بين متخصصين است.</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روش دلف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پنجم</a:t>
            </a:r>
            <a:endParaRPr b="0" lang="en-US" sz="6000" spc="-1" strike="noStrike">
              <a:solidFill>
                <a:srgbClr val="000000"/>
              </a:solidFill>
              <a:latin typeface="Calibri"/>
            </a:endParaRPr>
          </a:p>
        </p:txBody>
      </p:sp>
      <p:sp>
        <p:nvSpPr>
          <p:cNvPr id="911" name=""/>
          <p:cNvSpPr txBox="1"/>
          <p:nvPr/>
        </p:nvSpPr>
        <p:spPr>
          <a:xfrm>
            <a:off x="152280" y="5105520"/>
            <a:ext cx="8839440" cy="914400"/>
          </a:xfrm>
          <a:prstGeom prst="rect">
            <a:avLst/>
          </a:prstGeom>
          <a:noFill/>
          <a:ln w="0">
            <a:noFill/>
          </a:ln>
        </p:spPr>
        <p:txBody>
          <a:bodyPr anchor="t">
            <a:normAutofit/>
          </a:bodyPr>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0000"/>
                </a:solidFill>
                <a:latin typeface="Times New Roman"/>
                <a:cs typeface="B Nazanin"/>
              </a:rPr>
              <a:t>مدلهای پیش بینی</a:t>
            </a:r>
            <a:endParaRPr b="0" lang="en-US" sz="4800" spc="-1" strike="noStrike">
              <a:solidFill>
                <a:srgbClr val="000000"/>
              </a:solidFill>
              <a:latin typeface="Calibri"/>
            </a:endParaRPr>
          </a:p>
        </p:txBody>
      </p:sp>
      <p:sp>
        <p:nvSpPr>
          <p:cNvPr id="912" name="Title 2"/>
          <p:cNvSpPr/>
          <p:nvPr/>
        </p:nvSpPr>
        <p:spPr>
          <a:xfrm>
            <a:off x="457200" y="6476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پنج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پیش بینی</a:t>
            </a:r>
            <a:endParaRPr b="0" lang="en-US" sz="4800" spc="-1" strike="noStrike">
              <a:solidFill>
                <a:srgbClr val="000000"/>
              </a:solidFill>
              <a:latin typeface="Calibri"/>
            </a:endParaRPr>
          </a:p>
        </p:txBody>
      </p:sp>
      <p:sp>
        <p:nvSpPr>
          <p:cNvPr id="914" name=""/>
          <p:cNvSpPr txBox="1"/>
          <p:nvPr/>
        </p:nvSpPr>
        <p:spPr>
          <a:xfrm>
            <a:off x="152280" y="1599840"/>
            <a:ext cx="8839440" cy="4876920"/>
          </a:xfrm>
          <a:prstGeom prst="rect">
            <a:avLst/>
          </a:prstGeom>
          <a:noFill/>
          <a:ln w="0">
            <a:noFill/>
          </a:ln>
        </p:spPr>
        <p:txBody>
          <a:bodyPr anchor="t">
            <a:normAutofit fontScale="92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پیش بینی اولین ابزار برای برنامه ‌ریزی در سازمان است. زمانی برنامه ریزی این معنا را پیدا می کند که از هم اکنون تکلیف میزان و نوع منابع مورد نیاز محدود در اختیار مان را برای آینده مشخص کنیم، در نتیجه اصلی ‌ترین چیزی که باید بدانیم این است که چه مقدار تقاضا داریم یا اینکه چقدر احتمال فروش داریم که بر اساس آن میزان تولید و یا خریدمان را مشخص کنیم.</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به همین دلیل است که گفته می شود: پیش ‌بینی تقاضا اولین قدم در برنامه ‌ریزی است، که در برنامه ‌ریزی تولید معمولا برای افق </a:t>
            </a: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ساله در نظر گرفته می‌ شود. یعنی تقاضای </a:t>
            </a: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سال را پیش ‌بینی می ‌کنیم.</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ea typeface="B Titr"/>
              </a:rPr>
              <a:t> مدل های پیش بینی</a:t>
            </a:r>
            <a:endParaRPr b="0" lang="en-US" sz="4800" spc="-1" strike="noStrike">
              <a:solidFill>
                <a:srgbClr val="000000"/>
              </a:solidFill>
              <a:latin typeface="Calibri"/>
            </a:endParaRPr>
          </a:p>
        </p:txBody>
      </p:sp>
      <p:sp>
        <p:nvSpPr>
          <p:cNvPr id="916" name=""/>
          <p:cNvSpPr txBox="1"/>
          <p:nvPr/>
        </p:nvSpPr>
        <p:spPr>
          <a:xfrm>
            <a:off x="152280" y="1599840"/>
            <a:ext cx="8839440" cy="4876920"/>
          </a:xfrm>
          <a:prstGeom prst="rect">
            <a:avLst/>
          </a:prstGeom>
          <a:noFill/>
          <a:ln w="0">
            <a:noFill/>
          </a:ln>
        </p:spPr>
        <p:txBody>
          <a:bodyPr anchor="t">
            <a:norm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واردی که بايد در انتخاب مدل مناسب پيش  بينی در نظر گرفته شوند :</a:t>
            </a:r>
            <a:endParaRPr b="0" lang="en-US" sz="2800" spc="-1" strike="noStrike">
              <a:solidFill>
                <a:srgbClr val="000000"/>
              </a:solidFill>
              <a:latin typeface="Calibri"/>
            </a:endParaRPr>
          </a:p>
          <a:p>
            <a:pPr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محدوده زمانی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آمار و ارقام داده شده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ارتباط اطلاعات با متغير مورد نظر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هزينه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دقت</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سادگی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17" name="Content Placeholder 2" descr=""/>
          <p:cNvPicPr/>
          <p:nvPr/>
        </p:nvPicPr>
        <p:blipFill>
          <a:blip r:embed="rId1"/>
          <a:stretch/>
        </p:blipFill>
        <p:spPr>
          <a:xfrm>
            <a:off x="228600" y="457200"/>
            <a:ext cx="8721720" cy="601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50:16Z</dcterms:modified>
  <cp:revision>1413</cp:revision>
  <dc:subject/>
  <dc:title>Slide 1</dc:title>
</cp:coreProperties>
</file>