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649-6821-4DDD-9625-33C30409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434-5FAF-4419-B78D-44EB1535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3E2D6-F441-4FBC-8448-41572D51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65D77-33AD-4CF3-A2B9-DB500F55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75318-C1E4-4D56-8539-DCAF8F22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81F0D-C034-4A4D-9AEF-47335F0E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815EE-AAF8-4338-9910-ACA48BF3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0489A-377A-4817-A971-51A71950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8CE6F-8941-4DBA-A26F-BDCBDE44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4F82B-FECA-4614-822A-72A5C504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EC6C1-5D80-4446-B4F7-733AACA5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6EDD5-F890-4DD2-A577-87D52F60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D09-6E6D-4A53-8132-3BEF04C5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94774-5623-434F-93A5-1BB2C720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5E9DB-56A6-4626-8ECC-40E661FB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985B8-C38F-4AFF-9507-78D0DBC6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AF630-35C0-4C85-B119-96425C1F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B3795-E82C-4D8B-BE86-93E72907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8667A-16CD-4172-80C1-984880E3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D3B44-7972-4550-A6E7-CD66F6F5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CE662-6E3A-400D-BE7C-4E98C3EE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2C929-10BE-4CE0-A62E-A793931A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64422-28D6-42E4-8694-9B6450B2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640-4B82-42D1-8684-7C7B2133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E88A4-F818-4DDF-99A3-7B326118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4A933D-C879-45DB-ABA8-9317F776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AFBD13-3E78-4A4D-89E3-A423C935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9328C7-74A9-4F4A-911E-F1619136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9A92CA-70AE-46B0-A58C-D9EF15DC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08FF4F-E641-4315-A22F-443D808C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6A9809-EC9A-4C4D-8F16-33883EAE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82B2B8-98AB-4224-AD07-2805356B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775110-77CC-46BE-A8A0-A2955B6C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C75298-D359-4C98-BFAB-856A350A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C47B-B219-4655-8040-8D853584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F703DF-10D7-449D-9944-FC09A153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C286B5-FCF2-4A5E-9E49-274A1F1C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567B3E-262D-4570-889B-C1EE37AA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ADC69-8D6E-48EA-BCD8-E819444B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1D394-3D6C-447B-915D-926554A0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9E838-FF4C-4A4D-88CB-25D44295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F71C2-66EF-4506-9F75-EA2ECC05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8009B-7A84-4DD5-9B6E-D441BC92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8884F-78DF-47E3-A8AD-FB3B4C8A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57683-8D1B-4229-A535-BE801EED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B11E-2778-40F3-8E06-73E37E06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4B2E22-F39D-483B-994A-C4D4485E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0EF12-8AD2-4C66-9485-558D7626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93250-446C-4E08-9E3D-90539A06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DC0E9-4D13-4C66-A532-5323DDA0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80FD1-0175-4FD9-AFEB-181437F2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934E5-4871-4A51-A57A-2101CF1F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61CBA-B839-4259-A62C-053F7AE5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B7F88-76C3-4DA2-8A0D-ABF86B27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23F8B-27BE-4AF0-A60A-F42896AE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55760-D7D6-404E-88C9-53949C6E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6101-E0E2-4AC1-9F0A-16D30A30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0B4A4-3598-444E-8BA6-540DAD79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57D54-A7BE-4606-8F54-923B5BC4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E99FA-AD82-47E0-AAF4-2051CBAD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A94CC-C6AD-49AF-AEEA-70C8E2B1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F55D5-168D-45E7-B0AE-FD0709F0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E8234-5B08-4D03-A6B1-084CD15B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C6776-FCCB-4FBA-BF8E-BD0F0355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3E45-E4CA-48AA-8E84-B18C6996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D5DD-A475-4D7E-8054-BBF8BD83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3461-E53E-4662-8072-329AD2DE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D57C-C6E5-439D-B041-D8DECA94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F67-3DE0-41C9-82A2-4ED52ED0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F811-4B2A-4F92-853A-2067224B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5DA6-DF93-4CDB-9394-FE45D20B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41E7-A232-47B3-B4A1-BB60EB6E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0C50-1D2F-450C-A486-3583CF4F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CFE2-45D8-4026-80F1-5C27AA64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F6ED-B135-467B-8426-64C2ABC0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E1ED7-72F9-4F92-85AA-7335D07D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C25C-476B-4FEF-8D3F-DD113E21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BE45-D9D5-46ED-8FCF-6271588B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735AE-A69A-4AC8-87ED-0211FA79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9AC-3304-45A5-8E1F-7E3C0C00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840AD-BF70-4835-A7FD-B86F7493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5E23F-3261-4852-B977-61D89125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A1C9-31C2-4EAC-9028-35AAA1BF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F84E-1347-49A1-9B58-7F2D4113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B44FF-56A8-4BBD-9221-F10D82EB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AEF3-87EF-48AB-B914-FFCFC730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A7D4-EA8A-4997-86AE-AD1A4575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B2B2B-2F9B-4A96-99ED-60D2E4A4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7E455-9086-4CBC-9D33-C0FE9468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F8198-8E88-4722-8746-C6186208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6CE-67E8-4FFE-B6D3-31023780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E6F82C-1544-46DD-A0F8-EC3F2A7C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B30942-ED50-4357-BCEC-0CF2B05F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BEC213-593C-4C9A-8DB2-68A444A8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3AB93A-FA53-4234-B458-DFD3D75E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7CE62-0D25-48DB-BC48-EFFB952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7D0298-9A22-4E0A-9009-A956E230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D2E1E-1F10-4628-8BF5-BD3D2FA1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686C9B-DAAC-407D-A9D2-5086B697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443AF5-C100-4174-B65F-BF54D031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1D1261-6BA2-4B41-8E62-F39A6A50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3B1-C8FC-44B9-9415-E4D21D5D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E9C20E-112E-4D1B-8E92-B2B12FAE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997A0A-AE2E-444F-B3B0-D47438B1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C2384D-EBF8-4E2A-8276-A086F002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82F99F-19FC-4FE8-83DB-8F9D2E76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D589FC-A067-47E8-AA2C-792751B7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7574BE-B42C-433D-8E86-12A1685C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CE23C4-6B1C-4131-834C-106CBD20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36C574-824E-44C3-8103-FCD0859F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175238-00D1-42D5-BCE3-9B38DA3F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0EF1F1-CA87-475D-92CD-1FDDBB0F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7CF-38DB-4A53-A6B1-319E1A2E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DB10AE-0B5A-4F69-A5C4-5159F74A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A6F180-A1B6-495E-A0AB-8610DE79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C2F1C3-9229-4780-8B94-0F445178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BA3D1E-A422-4A8D-9CCB-1B975CCA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A0E4A9-379E-424C-ABA8-B24663D1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0E17A6-5444-4CB9-8B9D-C9E0FA3B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49DB21-9339-4BCF-A143-63294DBB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33C8C6-989B-40D1-879A-3E022E4D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362C64-07AE-45BB-B90A-792C59F7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932E44-2E01-4D63-98F2-42ACA35F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5DF-2E1E-408D-8A6F-1375CABB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1DFA7A-FA37-44C6-A94A-FE6B4AB7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DA66C4-613E-407A-BC88-6D820B62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C247B1-0E78-41B8-8403-898EAA56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3AB27E-9C9C-4959-953F-70039F4C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A80482-2543-426D-8C2C-66734DA4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B5B835-1921-4F8F-97B7-3D8A318F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CDE1AE-9FDD-4368-B517-68BF9D3D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10C27D-69BC-4703-B2C2-DCBCFD11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CD0A81-5F12-4FB7-8B6D-4AE6647A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CA5061-86FC-4220-BA08-324B8FDB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8F5-F8FA-4EB9-8D29-D5BF7848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0389C0-0C9F-49B6-B15B-791B9D69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87C4A4-2D4C-4399-97AA-E57DBB62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90BC29-6096-408F-8160-83E6F63D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5DEABE-AEED-444A-B725-C8A3D2F5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8F8663-1AFF-4113-BEDC-6D35188E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D4726D-B6A9-4FC9-A249-4F5FCC0D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AA9233-F066-4A3C-A747-ECC20E2B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C68A2F-64E6-4C3F-A5E1-EC9DDAF9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B0F766-5FE1-4C81-901F-9205AF34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144959-1C8A-4A84-A5B9-4B2286E4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BDA-976B-404E-BBC4-56C1DE8F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16035E-7CD9-4373-99C9-DB23CE6C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7B9DE0-1092-4D75-A5A1-26BA1026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BF1A6C-2283-4428-98E3-1D1DB67F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9CD601-A47D-488D-86C8-899FDE74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71F3B2-065C-4842-9EC0-4811B14B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021466-B76A-474E-A19B-ED46A648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49B04D-3147-4AAA-A964-1CC6BAD6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737E8-64CB-4C7E-A965-F40296F2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2F906-1A7D-47CE-8937-BC729F66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E113F-1BCE-4D35-9B6B-6ACFA0C7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1C09-94EE-43C9-BFC1-893A5AA46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ABC8-299E-463D-95AE-AF759D261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FBA1-A26A-4FAE-BD48-039DD62C6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1F3B-1C99-482E-9BC9-1828B0E66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0A65-4324-4313-9DA1-2D5F71E94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AB03-C2F5-4EFB-80BC-B558CD257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DF38-14A3-4183-8B6F-4D15238DE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0F5B-D1E1-4F75-81EB-3F8CC84BF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E97F-545E-482A-885A-20A74B6E3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3E50-EAD1-4098-8396-286955A36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80FC-645E-49F9-8B8F-6F12FFEA3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7FF9-D012-4AFC-AD4F-B42E294EF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4E53-145C-442A-8D0F-666FF11F2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در واقع این مرحله شناخت محصول اس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071720" y="1828440"/>
            <a:ext cx="7929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بازار مصر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ربر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مول و نقشه های فنی و روش ساخ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واد اولی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سازمان های حمایت کنند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لای مشاب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ی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شناخت دوره ی عمر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ر محصولی یک روز متولد و روزی می می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Object 1"/>
          <p:cNvGraphicFramePr/>
          <p:nvPr/>
        </p:nvGraphicFramePr>
        <p:xfrm>
          <a:off x="1000080" y="2357280"/>
          <a:ext cx="7842240" cy="39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357280"/>
                    <a:ext cx="7842240" cy="39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1000080" y="3200400"/>
            <a:ext cx="814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عرف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دوره کسی از محصول شناخت ندارد و رغبتی هم برای خرید ندار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سیاری با شکست مواجه می شون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به خرده فروشان تخفیف می ده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تبلیغات زیاد مورد نیاز اس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حتی شاید شرکت ضرر بده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رده فروشان تا حد امکان از خرید و انبار کردن محصول خودداری می کنن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مهندسان کارخانه اینجا معلوم می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2" name="Object 2"/>
          <p:cNvGraphicFramePr/>
          <p:nvPr/>
        </p:nvGraphicFramePr>
        <p:xfrm>
          <a:off x="1219320" y="106668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785520" y="185688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رش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در این مرحله افزایش حجم توزیع در بازار و جلب اعتماد اس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مشتریان محصول را آزمایش می کنند و در صورت کیفیت مشتری دائم می شون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Delay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اری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فروشنده قيمت كالا را كمي بالا مي كش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.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حله ی معرفی قیمت را تا جایی که حداقل ضرر را داشته باشیم پایین می آوریم. اما در مرحله رشد قیمت باید حداقل هزینه را پوشش د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ه هیچ عنوان نباید کمبود به وجود آ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احل تولد (معرفی) و رشد نباید توقع سود داش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5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 txBox="1"/>
          <p:nvPr/>
        </p:nvSpPr>
        <p:spPr>
          <a:xfrm>
            <a:off x="228240" y="1714320"/>
            <a:ext cx="8915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6228"/>
                </a:solidFill>
                <a:latin typeface="Times New Roman"/>
                <a:cs typeface="B Nazanin"/>
              </a:rPr>
              <a:t>بلو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نرخ رشد كل بازار رو به كاهش مي ن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کیفیت محصول تعیین کننده اس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فزایش هزینه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 بازاریابی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ر این دوره رقابت کاملاً محسوس است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باید قیمت ها شکسته ش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ائه محصول جدید: به محض مشاهده کاهش سود شرکت باید به دنبال تحقق به تولید محصول جدید بر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های رقیب در این مرحله محصولشان به بازار می رس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3300"/>
                </a:solidFill>
                <a:latin typeface="Times New Roman"/>
                <a:cs typeface="Nazanin"/>
              </a:rPr>
              <a:t>شركت بايد به دنبال تحقيق و توسعه در محصول باشد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Nazani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اساسی را بازار یابی ایفا می کن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8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 txBox="1"/>
          <p:nvPr/>
        </p:nvSpPr>
        <p:spPr>
          <a:xfrm>
            <a:off x="228240" y="185688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اشبا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(در این مرحله حداکثر تقاضا را داریم) ام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حداکثر سود را نداری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 عرضه &gt; تقاض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وش شرکت اصلی به دلیل وجود رقبا کم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قابت بر سر کیفیت، قیمت و بازاریابی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ول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كنند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ن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رحل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فك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جا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نوع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و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غيي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حصول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ش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1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نزول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 و فروش با سرعت زیادی کاهش می یاب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مکن است کالاهای جدید نیاز مشتریان را برآورده نسازد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حمایت از محصول بستگی به تثبیت هزینه ها دا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حسابداری صنعتی برای صرفه جویی در هزینه ها مهم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4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رگ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هش تقاضا به گونه ای می شود که دیگر تولید محصول از توجیه اقتصادی برخوردار نیس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لایل: ورود تکنولوژی جدید، تغییر سلیقه مشتری، فرهنگ مشتری، رقبا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7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هندس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عالیتی است به منظور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یا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تجدی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حصول با اهدا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آورده کردن نیاز مشت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قتصادی بو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فع خطاهای احتمالی در طراحی اولی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رسی ابعاد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یفیت و نیاز مشتری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ظرفیت محصول و تعداد قابل قبول برای تولید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شکلات و هزینه های اضافی برای برخی مشخصات خاص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88800" y="0"/>
            <a:ext cx="7497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راحل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2" name="Content Placeholder 3" descr=""/>
          <p:cNvPicPr/>
          <p:nvPr/>
        </p:nvPicPr>
        <p:blipFill>
          <a:blip r:embed="rId1"/>
          <a:stretch/>
        </p:blipFill>
        <p:spPr>
          <a:xfrm>
            <a:off x="938160" y="927000"/>
            <a:ext cx="8120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آنالیز ارز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ز مراحل طراحی محصول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بل از مرحله ی ساخت انجام می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حصول با هدف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اهش هزینه ها (ارزان تر کردن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فزایش 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تولید محصول ارزان تر و با کیفیت ت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جایگزینی مواد اولی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غییر در روش تول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1" descr="LOOK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3" descr="BACK003"/>
          <p:cNvPicPr/>
          <p:nvPr/>
        </p:nvPicPr>
        <p:blipFill>
          <a:blip r:embed="rId2"/>
          <a:stretch/>
        </p:blipFill>
        <p:spPr>
          <a:xfrm>
            <a:off x="304920" y="1719360"/>
            <a:ext cx="8686800" cy="483372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4"/>
          <p:cNvSpPr/>
          <p:nvPr/>
        </p:nvSpPr>
        <p:spPr>
          <a:xfrm>
            <a:off x="6400800" y="5334120"/>
            <a:ext cx="2438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امكان استفاده از مواد اوليه ارزانت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457200" y="3581280"/>
            <a:ext cx="23623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كارگيري روش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هتر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جهت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توليد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محصو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4"/>
          <p:cNvSpPr/>
          <p:nvPr/>
        </p:nvSpPr>
        <p:spPr>
          <a:xfrm>
            <a:off x="3120120" y="1981080"/>
            <a:ext cx="301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ffffff"/>
                </a:solidFill>
                <a:latin typeface="Arial"/>
                <a:cs typeface="Homa"/>
              </a:rPr>
              <a:t>تغيير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6"/>
          <p:cNvSpPr/>
          <p:nvPr/>
        </p:nvSpPr>
        <p:spPr>
          <a:xfrm>
            <a:off x="6095880" y="356544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امكان حذف</a:t>
            </a:r>
            <a:r>
              <a:rPr b="1" lang="ar-SA" sz="30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تلرانس هاي اضاف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7"/>
          <p:cNvSpPr/>
          <p:nvPr/>
        </p:nvSpPr>
        <p:spPr>
          <a:xfrm>
            <a:off x="228600" y="539424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9900"/>
                </a:solidFill>
                <a:latin typeface="Arial"/>
                <a:cs typeface="Homa"/>
              </a:rPr>
              <a:t>طراحي قطعات ب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منظور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ساده شد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ن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مونتا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8"/>
          <p:cNvSpPr/>
          <p:nvPr/>
        </p:nvSpPr>
        <p:spPr>
          <a:xfrm>
            <a:off x="3075120" y="3657600"/>
            <a:ext cx="2921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كاهش كيفيت</a:t>
            </a:r>
            <a:r>
              <a:rPr b="1" lang="fa-IR" sz="3000" spc="-1" strike="noStrike">
                <a:solidFill>
                  <a:srgbClr val="ff99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ff9900"/>
                </a:solidFill>
                <a:latin typeface="Arial"/>
                <a:cs typeface="Homa"/>
              </a:rPr>
              <a:t>باتوجه به مکا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0"/>
          <p:cNvSpPr/>
          <p:nvPr/>
        </p:nvSpPr>
        <p:spPr>
          <a:xfrm>
            <a:off x="3352680" y="518148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تغيير جنس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قطعات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بدون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00"/>
                </a:solidFill>
                <a:latin typeface="Arial"/>
                <a:cs typeface="Homa"/>
              </a:rPr>
              <a:t>نياز به 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كيفيت بال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20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Andalus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3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خریداری شوند؟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04920" y="1752120"/>
            <a:ext cx="8696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 استاندارد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پیچ، مهره، میخ، واشر و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کنولوژی ساخت آنها در دسترس ما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فرآیند ساخت آنها کلاً با فرآیند ساخت کارخانه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تفاوت هستن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تخصص بالاتری در تولید آنها دارند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آن ها را با مقیاس بالا و در نتیجه ارزان تر تولید می کنن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تولید شوند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ولید آنها باعث بالا رفتن تکنولوژی می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ید این قطعات باعث می شوند که در آینده به شرکتی قدرتمند در آن زمینه تبدیل شوی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واگذار کردن تولید آن به خارج از کارخانه باعث لو رفتن اطلاعات محرمانه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براساس سیاست های دولت تولید آنها الزامی است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تصمیم گیری در قبال خرید یا تولید بر اساس تکنولوژی محصو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Object 1"/>
          <p:cNvGraphicFramePr/>
          <p:nvPr/>
        </p:nvGraphicFramePr>
        <p:xfrm>
          <a:off x="1000080" y="1600200"/>
          <a:ext cx="7983720" cy="50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600200"/>
                    <a:ext cx="798372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45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-360" y="3879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B Davat"/>
              </a:rPr>
              <a:t>طراحی محصول و فرآیند تولید آ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2040" y="18288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دوم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TextBox 3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دو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عریف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52280" y="1676520"/>
            <a:ext cx="884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که ب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عریف دقیق محصو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عملکرد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کاربردها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آن به تعیین خصوصیات کلی و جزئی محصول پرداخته و طی آن با رعایت خواسته های مشتری و استاندارها و با توجه به توجیه اقتصادی تولید محصول به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هیه نقشه های فنی و نمونه اولیه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منجر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واسته های مشتر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لزام آ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عملکرد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نگیزش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Diagram 52" descr=""/>
          <p:cNvPicPr/>
          <p:nvPr/>
        </p:nvPicPr>
        <p:blipFill>
          <a:blip r:embed="rId1"/>
          <a:stretch/>
        </p:blipFill>
        <p:spPr>
          <a:xfrm>
            <a:off x="1420920" y="1395360"/>
            <a:ext cx="6327720" cy="4067280"/>
          </a:xfrm>
          <a:prstGeom prst="rect">
            <a:avLst/>
          </a:prstGeom>
          <a:ln w="0">
            <a:noFill/>
          </a:ln>
        </p:spPr>
      </p:pic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نياز هاي مشتريا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ounded Rectangle 6"/>
          <p:cNvSpPr/>
          <p:nvPr/>
        </p:nvSpPr>
        <p:spPr>
          <a:xfrm>
            <a:off x="76320" y="1676520"/>
            <a:ext cx="3047760" cy="1752480"/>
          </a:xfrm>
          <a:prstGeom prst="roundRect">
            <a:avLst>
              <a:gd name="adj" fmla="val 16667"/>
            </a:avLst>
          </a:prstGeom>
          <a:solidFill>
            <a:srgbClr val="4172ad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ساسي (الزام آو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عملكر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نگيزش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4" descr="C:\Documents and Settings\EHSAN\My Documents\My Music\New Folder\untitled.jpg"/>
          <p:cNvPicPr/>
          <p:nvPr/>
        </p:nvPicPr>
        <p:blipFill>
          <a:blip r:embed="rId2"/>
          <a:stretch/>
        </p:blipFill>
        <p:spPr>
          <a:xfrm>
            <a:off x="3157560" y="1700280"/>
            <a:ext cx="5910120" cy="4395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5" descr=""/>
          <p:cNvPicPr/>
          <p:nvPr/>
        </p:nvPicPr>
        <p:blipFill>
          <a:blip r:embed="rId3"/>
          <a:stretch/>
        </p:blipFill>
        <p:spPr>
          <a:xfrm>
            <a:off x="228600" y="5921280"/>
            <a:ext cx="8839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پیش نیازهای طراحی محصول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071720" y="19810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طالعات امکان سنج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یش بینی فروش و تقاض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9:47:38Z</dcterms:modified>
  <cp:revision>1403</cp:revision>
  <dc:subject/>
  <dc:title>Slide 1</dc:title>
</cp:coreProperties>
</file>