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54108-EA88-48C7-AFC2-D66B2A781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6030F-5306-49A4-9490-48309418C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A4B4C79-A6D9-46D9-9BC0-360193BF50C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E154C11-CF90-4E74-88CC-ED44C9D6027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3AD45FB-B9F8-4313-B1B3-E3EA2808C4A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6D1A1B4-BC96-4FE5-81FE-C51330855D3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7A58686-A447-4190-AB9A-771750A681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E0F3330-6707-4283-A4CC-7B63149E83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2247E86-0AF5-45C7-B744-89B34E63313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0BD31EC-FA4F-43D3-9F94-3886112C05A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A63E25A-5190-4B03-8E3B-8D309ADFA02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D3EBBD1-F3AF-4F33-8ABE-46065F5869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4B21C-07D6-48A4-A8D7-F78B26210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A945869-5BFC-4638-AF84-961DDA20EE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5F76DEF-754E-4D7E-8D4E-15F21699F6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6AD390C-1A07-4B05-B7A8-0BC232E332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FB0CCF8-4853-4CAB-9E79-BA3AA39B95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C9E16AA-17D8-47DE-9F07-5582479727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476A19C-755C-4AD9-BD13-01A6870BE8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33CBD43-4252-49D0-B78E-3F6CE4861D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1459FC5-8D1A-4644-BF45-9BF0A9A33D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208193A-1554-4C19-982B-313EC44DC1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7D0DEB3-0BF7-4A6D-B336-0D6264AFD1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80381-AA44-4D54-809A-1C7F62C7A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451A754-79F2-44AE-88BC-723E33985A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F84ECD05-F049-4F79-9733-00B784C29B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777CC345-4652-4657-B4E5-F5BF6CB0C9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85FADA00-EE84-420F-858B-D35F27226D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7F82F464-8B2E-4586-8F3E-C6D588FDCA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E8F68B2-E058-4B47-8C1F-3FA9EA0E20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7B626BA2-F689-4135-8211-54A3BBDA10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1D9D22DE-4A13-4F88-98EB-16D584FF2C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531025F-428B-48C3-88AF-DE37D07017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91EFBB3-AAED-480D-BEDF-2182E06817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00FAB-7270-42D3-8D3A-734029B2A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CE3170CF-4C8A-4F83-ABAB-8BC1CE90EB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F8F801FE-CF31-416D-8FB6-32E13DFA90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525CC284-9D5D-48E4-8C10-D68D22D225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32A91ED-7544-4B2A-B09A-5205632AE2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1568CAF-C685-4F81-A45F-042767B48B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C6B6480-5750-49CC-829A-9DADAD6A1F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827363D-0625-42BA-9090-774E89C7E4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689CA14-4B25-4138-B590-834A202C4D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8D5B1B8-082C-41DB-B0FD-F68DCFC768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BA4118D-6DB0-4866-A193-5EBD63357E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E8C82-FA8B-4E46-A63C-A4969C8FE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F728551-8B0D-4551-BBD8-98FCB08D51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0943FCE-F6E1-4447-88B6-A5C9540569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C83803A-9F4C-4C4A-9C19-91F7B8C198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6C199B9-3DC0-428A-958C-18133C202A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0822BE2-1B63-43AD-A6D8-AFE2475325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27DA7-32DC-4EE8-88F7-39A172C61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BC2A1-1C57-4A6B-BC97-D1DB706B2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16314-C61D-4FD2-8D79-97BC0E3E9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DB35F-6E20-430D-9F48-046E87D51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D9E74-C7DC-415C-A809-FA94AEB35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4825A-0A3F-439A-A3FF-252ED3EDC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DEEB5-B193-4461-BFEB-60BEEBACD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D47EC-2054-469D-B966-C96C199AE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DD103-1C31-4B28-9905-B0A840FFF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BA42A-9DED-4976-8A2F-154A3E65E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57CC3-490F-4E47-9A5B-787926ACB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C57246-F48F-4453-B2BD-12758C7043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B7F04F-4375-4598-929A-20A7BF678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C55713-D351-4849-9017-82776C9B0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F9F597-D33F-4D52-902F-881253EED9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9A330A-46CB-4FAD-AAE5-FCD1EEBA13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7232A-922F-4D8A-ABA8-F04E894A9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8AF2B6-01A9-44B0-AE1F-022F87FBC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1E695-8250-49E5-831C-E85050DB5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0921FC-6FF0-4D13-9F59-B620A2136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2B107-9BB4-42F6-BCD3-DA7FC2319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6A08F1-8916-4E95-B36F-C9EA59E13F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A39549-AEFA-4972-9274-C3E278DA18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2B5DDB-50F7-4BE0-99C8-FA40F33B20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E076AF7E-B569-43AE-B1B4-7842B114F80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3A2C092C-C604-41CD-938B-AC3067670F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DB9799F6-65EB-4FA0-A8E0-E23323FE739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1974D-6219-4D19-A73F-66433D1A7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CF8AC290-9DF8-4A4B-9921-3E7EDD81FDD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26BD9AF4-B07E-41A9-92F2-D85712A9037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12483937-3AA2-4867-84E3-CE597C178B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1115D145-2147-44D8-93F5-E826F3321A3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7651382E-E640-4A74-AAA2-2F13E425EB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AE71B0F7-FA88-473A-9188-1CE0B913FE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526742A-F21B-490C-8250-D73FBE9DBC3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E172C84E-15BD-456B-833F-D0178D0B1A7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A319B25D-74F5-4D7E-A22F-E0CDBE42B00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775BF8BC-775D-474D-B869-15DC7A93DD9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C8E98-8206-4B89-81C6-AE9C61A70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BF056296-7F52-4F55-8C33-CFE6A41D570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9828AED2-02C7-4A8A-8FD1-91C69465421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5D4F1A33-6214-4A79-AF03-96AF1A6621E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8530142F-3873-4568-8017-523D222DD89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B039413-16C3-4803-B7E0-4A1B5ACAE72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76B2C670-7469-4CB3-AC35-3F8478FC7F4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5E2058A-F0BC-4853-BAC7-E11A80E88E3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FA816EE8-0289-4FA2-B692-31062160730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2989B62F-EE5E-4F6A-9117-747EC214408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1B7D8C39-FB97-492C-BF0B-0DF3E9CA687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720A7-07AB-40D6-B432-0F03BAB61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A6EB65CD-FE1F-4F2A-BEFA-A4C46FEA929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F2475E77-599C-4F9C-8DB2-DEF79F12986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B7823E8B-AE38-4AEF-B82B-79150D461B0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7A0682E8-A48B-4110-A36C-0A24D550705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565C9CE8-52B6-4C71-93A3-414A3296BC3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101614EF-2EEC-4014-98B2-24CD5C1832D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4F371F95-724B-415F-8762-F0B179ED07C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2D730D3-18A1-4CE1-9492-F517046FB68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6E20811-8657-461C-9A67-94FB4C9DF1D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27D6958-C18B-43C9-AE96-3CC1175687F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41769-A184-4286-A0A0-B61879684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76C16E85-DBBB-471D-A668-679CC273651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D11B3DAC-4606-4A08-819F-966AE67A329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50BCB81C-4A71-4ED5-9AA9-73736EC4033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C2865DA1-48A5-474F-8BD8-90928C31EC2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AF331466-0721-4628-A0B3-781AAC5DFAB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BB19E6C1-0CC8-408B-A95B-08F1F9C62F6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BD243013-E505-4DED-A266-F6A681B4C95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C3D9AF89-7637-4D69-8AF0-A505079A5D3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BF678F87-FF00-4A63-8944-B9DC6D0FEF5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2E6A41E6-8030-475C-8698-49DA81E61D1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B9B1A-02A4-42D1-B54A-8F5AC29C6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78DEEA7B-246A-4F78-9B01-2E93CA68418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B2C27C08-148A-4EAB-B084-921EC9C24E1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2DB09501-A094-43E6-8FF9-17959B1D18E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AFE1535A-85A7-445A-A489-47F307B13BB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C61191B8-6534-4F9C-9077-0AF1539650D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F4C63F0C-49BF-4E31-B1E2-2BC88AC5B9E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9DDB5C20-59E0-4934-A350-B4FC1E6B131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4D043542-9586-4079-A4D1-9C9F8D0611E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E3892E74-8EF1-4E29-A55D-CE7846C84ED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9C4A65F4-1FB4-4EFB-90F9-94273DA9DC2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66F77-04A4-4F8E-93A2-3749A127F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64DAD7C7-36B0-40A7-8E48-28E7F7AAE93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6F20E0C4-D1E8-4281-998C-9E5D824A257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199D481-D7FE-455D-B6C8-BE308101A31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D0A6DE4-B951-4646-B94F-6854DA5F354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0A7C7503-174B-418E-8A79-8BCDC2FE782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DF665E86-C47C-4A82-964E-206D15F846D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CABDA3A5-7A12-4D17-B4C3-B773996DE26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252ECB4-7BEC-4657-A57C-CCE88A2128E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CB4FBDD-2930-4720-B2B8-5B6678A7DDD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723C325-75AA-4366-8964-04C61E34241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3F6E-EF1E-462A-A924-1832118E12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5984-2570-4849-9A66-B09C30FA5C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6C01-8CE6-4458-9B53-286740333F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C3D4-5664-4E10-8E33-29D50349F0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1D91-CDBC-4B7F-9A13-86A7D41471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D01A-AECB-4606-A262-6D4FCAB309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5425-143C-48C8-9478-10DD17CD42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C277-A295-4341-87EA-2AF664C069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9E7F-80AB-4C0C-8521-6487895A46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3070-B1D7-4644-A991-8DF3BA0678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A8DF-4D66-44A2-B931-2138AD212B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8502-82DF-4023-A136-FC036B3875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240"/>
            <a:ext cx="8686800" cy="6629400"/>
          </a:xfrm>
          <a:prstGeom prst="rect">
            <a:avLst/>
          </a:prstGeom>
          <a:noFill/>
          <a:ln w="0">
            <a:noFill/>
          </a:ln>
        </p:spPr>
        <p:txBody>
          <a:bodyPr anchor="t">
            <a:normAutofit fontScale="85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اكتورهاي ارزيابي منطقه:</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نيروي انساني:</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نيروي انساني بالقوه در منطقه چه اندازه اس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مهارت و تعليم و تربيت نيروي انساني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حقوق و دستمزد و مزاياي نقدي و غير نقدي كاركنان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سطح استاندارد زندگي در منطق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وند غيبت از كار نيروي انساني و همچنين ميزان تأخيرا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گرايشات نيروي كار به عضويت در اتحاديه هاي كارگري</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609120"/>
            <a:ext cx="8686800" cy="579132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كان بازار: (بازاري كه قرار است سرويس داده شو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هزينه حمل و نقل كالا از كار خانه تا بازار</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دوام و طول عمر محصول از نظر فاسد شدن  (در صورتي كه كالاي توليدي فاسد شدني باشد بايد محل كارخانه به بازار مصرف نزديك باشد)</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تردي و شكنندگي (براي كالا هاي شكستني هر چه بازار به كارخانه نزديكتر باشد بهتر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228240"/>
            <a:ext cx="8686800" cy="662940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حمل ونقل:</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تعيين وسيله حمل ونقل مواد و كالاها دو فاكتور هزينه و سرعت از اهميت بالائي برخوردارن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هاي آبي ( كشتي ارزانترين وسيله حمل ونقل اما كندترين وسيله حمل ونقل مي باش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آهن( از كشتي گرانتر  اما سريعتر است)</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جاده‌اي ( بسيار منعطف است)</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هوائي ( سريعترين وسيله حمل ونقل است اما هزينه بالائي دارد)</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لوله‌گذاري: از لوله‌گذاري صرفاً براي انتقال مايعات و مواد فله‌اي استفاده مي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228240"/>
            <a:ext cx="8686800" cy="6629400"/>
          </a:xfrm>
          <a:prstGeom prst="rect">
            <a:avLst/>
          </a:prstGeom>
          <a:noFill/>
          <a:ln w="0">
            <a:noFill/>
          </a:ln>
        </p:spPr>
        <p:txBody>
          <a:bodyPr anchor="t">
            <a:norm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آب و هوا:</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ين عامل در رابطه با كارخانجاتي مطرح مي‌باشد كه به آب و هواي خاصي نياز دارند. اين فاكتور در صنعت كشاورزي بسيار مطرح مي‌با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
          <p:cNvSpPr txBox="1"/>
          <p:nvPr/>
        </p:nvSpPr>
        <p:spPr>
          <a:xfrm>
            <a:off x="152280" y="228240"/>
            <a:ext cx="8686800" cy="6629400"/>
          </a:xfrm>
          <a:prstGeom prst="rect">
            <a:avLst/>
          </a:prstGeom>
          <a:noFill/>
          <a:ln w="0">
            <a:noFill/>
          </a:ln>
        </p:spPr>
        <p:txBody>
          <a:bodyPr anchor="t">
            <a:normAutofit fontScale="9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كومتهاي محلي و وضعيت مالياتها: </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سئولين محلي چه امتيازاتي را براي كارخانجاتي كه در ناحيه استقرارمي‌يابند قائل هستن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وامل مؤثر در انتخاب مكان</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ندازه محل: آيا ميزان زميني كه در حال حاضر  نياز داريم در محل وجود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يش بيني نياز هاي آينده براي توسعه: آيا اندازه زمين، ظرفيت توسعه دارد ؟</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وضعيت زمين و فاضلاب: آيا زمين از سختي مورد نياز برخوردار است؟ آيا سيستم فاضلاب بر روي سختي زمين تأثيري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آب: آيا آب مناسب و كافي براي تأمين نياز ها وجود دارد ؟</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5" name=""/>
          <p:cNvSpPr txBox="1"/>
          <p:nvPr/>
        </p:nvSpPr>
        <p:spPr>
          <a:xfrm>
            <a:off x="152280" y="228240"/>
            <a:ext cx="8686800" cy="6629400"/>
          </a:xfrm>
          <a:prstGeom prst="rect">
            <a:avLst/>
          </a:prstGeom>
          <a:noFill/>
          <a:ln w="0">
            <a:noFill/>
          </a:ln>
        </p:spPr>
        <p:txBody>
          <a:bodyPr anchor="t">
            <a:normAutofit fontScale="96000"/>
          </a:bodyPr>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نيروي (برق و گاز )و يا هر نيروي ديگري كه در خط توليد لازم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امل انهدام ضايعات: آيا مكاني براي دفع ضايعات صنعتي وجود دارد؟</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خريد زمين: پولي كه بابت خريد زمين داده مي‌شود نسبت به كل سرمايه‌گذاري چقدر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طور کلی جهت طراحی یک محل تولیدی، باید مؤلفه های بسیاری را مورد بررسی قرار داد. این پارامترها شامل ارزیابی فرآیندهای تولید هر کالا، مشخصات هر محصول (شامل ابعاد، فسادپذیری و طول عمر و ...)، ارزیابی کار و زمان تولید، انبارداری، حمل و نقل و غیره می باشند.</a:t>
            </a:r>
            <a:endParaRPr b="0" lang="en-US" sz="2800" spc="-1" strike="noStrike">
              <a:solidFill>
                <a:srgbClr val="000000"/>
              </a:solidFill>
              <a:latin typeface="Calibri"/>
            </a:endParaRPr>
          </a:p>
          <a:p>
            <a:pPr marL="329040" indent="-32904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3520" y="2362320"/>
            <a:ext cx="8229600" cy="1249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IranNastaliq"/>
                <a:cs typeface="IranNastaliq"/>
              </a:rPr>
              <a:t>فصل سوم</a:t>
            </a:r>
            <a:endParaRPr b="0" lang="en-US" sz="5400" spc="-1" strike="noStrike">
              <a:solidFill>
                <a:srgbClr val="000000"/>
              </a:solidFill>
              <a:latin typeface="Calibri"/>
            </a:endParaRPr>
          </a:p>
        </p:txBody>
      </p:sp>
      <p:sp>
        <p:nvSpPr>
          <p:cNvPr id="911" name=""/>
          <p:cNvSpPr txBox="1"/>
          <p:nvPr/>
        </p:nvSpPr>
        <p:spPr>
          <a:xfrm>
            <a:off x="228240" y="4267080"/>
            <a:ext cx="8839080" cy="14479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طراحی موقعیت و محل کارخانه</a:t>
            </a:r>
            <a:endParaRPr b="0" lang="en-US" sz="5400" spc="-1" strike="noStrike">
              <a:solidFill>
                <a:srgbClr val="000000"/>
              </a:solidFill>
              <a:latin typeface="Calibri"/>
            </a:endParaRPr>
          </a:p>
        </p:txBody>
      </p:sp>
      <p:sp>
        <p:nvSpPr>
          <p:cNvPr id="912" name="Title 1"/>
          <p:cNvSpPr/>
          <p:nvPr/>
        </p:nvSpPr>
        <p:spPr>
          <a:xfrm>
            <a:off x="509760" y="609480"/>
            <a:ext cx="8229600" cy="124956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مكان يابي</a:t>
            </a:r>
            <a:endParaRPr b="0" lang="en-US" sz="4800" spc="-1" strike="noStrike">
              <a:solidFill>
                <a:srgbClr val="000000"/>
              </a:solidFill>
              <a:latin typeface="Calibri"/>
            </a:endParaRPr>
          </a:p>
        </p:txBody>
      </p:sp>
      <p:sp>
        <p:nvSpPr>
          <p:cNvPr id="914" name=""/>
          <p:cNvSpPr txBox="1"/>
          <p:nvPr/>
        </p:nvSpPr>
        <p:spPr>
          <a:xfrm>
            <a:off x="152280" y="1600200"/>
            <a:ext cx="8839440" cy="4525920"/>
          </a:xfrm>
          <a:prstGeom prst="rect">
            <a:avLst/>
          </a:prstGeom>
          <a:noFill/>
          <a:ln w="0">
            <a:noFill/>
          </a:ln>
        </p:spPr>
        <p:txBody>
          <a:bodyPr anchor="t">
            <a:normAutofit fontScale="9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كان يابي: يك فرايند كيفي و كمي مي‌باشد كه از طريق آن مي‌توان نقطه مطلوب يا مناسب را براي استقرار واحد صنعتي پيدا كر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رايند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يابي در طي سه مرحله انجام مي‌</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شود. در مرحله اول بايد از بين مناطق موجود يك منطقه را انتخاب كرد و سپس  در مرحله دوم از بي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ea typeface="B Nazanin"/>
              </a:rPr>
              <a:t> نواحي موجود در منطقة انتخاب شده يك ناحيه را انتخاب كرده و سپس در نهايت از بين مكا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هاي موجود در ناحية انتخاب شده يك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 را انتخاب كني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عوامل موثر بر تصميمات مكان يابي</a:t>
            </a:r>
            <a:endParaRPr b="0" lang="en-US" sz="4800" spc="-1" strike="noStrike">
              <a:solidFill>
                <a:srgbClr val="000000"/>
              </a:solidFill>
              <a:latin typeface="Calibri"/>
            </a:endParaRPr>
          </a:p>
        </p:txBody>
      </p:sp>
      <p:sp>
        <p:nvSpPr>
          <p:cNvPr id="916" name=""/>
          <p:cNvSpPr txBox="1"/>
          <p:nvPr/>
        </p:nvSpPr>
        <p:spPr>
          <a:xfrm>
            <a:off x="152280" y="1600200"/>
            <a:ext cx="8839440" cy="4525920"/>
          </a:xfrm>
          <a:prstGeom prst="rect">
            <a:avLst/>
          </a:prstGeom>
          <a:noFill/>
          <a:ln w="0">
            <a:noFill/>
          </a:ln>
        </p:spPr>
        <p:txBody>
          <a:bodyPr anchor="t">
            <a:normAutofit fontScale="92000"/>
          </a:bodyPr>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جو كاري و نيروي كار مناسب</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بازارهاي مصرف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كيفيت زندگي</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عرضه كنندگا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تاسيسات اصلي شركت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کانات آب، برق، تلف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ساخت و ساز، وجود شيوهای چندگانه  حمل و نقل، هزينه هاي جابه جايي مواد و نيروي انساني بين كارخانه ها، هزينه هاي بيمه، مقررات محلي (كنترل آلودگي صدا) معافیت های مختل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240"/>
            <a:ext cx="8686800" cy="662940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قبل از انجام فرايند مكان‌يابي ابتدا بايد به چند سئوال اساسي پاسخ داد كه عبارتند از:</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چه بازارهايي توسط اين كارخانه (محل جديد) سرويس داده خواهند 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واد اوليه مورد مصرف كارخانه چه چيزهايي هستند و از چه مكاني تأمين مي‌شون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چه نوع نيروي انساني و با چه تخصصهايي مورد نياز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چه نوع شيوه‌ هاي حمل و نقل براي انتقال مواد اوليه لازم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5</a:t>
            </a:r>
            <a:r>
              <a:rPr b="1" lang="fa-IR" sz="2800" spc="-1" strike="noStrike">
                <a:solidFill>
                  <a:srgbClr val="000000"/>
                </a:solidFill>
                <a:latin typeface="Times New Roman"/>
                <a:ea typeface="B Nazanin"/>
              </a:rPr>
              <a:t>. چه نوع نيرويي (برق،گاز…و اتمي) براي خط توليد بايد به كار رو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6</a:t>
            </a:r>
            <a:r>
              <a:rPr b="1" lang="fa-IR" sz="2800" spc="-1" strike="noStrike">
                <a:solidFill>
                  <a:srgbClr val="000000"/>
                </a:solidFill>
                <a:latin typeface="Times New Roman"/>
                <a:ea typeface="B Nazanin"/>
              </a:rPr>
              <a:t>. آيا براي توليد كالاي مورد نظر شرايط آب و هوايي خاصي لازم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8:22Z</dcterms:modified>
  <cp:revision>1412</cp:revision>
  <dc:subject/>
  <dc:title>Slide 1</dc:title>
</cp:coreProperties>
</file>