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7B3-369E-4F96-BBC2-F1A60EE4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EC6-ED77-4D90-8292-FC74BCEB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CC3E6-FD54-4E9A-80BD-8CCC4096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76DEC-2617-4578-89DD-C29764B1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63ED3-DECF-4E47-9DC4-CB2A6471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9E210-79C8-47EC-8869-FA164C86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B9D9E-38F9-41D3-B438-86D66C19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C9199-3A07-4943-89E4-F412AB16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90D1B-FFA3-40E0-B889-04DA50E1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30399-E2D6-4139-9F78-B286C5D8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D01F1-410B-4E36-976A-9EA91A1A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FD6A7-F37C-4ED7-9560-4E1B021D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447-5ED6-4FB8-81F2-85FB287E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1099A-F4D3-48B3-9D1C-A0A314AD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EC127-5FF1-4CA8-8E9F-978B63FD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17115-0236-40AE-8E4C-85DF34C4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83153-0966-4442-9A8D-67D28469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437B1-71AC-4437-8A0D-809CEE7F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5721B-14A8-4882-B603-75D86499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4A828-3E4D-4B8B-9D89-405BACB8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A5A7E-D4C2-448B-817C-42F75618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681D4-39FE-4046-9808-6D9798C5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F5ED5-8EF0-47A5-9B08-36A398B9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D16-7175-4F3F-9E1C-5E29BFB9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44E90-6645-428A-9515-1735C0DE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13674C-9DA0-4E82-B1D5-763AE23B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1F618F-4FC4-46C6-9942-2E8BA271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B253EF-8D1F-4ED3-930D-64C57F54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D1B6EA-EFD5-436C-83AE-DF017317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102EF4-A28D-47DD-8F46-BDB4D45E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0330BC-53E2-40CA-9929-C2BC3DD2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75875B-FA26-4CCC-B835-45C8CE11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740FCC-4018-4DA0-8F69-E6F5EEFE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74E7C2-80F5-45A7-86C7-D9425CFD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5D58-E326-4080-8F98-45BA3765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B8FF80-AFFB-4E48-AAFB-4714BA9C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4B13A4-FD9F-48F5-9B1E-8EBB58E5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1111E6-739F-40F1-9BCA-A3064C82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B816C-7F6B-4F4C-BC11-A669BE99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283BB-0731-4CF5-981F-D40D2A33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23C9B-BD24-4370-AD49-A55DC39C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9EF3A-623B-4BC1-83DB-FCB87113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E6959-B460-40CE-B438-836CC0D5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C62B5-4E79-431B-834D-14848503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DA61D-AA19-4234-9C0B-826FAC83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E57E-0FA3-4E4C-8503-670B101C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77711-BBC9-43A0-9EB4-F4BAEBF2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330AF-3DB0-4C6B-B7F6-39BE6741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357CD-2907-4079-9D1A-B0D1BFEC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BCE12-7758-45B3-93FD-5396DB82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97167-C850-4851-95BC-7F50DECB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8E2D4-5028-4E58-9427-5BBB9F4B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6F010-277F-4442-9549-2AEFBF28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9E87B-D4F3-4C5B-B1EE-479D59B7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D297D-C9FD-499C-9FE3-4BC2A448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C0379-ED46-4EA2-B386-E907ADDB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CB94-628B-4F5C-B3A8-9BE30D0E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A56A5C-290F-427F-B174-419C418F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3BAB6-2BA2-45BC-B4B1-CBF23DEB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8823E-53AE-4D3B-B813-65B0B086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46440-D8B3-4D05-AA7D-A7880E3D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D876E-1B13-4E32-88B6-5C1EA127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49F55-88F8-4EC6-AE05-46A2055D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1D0F1-77AE-406F-A864-F8F4CA36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5445-0D4D-4C59-A1D0-30CC7BE9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9D25-66ED-416F-ADEA-335BD699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B4B9-15DD-4687-9A90-78C5A29A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320D-685A-4DA3-91B8-79F3F20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009-7A1D-4A44-A8C2-955713EA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053E-7360-4D82-9538-37236800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8DA9-FE12-41F9-A150-E5F60C95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A4DA-CA11-40CE-8D3E-EAA6C667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5EC8-5103-4708-A88E-48C94A8A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031B-8707-4137-A0B0-BBE37A3F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3689-8881-47B1-93E1-C7968EBA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04F72-7AF4-4B0F-8361-D97A6CD8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C792-77AF-4BA7-9EC2-AC429268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3C60-F987-4B65-A73E-00B85D3C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18FA-F529-4E49-BB22-39C79444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A9D-3306-4A9B-87ED-6E5504DD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0866-4B9A-4B3D-A559-CBDF3A4E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4DB33-08BA-4F3D-BCD1-6A3E7950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0130-0F8F-4C10-80A1-9F521010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2685-D0FD-4AD5-A2D5-CE106DA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A20E-A954-4B6B-A09D-593052BC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5D32-F41F-431E-BF6A-6423D007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21D8F-ABFE-4300-8667-A751C5A2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44B0E9-0DED-48F1-BEFA-4CEE960E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63096-E43D-4666-B1C2-7AAAD104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93B66F-840D-45BA-9C22-87A88FAC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FC5-94E0-494A-8BF2-2406CF29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534958-46DE-4573-9E80-EEB4F628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030C38-6A84-4F47-A638-7C1F543A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3A2361-4646-44BD-9023-910D7CE7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EE6D4-12D1-4D5C-AEC4-6CEE4E3A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A27F2-1699-4026-9B44-F09A6970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9CB5D-34EB-4749-BD5D-66B28503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8006C-4ADF-4C48-AD37-BB5DEC68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E8A9F-DDC4-4A59-B81B-7E12C660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EEA34-EFD0-4E9D-9656-E296D142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4B532B-3717-4FF6-BB60-B0F08E79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2AD-BA34-4BBD-B0EE-40238C05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09A0E7-DA7A-4608-8667-45E6C152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CC9F10-52F2-4E08-A900-F660DEC7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C49F40-F0A9-435B-8542-DC33259A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88BEC3-287B-4901-9647-75E9354F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778DA3-70AA-46DF-9C4D-FC356296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8EAB0C-3F38-44DA-A9ED-8F20B904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ABCF01-C79B-4BE3-AA4D-0140BD45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C0468B-E280-44F8-99CB-3EC09855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9423BC-73FD-46F0-9288-C6D765B2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9AC8F0-9C1A-4B1C-8968-1D143014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B8A-6E1C-46CB-8C2C-D8E58B73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CB6517-32A2-4A1F-82FD-E70B028A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0EBFDB-4591-41A9-BE63-193ED1F9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CB3590-87F0-4CE4-B7EF-F7C21D56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E5BD8E-9CA9-4817-88C8-AE94F5C5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4FCC12-4573-488B-A33B-9C141D62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EF73E6-AFF9-436C-AF7A-41244F4E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7ED149-4A11-47AE-831C-C2792E23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1C0703-491B-469F-958C-BCA2B7EB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BCB472-CC5E-4A29-A634-0F4C724B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3AAD9F-F644-4EBB-B245-2F2F44B4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51C-33CD-40A6-B016-B7961080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771DC8-5DEA-4DA1-8D0D-13F84723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700852-E2C2-4F82-AB04-0BC284DE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021CA6-E8D1-4D5B-BEC2-C386415F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239D81-0F8C-43E0-AEE8-3BB649E2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75B542-4864-4313-BE70-DA614D84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D58723-56B7-4778-9DD4-A729CC32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AEF54B-57F2-490D-B7C7-49B0EF2C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56AD62-0796-4EAA-84F1-4030E3E0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A7D0D8-A559-4528-957B-E6C52386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3EC4F9-D237-4B91-B102-B825159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8EF-9640-4C6E-96C3-9930A288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9A2494-8C10-438D-9BF9-25FCC705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2AFE82-F653-4436-ADE2-33A58B75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7CBDE9-7959-4CED-A83F-D0BA8E9D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BBC965-C021-4362-AFF1-EB8C9517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45A983-95B6-4D6D-BA2A-E8A73C8E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F9BFD5-FEAF-4FE9-BBCB-198BADAC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ED42CF-BC49-4AE8-825E-8965F7DA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135AD6-035B-45E9-BC77-C4FB406F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2614CE-669C-4BCD-A7C9-53FC584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B0B8F8-5601-4D04-B4B0-4158C5FE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6D0-39F9-4301-8852-3401E5C1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AF8D42-BAB1-42A2-A9E7-640BA962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4AE8D1-DF99-4156-8B3A-4A10F9A6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BC8D49-6A7E-4775-96CC-283A68BD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C31150-BB72-441D-8084-99EC0F2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5A94D9-F6C5-463D-A96F-F16BE69A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A33EDB-B958-487A-A619-E2E7642C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E98417-EA05-4E75-A007-C4D9E150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AEAF8-1163-4E58-86CA-C463DE40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3F465-5180-4A8D-A737-E6614E14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46B53-A644-4BD8-ADC4-44FB821D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6415-1134-4A37-80C4-1F00C9E56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6133-6254-45F4-A6A3-8DC0F51BB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AD03-0D57-4F8D-B4A9-DCEEC68E5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25B3-2126-44EE-8665-0BAB203FC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B37B-C036-413E-B934-4D55F6957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5A24-D5BA-42BC-99A9-B3C4C0E10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B17F-30DE-4047-AC16-0263CC6AB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D27F-F07E-4C17-A9CD-0ED699415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7B95-7311-4EBB-8647-39A6BE6EC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F6AE-1402-43CD-9A34-315F3C5EF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7889-7F30-4AE4-A6F1-C2DC11C11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72B4-2456-490B-9CF8-2A946BCCD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42AD-B959-406A-ABAE-02BA7B48A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در واقع این مرحله شناخت محصول اس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071720" y="1828440"/>
            <a:ext cx="7929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بازار مصر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ربر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مول و نقشه های فنی و روش ساخ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واد اولی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سازمان های حمایت کنند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لای مشاب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ی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شناخت دوره ی عمر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ر محصولی یک روز متولد و روزی می می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Object 1"/>
          <p:cNvGraphicFramePr/>
          <p:nvPr/>
        </p:nvGraphicFramePr>
        <p:xfrm>
          <a:off x="1000080" y="2357280"/>
          <a:ext cx="7842240" cy="39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357280"/>
                    <a:ext cx="7842240" cy="39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1000080" y="3200400"/>
            <a:ext cx="814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عرف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دوره کسی از محصول شناخت ندارد و رغبتی هم برای خرید ندار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سیاری با شکست مواجه می شون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به خرده فروشان تخفیف می ده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تبلیغات زیاد مورد نیاز اس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حتی شاید شرکت ضرر بده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رده فروشان تا حد امکان از خرید و انبار کردن محصول خودداری می کنن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مهندسان کارخانه اینجا معلوم می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2" name="Object 2"/>
          <p:cNvGraphicFramePr/>
          <p:nvPr/>
        </p:nvGraphicFramePr>
        <p:xfrm>
          <a:off x="1219320" y="106668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785520" y="185688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رش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در این مرحله افزایش حجم توزیع در بازار و جلب اعتماد اس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مشتریان محصول را آزمایش می کنند و در صورت کیفیت مشتری دائم می شون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Delay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اری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فروشنده قيمت كالا را كمي بالا مي كش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.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حله ی معرفی قیمت را تا جایی که حداقل ضرر را داشته باشیم پایین می آوریم. اما در مرحله رشد قیمت باید حداقل هزینه را پوشش د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ه هیچ عنوان نباید کمبود به وجود آ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احل تولد (معرفی) و رشد نباید توقع سود داش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5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 txBox="1"/>
          <p:nvPr/>
        </p:nvSpPr>
        <p:spPr>
          <a:xfrm>
            <a:off x="228240" y="1714320"/>
            <a:ext cx="8915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6228"/>
                </a:solidFill>
                <a:latin typeface="Times New Roman"/>
                <a:cs typeface="B Nazanin"/>
              </a:rPr>
              <a:t>بلو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نرخ رشد كل بازار رو به كاهش مي ن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کیفیت محصول تعیین کننده اس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فزایش هزینه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 بازاریابی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ر این دوره رقابت کاملاً محسوس است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باید قیمت ها شکسته ش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ائه محصول جدید: به محض مشاهده کاهش سود شرکت باید به دنبال تحقق به تولید محصول جدید بر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های رقیب در این مرحله محصولشان به بازار می رس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3300"/>
                </a:solidFill>
                <a:latin typeface="Times New Roman"/>
                <a:cs typeface="Nazanin"/>
              </a:rPr>
              <a:t>شركت بايد به دنبال تحقيق و توسعه در محصول باشد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Nazani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اساسی را بازار یابی ایفا می کن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8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228240" y="185688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اشبا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(در این مرحله حداکثر تقاضا را داریم) ام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حداکثر سود را نداری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 عرضه &gt; تقاض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وش شرکت اصلی به دلیل وجود رقبا کم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قابت بر سر کیفیت، قیمت و بازاریابی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ول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كنند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ن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رحل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فك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جا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نوع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و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غيي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حصول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ش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1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نزول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 و فروش با سرعت زیادی کاهش می یاب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مکن است کالاهای جدید نیاز مشتریان را برآورده نسازد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حمایت از محصول بستگی به تثبیت هزینه ها دا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حسابداری صنعتی برای صرفه جویی در هزینه ها مهم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4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رگ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هش تقاضا به گونه ای می شود که دیگر تولید محصول از توجیه اقتصادی برخوردار نیس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لایل: ورود تکنولوژی جدید، تغییر سلیقه مشتری، فرهنگ مشتری، رقبا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7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هندس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عالیتی است به منظور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یا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تجدی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حصول با اهدا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آورده کردن نیاز مشت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قتصادی بو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فع خطاهای احتمالی در طراحی اولی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رسی ابعاد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یفیت و نیاز مشتری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ظرفیت محصول و تعداد قابل قبول برای تولید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شکلات و هزینه های اضافی برای برخی مشخصات خاص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88800" y="0"/>
            <a:ext cx="7497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راحل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2" name="Content Placeholder 3" descr=""/>
          <p:cNvPicPr/>
          <p:nvPr/>
        </p:nvPicPr>
        <p:blipFill>
          <a:blip r:embed="rId1"/>
          <a:stretch/>
        </p:blipFill>
        <p:spPr>
          <a:xfrm>
            <a:off x="938160" y="927000"/>
            <a:ext cx="8120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آنالیز ارز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ز مراحل طراحی محصول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بل از مرحله ی ساخت انجام می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حصول با هدف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اهش هزینه ها (ارزان تر کردن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فزایش 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تولید محصول ارزان تر و با کیفیت ت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جایگزینی مواد اولی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غییر در روش تول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1" descr="LOOK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BACK003"/>
          <p:cNvPicPr/>
          <p:nvPr/>
        </p:nvPicPr>
        <p:blipFill>
          <a:blip r:embed="rId2"/>
          <a:stretch/>
        </p:blipFill>
        <p:spPr>
          <a:xfrm>
            <a:off x="304920" y="1719360"/>
            <a:ext cx="8686800" cy="483372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4"/>
          <p:cNvSpPr/>
          <p:nvPr/>
        </p:nvSpPr>
        <p:spPr>
          <a:xfrm>
            <a:off x="6400800" y="5334120"/>
            <a:ext cx="2438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امكان استفاده از مواد اوليه ارزانت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457200" y="3581280"/>
            <a:ext cx="23623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كارگيري روش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هتر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جهت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توليد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محصو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4"/>
          <p:cNvSpPr/>
          <p:nvPr/>
        </p:nvSpPr>
        <p:spPr>
          <a:xfrm>
            <a:off x="3120120" y="1981080"/>
            <a:ext cx="301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ffffff"/>
                </a:solidFill>
                <a:latin typeface="Arial"/>
                <a:cs typeface="Homa"/>
              </a:rPr>
              <a:t>تغيير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6"/>
          <p:cNvSpPr/>
          <p:nvPr/>
        </p:nvSpPr>
        <p:spPr>
          <a:xfrm>
            <a:off x="6095880" y="356544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امكان حذف</a:t>
            </a:r>
            <a:r>
              <a:rPr b="1" lang="ar-SA" sz="30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تلرانس هاي اضاف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7"/>
          <p:cNvSpPr/>
          <p:nvPr/>
        </p:nvSpPr>
        <p:spPr>
          <a:xfrm>
            <a:off x="228600" y="539424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9900"/>
                </a:solidFill>
                <a:latin typeface="Arial"/>
                <a:cs typeface="Homa"/>
              </a:rPr>
              <a:t>طراحي قطعات ب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منظور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ساده شد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ن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مونتا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8"/>
          <p:cNvSpPr/>
          <p:nvPr/>
        </p:nvSpPr>
        <p:spPr>
          <a:xfrm>
            <a:off x="3075120" y="3657600"/>
            <a:ext cx="2921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كاهش كيفيت</a:t>
            </a:r>
            <a:r>
              <a:rPr b="1" lang="fa-IR" sz="3000" spc="-1" strike="noStrike">
                <a:solidFill>
                  <a:srgbClr val="ff99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ff9900"/>
                </a:solidFill>
                <a:latin typeface="Arial"/>
                <a:cs typeface="Homa"/>
              </a:rPr>
              <a:t>باتوجه به مکا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0"/>
          <p:cNvSpPr/>
          <p:nvPr/>
        </p:nvSpPr>
        <p:spPr>
          <a:xfrm>
            <a:off x="3352680" y="518148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تغيير جنس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قطعات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بدون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00"/>
                </a:solidFill>
                <a:latin typeface="Arial"/>
                <a:cs typeface="Homa"/>
              </a:rPr>
              <a:t>نياز به 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كيفيت بال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20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Andalus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خریداری شوند؟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04920" y="1752120"/>
            <a:ext cx="8696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 استاندارد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پیچ، مهره، میخ، واشر و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کنولوژی ساخت آنها در دسترس ما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فرآیند ساخت آنها کلاً با فرآیند ساخت کارخانه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تفاوت هستن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تخصص بالاتری در تولید آنها دارند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آن ها را با مقیاس بالا و در نتیجه ارزان تر تولید می کنن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تولید شوند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ولید آنها باعث بالا رفتن تکنولوژی می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ید این قطعات باعث می شوند که در آینده به شرکتی قدرتمند در آن زمینه تبدیل شوی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واگذار کردن تولید آن به خارج از کارخانه باعث لو رفتن اطلاعات محرمانه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براساس سیاست های دولت تولید آنها الزامی است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تصمیم گیری در قبال خرید یا تولید بر اساس تکنولوژی محصو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Object 1"/>
          <p:cNvGraphicFramePr/>
          <p:nvPr/>
        </p:nvGraphicFramePr>
        <p:xfrm>
          <a:off x="1000080" y="1600200"/>
          <a:ext cx="7983720" cy="50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600200"/>
                    <a:ext cx="798372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45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-360" y="3879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B Davat"/>
              </a:rPr>
              <a:t>طراحی محصول و فرآیند تولید آ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2040" y="18288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دوم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دو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عریف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52280" y="1676520"/>
            <a:ext cx="884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که ب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عریف دقیق محصو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عملکرد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کاربردها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آن به تعیین خصوصیات کلی و جزئی محصول پرداخته و طی آن با رعایت خواسته های مشتری و استاندارها و با توجه به توجیه اقتصادی تولید محصول به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هیه نقشه های فنی و نمونه اولیه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منجر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واسته های مشتر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لزام آ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عملکرد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نگیزش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Diagram 52" descr=""/>
          <p:cNvPicPr/>
          <p:nvPr/>
        </p:nvPicPr>
        <p:blipFill>
          <a:blip r:embed="rId1"/>
          <a:stretch/>
        </p:blipFill>
        <p:spPr>
          <a:xfrm>
            <a:off x="1420920" y="1395360"/>
            <a:ext cx="6327720" cy="4067280"/>
          </a:xfrm>
          <a:prstGeom prst="rect">
            <a:avLst/>
          </a:prstGeom>
          <a:ln w="0">
            <a:noFill/>
          </a:ln>
        </p:spPr>
      </p:pic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نياز هاي مشتريا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ounded Rectangle 6"/>
          <p:cNvSpPr/>
          <p:nvPr/>
        </p:nvSpPr>
        <p:spPr>
          <a:xfrm>
            <a:off x="76320" y="1676520"/>
            <a:ext cx="3047760" cy="1752480"/>
          </a:xfrm>
          <a:prstGeom prst="roundRect">
            <a:avLst>
              <a:gd name="adj" fmla="val 16667"/>
            </a:avLst>
          </a:prstGeom>
          <a:solidFill>
            <a:srgbClr val="4172ad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ساسي (الزام آو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عملكر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نگيزش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4" descr="C:\Documents and Settings\EHSAN\My Documents\My Music\New Folder\untitled.jpg"/>
          <p:cNvPicPr/>
          <p:nvPr/>
        </p:nvPicPr>
        <p:blipFill>
          <a:blip r:embed="rId2"/>
          <a:stretch/>
        </p:blipFill>
        <p:spPr>
          <a:xfrm>
            <a:off x="3157560" y="1700280"/>
            <a:ext cx="5910120" cy="439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" descr=""/>
          <p:cNvPicPr/>
          <p:nvPr/>
        </p:nvPicPr>
        <p:blipFill>
          <a:blip r:embed="rId3"/>
          <a:stretch/>
        </p:blipFill>
        <p:spPr>
          <a:xfrm>
            <a:off x="228600" y="5921280"/>
            <a:ext cx="8839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پیش نیازهای طراحی محصول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071720" y="19810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طالعات امکان سنج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یش بینی فروش و تقاض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9:47:38Z</dcterms:modified>
  <cp:revision>1403</cp:revision>
  <dc:subject/>
  <dc:title>Slide 1</dc:title>
</cp:coreProperties>
</file>