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101BB-0025-4850-B5B8-D21285E39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5B2D2-19E0-4C80-B3EF-156BB7923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F3FAAF5-2450-4127-A8CF-BEC4EA862FD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BE4D826-DD9D-4259-AEA8-C10B4D6A456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5A2E209-61B0-48D2-A0B8-9DAE18B8E2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EB1227F-7796-4DE2-9D3A-29AF02D5786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9F604B6-C824-4A2C-93A0-72328A6A80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05A4023-3704-4CAC-BB49-30F2E427C9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239212B-A1CA-487D-93EF-1F66899C97F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FAD3913-24B2-4AFB-B9CB-C08658E9D1E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A564A38-01F5-439C-8467-605B86EC23E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94F0701-A311-4157-8F1F-A7D21F4842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1271B-6AE1-45CC-85BA-B0DEB1C7B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2514C56-B127-479A-A1E4-7B729726E6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180B451-60B4-4ED4-BCE7-B24B65F983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1512A16-DF97-45F0-AF05-297D74F5C8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7DE2C05-A945-426D-A4F1-1EDCF91A09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F3F9911-9642-4A7F-A4D2-A3B96FDA44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1E0AF89-0118-47DD-89E4-1BE0F8DDBF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110CE05-0C44-4A32-98A4-3971BD4514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4AAD594-9DAF-4485-BA14-B802496037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84FED70-4CF3-4767-88FB-03BB5EADEF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DEAE4FA-B690-417B-894F-041C7FE1E6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E9C96-E428-4893-A6B1-402B00D71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424BE73-80F5-46E5-889B-A630A20273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6C00E810-75F1-4DB6-BC32-16B2340B49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EDC62A6-207F-492D-9F87-108DA03E00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74B2B1D1-12D0-45A6-BB3F-7E1659A598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9C903230-5FE6-4201-88A2-609E8B0066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E0DC1EF-C7E8-4373-B8DF-7B6258390E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1AC8D1E-A884-46AF-B97C-3C6B4B2B09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B072DB2-5599-4FDD-96DC-B952EEA571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F3CEE5A-1A60-48C3-9936-F047199FE7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D23C419-FA92-43D1-8005-25AAD27304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EE8C3-830E-471D-974E-8982BB4D0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F3D4B144-D7EC-47C3-8B49-068E06D2E6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A21EDE92-BCC4-4A86-AFBD-4D3E477263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866B8FAA-D377-4D9D-9A0E-DBECE040B6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86EE2C7-44CE-4FFD-883D-1DBF8645E1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C64756A-EAA0-4D72-97D9-18EADA868A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E869D36-1724-467D-B967-9DC766856C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A40FEC-C022-4315-9C5F-C846C7FC8D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29812D3-A254-40BB-A8B2-3901556FA7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64547EF-9D88-4E50-9AD4-B39C692207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839DED-E60B-40EA-A585-AD7D8E10B6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240E2-31E6-490A-B8EF-F8A21BAD0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A3BB319-48C3-460F-9DE7-69C50CF8D6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E520B8F-EF92-4E39-8A62-825249563D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3E2EF12-1CB9-482E-807A-37D180D120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3484ADC-CDE2-4E79-9FBB-04DBB599FF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2DEBC6A-CB39-4800-9E43-E967E52022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12A40-F014-48EA-84AD-4DD934B1F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A9C9B-755C-46F9-B414-E27C93FF6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B13E9-9C40-4425-9653-1F8649D74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E3D80-B1FA-4446-9044-DDC157372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3F679-3BB2-4D9F-9912-74D0C103B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5CBCC-03D1-4226-823B-431E74BFC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C1FBA-C04B-460B-B27F-B02A03756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D9FEC-6C11-4CC3-914E-BF7E5D776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4A3CF-6FA7-4AB3-8EEF-610EC3500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639AE-2BFD-4A2F-BD83-C0B02288F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D4979-8F58-4446-AA30-A302106DE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C1B67A-4A32-4E57-AA7A-A6922FBE77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567BA-41B3-4A1A-B190-A3F064215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8FEDEB-23D6-4E7D-9DEA-347487CD4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8F065-E4E6-4467-90CB-CE28E935B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F471D-257B-49AD-A3A0-10D0B1F14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FD0F5-DAB5-4111-9D88-F62106A1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6E735F-8EBB-46D7-989A-D0C25C197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77770-5F30-47C3-9AB6-28ACBCF31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807B8-71E5-412A-8D48-717BF1C1D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42B92-1BFB-4DBF-AFA7-77EDC4915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5C1514-C467-4124-91DB-7F5DD97B69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EDDB60-79F8-446E-A5BE-304DB3A517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8D79C-ED6A-4EEB-B914-117023E341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8F473126-FAED-462E-8CE3-2E91B15F2A3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8C651B99-9246-4D1F-88B2-7CFAE3045E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6B32199A-0D24-4A11-86FB-2786F50CB6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C31C5-3D03-4868-AC6C-A2EEDE17A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42C85BD5-8055-405C-9AEB-9764DA05D62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B02ABECD-C7C7-4879-8DA2-B6154AD39A7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2D1F7097-70FD-4DF6-9A1F-E4057A4321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C10B0B7-6A8B-4978-8F96-44C1244FFB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EDBE608-5B2F-44E6-ABC8-579EF8E2E1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5EA1545-3280-47FA-80FE-E46CEE1E9C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69D77C7-C391-4626-9BA0-9723562812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587A8761-F744-4AB1-BFC4-FAF1A234355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5953346C-668D-4B12-A418-A336C4B7CFF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9D6FC109-7641-4FBB-A33B-70C823499E7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F64CC-2625-4059-8DBA-73F050FB8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32A1A9B-AB02-4C3D-AA38-0E8AB1FDF61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1CF8EEDC-B55E-4A21-BD9D-63CAF694BCF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06E5B3B8-4A84-49E4-A806-2ADCA8D6D09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99844947-18A7-42B1-B877-0A5A822E074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DBA2B2F-AD74-4015-A080-F61BA9D57C6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80AD6C34-CAB1-41C4-978C-44805EF659F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FD302F3-76DC-4EB4-B6F2-90DDA34F941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6460C81-41D3-4742-8012-FBF29FE6840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E1F43966-2F15-46AD-B653-D2105CDE59D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F1ADBB58-D510-4C45-B361-AF737042EA7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1D6E7-AC1C-45EC-A420-C70BA4103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2E49C322-9B76-4E19-B54E-79B37E8915A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0ADDB6E3-9261-4B48-ABA7-3F24E0B9E2E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B1E79913-4090-429A-B628-3A0C2636E2A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1B966879-2069-4CCF-9B3C-A30D21A3DF5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860D5FD-19CA-4134-8413-D9ECC2D32D2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55B5D72-FDE8-4ED3-A21B-933A5720B08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34A9D6D-7D77-4250-8D5B-1B664591F9C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B49E7DF-FEE8-432F-9025-7E6452533CB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DA15B680-F0EB-4027-BEE8-22A294B991D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51F294D-7D1C-410D-AF83-449F3466A9A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07B10-5E08-4E06-AB6C-F26DACB59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68443D2F-79CC-42C9-A832-2EF7FEA0C5C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128FC4E7-5BFD-4338-AAA8-21892E7DF51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E47812E8-2906-4DDF-8268-B8617407F79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30B0B07E-D0AF-4C57-B3F7-DD57199D73B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141F587F-7A4F-48D9-9844-D7F03558659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DE356504-2478-49E3-83DB-69166899FE0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3EC4DE38-0B79-47DC-9E77-1A3C089F260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B7C7F3DA-89EA-4BEB-87D6-C7B79E724EF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F657CEAD-86B9-4B99-8050-53164DAC744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94EFA2F-0D10-49A6-80FF-5EC9CAF7E06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6711-6CFE-485C-960B-8CE833056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FCEDBBA-E51A-49A9-9A47-F21E5E3E64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187A2EC-285A-4FAF-838D-3BAE5D2DC83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462E5225-171F-431C-A3A7-FB63AD42A5C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23833E41-8EE0-4E73-9E9B-AFE93E437E7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DEA4D264-1A3D-4CFC-AED5-FC40DB2FFBC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E5CADA75-3C14-4882-AB86-17EF401A9D2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8C412A1-C6B0-4DF5-B5B7-46305A4409F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473D0A46-80E2-444A-8520-DAECDBE0DD0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B2D61D83-C588-4AD7-B611-FE80ED1E9A6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37E6CE2F-1EF2-4C4A-808C-30FDC0FFEF8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D0345-3F16-4158-A617-1F8318EF5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C33BB503-273B-48D6-8EA4-B35C788583B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A87A35D-7641-4856-BA6E-74B12E4EECE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031AD648-F19C-4F99-A061-46864A756FC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01B3605-B694-4340-861B-34DF901F0F0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6B546020-505E-4C99-B302-FC967B8177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D6442197-68CF-44DC-A4E5-38E217F4B28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B3A867B1-67BE-4C86-B654-A38AAC24C59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A8B01EE-5D08-4954-8B33-8317E827803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E318240-2BE8-4560-A94C-5D8128DB0E0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3033A6C-6148-4ADE-B502-20ADBA7E1C0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C8FC-5F8D-4A21-8368-0509D87346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7084-B9E7-4CBB-80FA-6C002AA806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9F64-3519-4765-AEC9-3697A9BFED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18AB-1EB7-4685-9C1A-D53EE0AFFA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4112-B3B7-4A5D-A844-9BB4E609F4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691E-E3BD-49E6-97D3-D315CA33CC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A12F-63F7-4DAA-9611-B9E1D8EECE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0F52-E14E-4CCF-BF9A-B1950B51F3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070E-5084-465F-AC22-329530A34E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5036-54B8-4F2D-939D-E510539E0F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7DBE-82D7-43E1-88F1-60DAA9F1B5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1973-261D-4E9D-927B-EED81FE501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6" name=""/>
          <p:cNvSpPr txBox="1"/>
          <p:nvPr/>
        </p:nvSpPr>
        <p:spPr>
          <a:xfrm>
            <a:off x="152280" y="228600"/>
            <a:ext cx="8839440" cy="6324480"/>
          </a:xfrm>
          <a:prstGeom prst="rect">
            <a:avLst/>
          </a:prstGeom>
          <a:noFill/>
          <a:ln w="0">
            <a:noFill/>
          </a:ln>
        </p:spPr>
        <p:txBody>
          <a:bodyPr anchor="t">
            <a:normAutofit fontScale="93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۲</a:t>
            </a:r>
            <a:r>
              <a:rPr b="1" lang="fa-IR" sz="3200" spc="-1" strike="noStrike">
                <a:solidFill>
                  <a:srgbClr val="000000"/>
                </a:solidFill>
                <a:latin typeface="Times New Roman"/>
                <a:ea typeface="B Nazanin"/>
              </a:rPr>
              <a:t>:به حداقل رساندن زمان فرایند از طریق فرایند زیر:</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طراحی خطوط تولیدی مناسب برای گردش سریع مواد و کالاها</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وسایل مناسب برای حمل و نقل سریع موا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۳</a:t>
            </a:r>
            <a:r>
              <a:rPr b="1" lang="fa-IR" sz="3200" spc="-1" strike="noStrike">
                <a:solidFill>
                  <a:srgbClr val="000000"/>
                </a:solidFill>
                <a:latin typeface="Times New Roman"/>
                <a:ea typeface="B Nazanin"/>
              </a:rPr>
              <a:t>:استفاده بهینه از فضای موج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۴</a:t>
            </a:r>
            <a:r>
              <a:rPr b="1" lang="fa-IR" sz="3200" spc="-1" strike="noStrike">
                <a:solidFill>
                  <a:srgbClr val="000000"/>
                </a:solidFill>
                <a:latin typeface="Times New Roman"/>
                <a:ea typeface="B Nazanin"/>
              </a:rPr>
              <a:t>: استفاده بهینه از نیروی انسانی با فراهم کردن محیط کار مناسب و ایمن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70c0"/>
                </a:solidFill>
                <a:latin typeface="Times New Roman"/>
                <a:cs typeface="B Nazanin"/>
              </a:rPr>
              <a:t>اصل موازنه</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نظور از اصل موازنه  یا توازن در مدیریت تولید  این است که هر ایستگاه کار در خط تولید باید دارای چنان ظرفیتی باشد که بتواند تمام کار مرحله قبلی دریافت ک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وازون تولید باعث کاهش موجودی انبارها و کاهش زمان بیکاری و زیان ناشی از تاخیر تولید محصولات می شود</a:t>
            </a:r>
            <a:endParaRPr b="0" lang="en-US" sz="3200" spc="-1" strike="noStrike">
              <a:solidFill>
                <a:srgbClr val="000000"/>
              </a:solidFill>
              <a:latin typeface="Calibri"/>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ظرفیت هر یک از  ایستگاه های کار باید طوری باشد که به راحتی تمام کار ماشین یا ایستگاه کار قبلی را دریافت کند و خود نیز به اندازه ظرفیت ماشین یا ایستگاه کار بعدی کار  ایجاد نمای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1920" y="304920"/>
            <a:ext cx="8915400" cy="6324480"/>
          </a:xfrm>
          <a:prstGeom prst="rect">
            <a:avLst/>
          </a:prstGeom>
          <a:noFill/>
          <a:ln w="0">
            <a:noFill/>
          </a:ln>
        </p:spPr>
        <p:txBody>
          <a:bodyPr anchor="t">
            <a:normAutofit fontScale="89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215968"/>
                </a:solidFill>
                <a:latin typeface="Times New Roman"/>
                <a:cs typeface="B Nazanin"/>
              </a:rPr>
              <a:t>سطوح عمودي كارخانه :</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بطور كلي شش سطح در يك كارخانه وجود دارد كه عبارتند از:</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زيرزميني: در اين سطح معمولاً وسائل گرمايش، فاضلاب و ضايعات قرار مي‌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همكف: در اين سطح تجهيزات، انبارها و ابزار قرار مي 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حركت محصولات: سطحي است فرضي حدود يك متر بالاتر از سطح زمين قرار دارد مواد در اين سطح بين ماشين‌آلات انتقال مي‌يابن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600"/>
            <a:ext cx="8839440" cy="64771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آزاد: از بالاي بالاترين ماشين تا پايين خرپاي نگهدارندة سقف را شامل مي‌گردد معمولاً از اين سطح براي نقاله‌هاي بالابر و ياجابجا كننده استفاده مي‌ش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اسكلت فلزي: از پايين‌ترين قسمت اسكلت فلزي تا زير سقف را شامل مي‌شود و از اين سطح براي وسائل تهويه، سرمايشي، سيم‌كشي‌ها و لوله‌هاي آب پاشي استفاده مي گرد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پشت بام: براي وسائل تهويه و تانكرهاي آب مورد استفاده قرار مي‌گي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1904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چهارم</a:t>
            </a:r>
            <a:endParaRPr b="0" lang="en-US" sz="6000" spc="-1" strike="noStrike">
              <a:solidFill>
                <a:srgbClr val="000000"/>
              </a:solidFill>
              <a:latin typeface="Calibri"/>
            </a:endParaRPr>
          </a:p>
        </p:txBody>
      </p:sp>
      <p:sp>
        <p:nvSpPr>
          <p:cNvPr id="911" name=""/>
          <p:cNvSpPr txBox="1"/>
          <p:nvPr/>
        </p:nvSpPr>
        <p:spPr>
          <a:xfrm>
            <a:off x="152280" y="4952520"/>
            <a:ext cx="8763120" cy="12193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نحوه استقرار ماشین آلات</a:t>
            </a:r>
            <a:endParaRPr b="0" lang="en-US" sz="5400" spc="-1" strike="noStrike">
              <a:solidFill>
                <a:srgbClr val="000000"/>
              </a:solidFill>
              <a:latin typeface="Calibri"/>
            </a:endParaRPr>
          </a:p>
        </p:txBody>
      </p:sp>
      <p:sp>
        <p:nvSpPr>
          <p:cNvPr id="912" name="Title 1"/>
          <p:cNvSpPr/>
          <p:nvPr/>
        </p:nvSpPr>
        <p:spPr>
          <a:xfrm>
            <a:off x="419040" y="9302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IranNastaliq"/>
                <a:cs typeface="IranNastaliq"/>
              </a:rPr>
              <a:t>جلسه چهار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
          <p:cNvSpPr txBox="1"/>
          <p:nvPr/>
        </p:nvSpPr>
        <p:spPr>
          <a:xfrm>
            <a:off x="152280" y="533160"/>
            <a:ext cx="8839440" cy="56386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قدمه :</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Nazanin"/>
              </a:rPr>
              <a:t> </a:t>
            </a:r>
            <a:r>
              <a:rPr b="1" lang="fa-IR" sz="2800" spc="-1" strike="noStrike">
                <a:solidFill>
                  <a:srgbClr val="000000"/>
                </a:solidFill>
                <a:latin typeface="Times New Roman"/>
                <a:cs typeface="B Nazanin"/>
              </a:rPr>
              <a:t>ماشین آلات بگونه ای استقرار می یابد که تولید ، اقتصادی و مقرون به صرفه باشد. این محل احتیاج به تحلیل هدف ، مراحل کار ، گردش عملیات ، تسهیلات و . . . دار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خط و مشی های مدیریت:</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نظور ، سیاستهای مشخص کننده نوع ، کیفیت محصول ، اندازه کارخانه ، نحوه انعطاف پذیری در کارخانه ، برنامه های توسعه ، میزان موجودی و نوع تسهیلات برای کارکنان است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4" name=""/>
          <p:cNvSpPr txBox="1"/>
          <p:nvPr/>
        </p:nvSpPr>
        <p:spPr>
          <a:xfrm>
            <a:off x="152280" y="456840"/>
            <a:ext cx="8839440" cy="6095880"/>
          </a:xfrm>
          <a:prstGeom prst="rect">
            <a:avLst/>
          </a:prstGeom>
          <a:noFill/>
          <a:ln w="0">
            <a:noFill/>
          </a:ln>
        </p:spPr>
        <p:txBody>
          <a:bodyPr anchor="t">
            <a:normAutofit fontScale="9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حل و موقعیت : </a:t>
            </a:r>
            <a:r>
              <a:rPr b="1" lang="fa-IR" sz="3200" spc="-1" strike="noStrike">
                <a:solidFill>
                  <a:srgbClr val="000000"/>
                </a:solidFill>
                <a:latin typeface="Times New Roman"/>
                <a:cs typeface="B Nazanin"/>
              </a:rPr>
              <a:t>ترکیب عوامل تولید در یک منطقه با منطقه دیگر بکلی متفاوت است. محل کارخانه از نظر وسعت و اندازه و شکل و موقعیت جغرافیایی و نوع ساختمان و ترتیب کلی استقرار و مکان آن به منظور دریافت حمل و نقل مواد و بارگیری صحیح و به منظور جریان صحیح تولید  در داخل و خارج کارخانه موث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فرایند های ساخت: </a:t>
            </a:r>
            <a:r>
              <a:rPr b="1" lang="fa-IR" sz="3200" spc="-1" strike="noStrike">
                <a:solidFill>
                  <a:srgbClr val="000000"/>
                </a:solidFill>
                <a:latin typeface="Times New Roman"/>
                <a:cs typeface="B Nazanin"/>
              </a:rPr>
              <a:t>نوع فرایند ساخت مورد استفاده در کارخانه یا عملیاتی که برای تولید انجام می شود در نوع جا و مکان مورد نظر در کارخانه موثر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
          <p:cNvSpPr txBox="1"/>
          <p:nvPr/>
        </p:nvSpPr>
        <p:spPr>
          <a:xfrm>
            <a:off x="152280" y="228600"/>
            <a:ext cx="8839440" cy="6324480"/>
          </a:xfrm>
          <a:prstGeom prst="rect">
            <a:avLst/>
          </a:prstGeom>
          <a:noFill/>
          <a:ln w="0">
            <a:noFill/>
          </a:ln>
        </p:spPr>
        <p:txBody>
          <a:bodyPr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اهداف و مزایای استفاده از محل و طرز استقرار داخلی:</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تسهیل فرایند تولید از طریق تدابیر زیر:</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تجهیزات در محلی که حداکثر استفاده از آن به عمل آ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کاهش تجمع و تراکم بیهوده مواد و نیروی انسانی از طریق تعیین صحیح ایستگاه های تول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دسترسی سریعتر به وسایل و خدمات تعمیرات و نگهدار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9:01Z</dcterms:modified>
  <cp:revision>1411</cp:revision>
  <dc:subject/>
  <dc:title>Slide 1</dc:title>
</cp:coreProperties>
</file>