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5.png" ContentType="image/png"/>
  <Override PartName="/ppt/media/image6.wmf" ContentType="image/x-wmf"/>
  <Override PartName="/ppt/media/image7.png" ContentType="image/png"/>
  <Override PartName="/ppt/media/image9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4745-D5AC-4556-91C8-F41BDF7F1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616E-35D8-41E2-B0A1-959A6193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176A7B-A936-4962-B2BE-E65A2CA1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1BFA1-1081-48ED-8031-3A2F2CD6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DB58E-8490-4491-903B-FA2E6B25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CA4CE3-3FB4-4D13-8F24-AD03B42D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E46B30-33FD-4E2B-BD55-0D852AC6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BADA47-5488-4F87-BC22-C37A74E1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9A733-EF88-486B-9878-E16A9C61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1934F-46D6-49D1-BC8A-314EB1E4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AFF69-CFB5-41C4-9C31-7744C1A8B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D9FF8C-7594-45EE-8246-55B489188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107-6D87-4FA8-A46B-76FE16843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DE8135-4830-4986-A838-CF9ACC81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1D5FFC-030A-4790-B470-477A70FA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FD0801-395C-42B5-B3CE-7D1010E6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118A4C-62F0-44F5-A62F-B0DE898C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C4F988-A7F0-440F-986B-D31FACFB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B2361-DAE9-4DD3-8ADD-C491D9F6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3DD26A-1E85-4924-8DA7-254CBDA8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AA8388-B4C4-4119-B670-05BCC94A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2BA3F8-9534-4174-9141-2145CDC1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A64FB2-BB8C-4AFC-8F67-B10DDF12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7B76-2DB2-4AE6-AB6A-DA4884639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C7415A-3A84-47D4-AD1C-4B41543F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FBA03F8-0CD6-47B5-806C-9A0E1262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0111C8-FF3E-4440-892F-D66AAF7AF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1FEF51-2378-4148-AB8B-0F582F8C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B2CE8A-99E8-4791-B96E-DE6B3840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395DF2-9C9A-48E7-A54F-B6D3AB93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F815A7C-D3AD-4865-8F93-E8DE3FE1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B762D1-3BA7-4DF3-B9BD-ABA44CBC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F1B374-A17E-48CE-AF2A-D5628E80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784A9B-6DC2-4234-AB8F-22F6D98E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893A-F337-4626-8E6B-CA03E731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682D68-1069-4FBA-A953-54487D756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E5E9DC8-5A05-41DB-85EB-78BBD5B5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E76BA8-1095-4F71-A686-B29A53CB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357095-0BAB-4B93-8E71-ADFEC787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71801D-4E4B-40FF-A1C8-D058D05F2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97E517-E682-4F9D-9064-02E91559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DC7FD-BAF6-4159-884C-5BD1D61B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257C7-6655-436D-B207-7F45CFAD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ED182F-1408-4142-9915-AAFC08C1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D3CD72-7802-4BFE-B073-B6ED5A20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D471-5306-463A-8EF0-BA9324C9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AB0AF4-29FE-4117-BC28-6EC33FE3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0EA0D-8B41-4C1A-9108-BA2FA8F3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B03A73-6ABA-4EA2-B560-6EAE97E9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36D92C-EC61-429C-9953-6FF11925E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F0AC5-F79A-4578-9354-138B54A40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D7CF06-2760-47E1-AD2C-219FE3A65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6B7931-7C5B-4731-9EB6-3D229F286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09BE52-EBF5-4BE5-9503-94FBE364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30773-9AC8-4DD0-8F34-B51A47DF9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5E5CB-6CA8-46A2-B27B-94E4265C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C766-FB41-44C8-83A9-B7381ACA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160B90-4168-4DD1-9164-6220A8910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FA4BE8-4316-4C55-B2AB-A975E5AEB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E7F9E-1140-4E0D-8ACA-88FBD287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A9A40-731D-4CA7-A98B-79ECE7646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6AD396-ABCC-48CD-8DB5-AC865F6C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E9376-372A-46DE-8AE7-5437A1F49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21112-08A5-45AC-B42F-17D825F7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45B2-AECB-41DD-B479-0E55FE0F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797A4-CA55-4A95-A4D9-7834C284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43C0-5CE4-4018-9EFA-74393D8D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BBC30-292C-4082-8EFC-D8CB2A3B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012A-3DDD-4593-846D-EDB21C97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D166-042D-47FA-B0DD-B969353B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F61D-3296-4E49-83E4-B7C59021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D45D-9CB4-4923-808C-95CA9494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A318-9101-442E-8BC4-D9DAF21A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EA39-F89E-4B9C-8D19-75E8453D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85D7-447F-462A-95EF-1C01EC6C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A05CB-96A6-4774-B6FC-48DA5B69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94148-1A27-47B2-8988-5B06266D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72189-5B1E-46F4-9EF7-F8742140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521E0-F84B-4C52-9EAE-6C7BFD32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F97-A3B9-4112-9CD5-106516B1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7AD14-538A-43EB-B3FF-8A4CBF75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7EB14-C98B-4651-8508-72D79E3D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439ED-6B74-4404-974A-156EBA2C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04D2B-8099-441E-BC04-166CFDDF9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67304-9842-4992-AAF9-332BE7ED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7E78D-27A8-4415-8B2C-5CA1BA8E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B72D5-0787-4967-AEDA-8F2D84B7C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14099-2258-4836-80AF-846E5D2B6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AA087B-3A52-4953-8AEB-F3953EE6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3E43B7-522F-4FB7-ACA0-2A88E9C9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7C1D-7131-4BF8-830A-A8529B28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8DBD84-8E85-4C15-B4CF-95D919E9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2DD787-33E1-48A3-96A7-324A37CC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6C4F4C-A89B-4304-8C3C-05D9E0B5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677663-9C38-4695-8C83-151B672CA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63F3EC-7339-4B91-A945-6210B779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C2EDE4-06ED-40F5-9E51-8A411296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E13B11-BEE6-41BC-9783-2C3BBA3A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3AFF86-4890-48BA-9533-1D40C934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8DE21E-5D3E-40BD-85CF-CE32795AD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4468C2-A885-4B94-859E-13D75BC2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33CD-CE52-4332-A012-80A7FEA6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1AD7D9-8C77-46E7-A732-B18C1287B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9705A7-650C-40B5-B31F-5A42F46A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DD4C67-E313-41A4-8C74-6B0D4F9D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331DF5-FA6F-44C1-8F47-A7BE3B61F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82FA8F1-97D8-45F1-BA3C-22323128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E60F8A-0E52-4457-8B0B-2DF58E8E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6C6BF0-65DC-4BC5-801D-9045B230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656B69-F94B-4537-8254-631259CF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FF7A20-3DCA-46E8-9652-5DDD8CAC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50C443-EFB7-49F1-97F4-FD3569551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2C29-D1D0-4CC7-9E17-05DC35CF3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6B698D-4E38-493A-9F83-F94681A3F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96B5D7-CB0F-4E43-8481-76688BCBC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BA53D9-B1FC-4063-9C45-C4D788A91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D2689C-E1A8-4368-A3D7-56449B85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E005E3-760A-417E-A71E-2687C510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E6FB4C-F1CD-4DEB-BDBF-81645C8F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6106D9-CDAB-4E82-A6BA-2490D29B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AD576A-94A8-4ADC-AF91-5EC54DFE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B347AA-82AD-445E-8C0D-96092232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189C3E-FFA0-4F5A-B656-6A955C63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1FB0-26D7-4F4E-B9BD-9EDE0741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1AFAFA-CC58-46D6-937C-2BCC4D06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2E4B1B-EE9C-4DC7-9CCD-FF521E3A3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FE8B108-9D96-4416-948B-AC3F6666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FC3CFE-DAA4-4909-927B-BD6C0C312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5D4715-3045-417D-A0FA-71ED403C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0FA025-77C7-4DCA-A94C-FB435FE4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D29BB3-F3B5-4C9C-9248-B895AA74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7D5FD1-6BF6-4A07-B017-39923A0B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D7C4AA-1693-457B-89B8-FFBD4C56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BB933C-12DA-4BFF-92F7-0AE564D0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541A-7E8A-4A3C-8DDD-63A05024C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C4026F-FE42-4962-A33A-04C04665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01768D-792E-444A-8376-94A5F4FF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2597FF-308A-42E7-A8B4-BE480EDB3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7592B0-EE6A-4408-8247-50A3CAEC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F03012-4835-4E70-B5C4-21831D81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5D8797-826E-4E31-83FE-490C3D438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335F23-034D-41DA-9565-8AD1BF79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706366-40C4-4935-90B5-AB34E5B99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EE3FAAA-2BE0-44AE-9326-59A03C6C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26B42A-650A-4DCD-912E-2A12EC7F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2AAE-F2DB-440E-9055-0E7CCB68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5959DE3-DD2F-4D5E-A635-8907F0138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93AFDA-5C94-4E55-B415-06C35D96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27C24F-9F09-4E17-B063-37555AA6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FC1075-B998-4C52-80B8-A6706365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A01B60-3BB8-448B-8236-55E58CA9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C5F4AF-9D70-48F1-9966-04EA8E5C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8FB84C-15CD-4E81-B360-243CAEBD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089B6-4AAE-4D63-A2EC-3544B2E8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88106E-BBE2-46D7-A581-9CCF63E2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273F49-0FEB-4EDE-9101-327D7C97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80AD-44B7-4E55-84E0-0F07DB7B0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6879-9ACD-4390-A81F-CD251722C0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dt" idx="29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0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B891-D567-4C4D-ADDD-065C487A2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dt" idx="32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3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F1D5-EE8F-4D95-83B9-BA51F3603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dt" idx="35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6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F4940-8935-4433-80F5-DBB85766EF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172200"/>
            <a:ext cx="65530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705720" y="6172200"/>
            <a:ext cx="243828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2B65-2178-4393-A4DE-DF8EEDDA7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339040" y="1447920"/>
            <a:ext cx="82728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D07A-E577-4E0D-928C-5B44D37E80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A907-9C1F-4742-9DE1-18AAFD631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1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9C2F-D1AB-4D0F-A5B8-4E1686306F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14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5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D6E5-7713-4D88-B34F-475078A08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1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D1C2-8987-4904-AD2C-B81E4E1C7B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0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1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C3A5-8DA8-4A31-B8C1-8AC37AC6B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23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4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9061C-BA2D-4014-ABF6-2F98728AD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6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27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4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4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95959"/>
                </a:solidFill>
                <a:latin typeface="Times New Roman"/>
                <a:cs typeface="B Titr"/>
              </a:rPr>
              <a:t>در واقع این مرحله شناخت محصول اس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1071720" y="1828440"/>
            <a:ext cx="7929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ناخت بازار مصر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ربرد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مول و نقشه های فنی و روش ساخ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واد اولی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ناخت سازمان های حمایت کننده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لای مشاب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اضای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یفیت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شناخت دوره ی عمر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1071720" y="1676520"/>
            <a:ext cx="79293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ر محصولی یک روز متولد و روزی می میر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9" name="Object 1"/>
          <p:cNvGraphicFramePr/>
          <p:nvPr/>
        </p:nvGraphicFramePr>
        <p:xfrm>
          <a:off x="1000080" y="2357280"/>
          <a:ext cx="7842240" cy="39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357280"/>
                    <a:ext cx="7842240" cy="39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 txBox="1"/>
          <p:nvPr/>
        </p:nvSpPr>
        <p:spPr>
          <a:xfrm>
            <a:off x="1000080" y="3200400"/>
            <a:ext cx="8143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4f6228"/>
                </a:solidFill>
                <a:latin typeface="Times New Roman"/>
                <a:cs typeface="B Nazanin"/>
              </a:rPr>
              <a:t>معرف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دوره کسی از محصول شناخت ندارد و رغبتی هم برای خرید ندار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بسیاری با شکست مواجه می شوند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رکت به خرده فروشان تخفیف می دهد</a:t>
            </a:r>
            <a:r>
              <a:rPr b="1" lang="fa-IR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تبلیغات زیاد مورد نیاز است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حتی شاید شرکت ضرر بده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رده فروشان تا حد امکان از خرید و انبار کردن محصول خودداری می کنن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مهندسان کارخانه اینجا معلوم می شود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2" name="Object 2"/>
          <p:cNvGraphicFramePr/>
          <p:nvPr/>
        </p:nvGraphicFramePr>
        <p:xfrm>
          <a:off x="1219320" y="106668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06668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785520" y="1856880"/>
            <a:ext cx="83581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6228"/>
                </a:solidFill>
                <a:latin typeface="Times New Roman"/>
                <a:cs typeface="B Nazanin"/>
              </a:rPr>
              <a:t>رش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دف در این مرحله افزایش حجم توزیع در بازار و جلب اعتماد اس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مشتریان محصول را آزمایش می کنند و در صورت کیفیت مشتری دائم می شون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Delay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داری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مرحله فروشنده قيمت كالا را كمي بالا مي كش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.</a:t>
            </a:r>
            <a:r>
              <a:rPr b="1" lang="fa-IR" sz="2000" spc="-1" strike="noStrike">
                <a:solidFill>
                  <a:srgbClr val="000000"/>
                </a:solidFill>
                <a:latin typeface="Times New Roman"/>
                <a:ea typeface="Nazanin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مرحله ی معرفی قیمت را تا جایی که حداقل ضرر را داشته باشیم پایین می آوریم. اما در مرحله رشد قیمت باید حداقل هزینه را پوشش ده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به هیچ عنوان نباید کمبود به وجود آی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مراحل تولد (معرفی) و رشد نباید توقع سود داشت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5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 txBox="1"/>
          <p:nvPr/>
        </p:nvSpPr>
        <p:spPr>
          <a:xfrm>
            <a:off x="228240" y="1714320"/>
            <a:ext cx="89154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r" rtl="1">
              <a:lnSpc>
                <a:spcPct val="100000"/>
              </a:lnSpc>
              <a:spcBef>
                <a:spcPts val="9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4f6228"/>
                </a:solidFill>
                <a:latin typeface="Times New Roman"/>
                <a:cs typeface="B Nazanin"/>
              </a:rPr>
              <a:t>بلوغ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مرحله نرخ رشد كل بازار رو به كاهش مي نه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کیفیت محصول تعیین کننده است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فزایش هزینه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 بازاریابی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در این دوره رقابت کاملاً محسوس است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باید قیمت ها شکسته شو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ائه محصول جدید: به محض مشاهده کاهش سود شرکت باید به دنبال تحقق به تولید محصول جدید بر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رکت های رقیب در این مرحله محصولشان به بازار می رس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3300"/>
                </a:solidFill>
                <a:latin typeface="Times New Roman"/>
                <a:cs typeface="Nazanin"/>
              </a:rPr>
              <a:t>شركت بايد به دنبال تحقيق و توسعه در محصول باشد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Nazani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اساسی را بازار یابی ایفا می کن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78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 txBox="1"/>
          <p:nvPr/>
        </p:nvSpPr>
        <p:spPr>
          <a:xfrm>
            <a:off x="228240" y="1856880"/>
            <a:ext cx="8915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4f6228"/>
                </a:solidFill>
                <a:latin typeface="Times New Roman"/>
                <a:cs typeface="B Nazanin"/>
              </a:rPr>
              <a:t>اشبا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(در این مرحله حداکثر تقاضا را داریم) اما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حداکثر سود را نداری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مرحله  عرضه &gt; تقاض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وش شرکت اصلی به دلیل وجود رقبا کم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قابت بر سر کیفیت، قیمت و بازاریابی ا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12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ولي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كنند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د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اين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مرحل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اي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ه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فك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ايجاد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نوع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و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تغيي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در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محصول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ea typeface="MT Extra"/>
              </a:rPr>
              <a:t></a:t>
            </a:r>
            <a:r>
              <a:rPr b="1" lang="ar-SA" sz="2000" spc="-1" strike="noStrike">
                <a:solidFill>
                  <a:srgbClr val="00b0f0"/>
                </a:solidFill>
                <a:latin typeface="MT Extra"/>
                <a:cs typeface="MT Extra"/>
              </a:rPr>
              <a:t>باش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1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4f6228"/>
                </a:solidFill>
                <a:latin typeface="Times New Roman"/>
                <a:cs typeface="B Nazanin"/>
              </a:rPr>
              <a:t>نزول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اضا و فروش با سرعت زیادی کاهش می یاب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مکن است کالاهای جدید نیاز مشتریان را برآورده نسازد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حمایت از محصول بستگی به تثبیت هزینه ها دا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نقش حسابداری صنعتی برای صرفه جویی در هزینه ها مهم ا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4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"/>
          <p:cNvSpPr txBox="1"/>
          <p:nvPr/>
        </p:nvSpPr>
        <p:spPr>
          <a:xfrm>
            <a:off x="0" y="185688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1001"/>
              </a:spcBef>
              <a:buClr>
                <a:srgbClr val="4f622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4f6228"/>
                </a:solidFill>
                <a:latin typeface="Times New Roman"/>
                <a:cs typeface="B Nazanin"/>
              </a:rPr>
              <a:t>مرگ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اهش تقاضا به گونه ای می شود که دیگر تولید محصول از توجیه اقتصادی برخوردار نیست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لایل: ورود تکنولوژی جدید، تغییر سلیقه مشتری، فرهنگ مشتری، رقبا و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7" name="Object 2"/>
          <p:cNvGraphicFramePr/>
          <p:nvPr/>
        </p:nvGraphicFramePr>
        <p:xfrm>
          <a:off x="1000080" y="0"/>
          <a:ext cx="55720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0"/>
                    <a:ext cx="55720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288800" y="-3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مهندس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 txBox="1"/>
          <p:nvPr/>
        </p:nvSpPr>
        <p:spPr>
          <a:xfrm>
            <a:off x="1071720" y="1676520"/>
            <a:ext cx="79293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عالیتی است به منظور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طراح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یا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تجدی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B Nazanin"/>
              </a:rPr>
              <a:t>طراحی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حصول با اهداف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آورده کردن نیاز مشتر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قتصادی بود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کیف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ثلا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فع خطاهای احتمالی در طراحی اولیه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رسی ابعاد محصول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کیفیت و نیاز مشتری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 ظرفیت محصول و تعداد قابل قبول برای تولید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قتصاد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شکلات و هزینه های اضافی برای برخی مشخصات خاص محصول 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قتصاد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1288800" y="0"/>
            <a:ext cx="74977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مراحل طراح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2" name="Content Placeholder 3" descr=""/>
          <p:cNvPicPr/>
          <p:nvPr/>
        </p:nvPicPr>
        <p:blipFill>
          <a:blip r:embed="rId1"/>
          <a:stretch/>
        </p:blipFill>
        <p:spPr>
          <a:xfrm>
            <a:off x="938160" y="927000"/>
            <a:ext cx="8120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Box 4"/>
          <p:cNvSpPr/>
          <p:nvPr/>
        </p:nvSpPr>
        <p:spPr>
          <a:xfrm>
            <a:off x="1066680" y="19810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IranNastaliq"/>
                <a:cs typeface="IranNastaliq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آنالیز ارزش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"/>
          <p:cNvSpPr txBox="1"/>
          <p:nvPr/>
        </p:nvSpPr>
        <p:spPr>
          <a:xfrm>
            <a:off x="228600" y="1981080"/>
            <a:ext cx="8772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ز مراحل طراحی محصول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قبل از مرحله ی ساخت انجام می ش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زیابی محصول با هدف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کاهش هزینه ها (ارزان تر کردن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افزایش کیفی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هدف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تولید محصول ارزان تر و با کیفیت ت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جایگزینی مواد اولی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غییر در روش تولید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5" name="Picture 21" descr="LOOK"/>
          <p:cNvPicPr/>
          <p:nvPr/>
        </p:nvPicPr>
        <p:blipFill>
          <a:blip r:embed="rId1"/>
          <a:stretch/>
        </p:blipFill>
        <p:spPr>
          <a:xfrm>
            <a:off x="0" y="0"/>
            <a:ext cx="9144000" cy="312408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3" descr="BACK003"/>
          <p:cNvPicPr/>
          <p:nvPr/>
        </p:nvPicPr>
        <p:blipFill>
          <a:blip r:embed="rId2"/>
          <a:stretch/>
        </p:blipFill>
        <p:spPr>
          <a:xfrm>
            <a:off x="304920" y="1719360"/>
            <a:ext cx="8686800" cy="4833720"/>
          </a:xfrm>
          <a:prstGeom prst="rect">
            <a:avLst/>
          </a:prstGeom>
          <a:ln w="0">
            <a:noFill/>
          </a:ln>
        </p:spPr>
      </p:pic>
      <p:sp>
        <p:nvSpPr>
          <p:cNvPr id="997" name="Text Box 4"/>
          <p:cNvSpPr/>
          <p:nvPr/>
        </p:nvSpPr>
        <p:spPr>
          <a:xfrm>
            <a:off x="6400800" y="5334120"/>
            <a:ext cx="24382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9900"/>
                </a:solidFill>
                <a:latin typeface="Arial"/>
                <a:cs typeface="Homa"/>
              </a:rPr>
              <a:t>امكان استفاده از مواد اوليه ارزانت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6"/>
          <p:cNvSpPr/>
          <p:nvPr/>
        </p:nvSpPr>
        <p:spPr>
          <a:xfrm>
            <a:off x="457200" y="3581280"/>
            <a:ext cx="236232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بكارگيري روش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بهتر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جهت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توليد</a:t>
            </a:r>
            <a:r>
              <a:rPr b="1" lang="fa-IR" sz="25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r>
              <a:rPr b="1" lang="ar-SA" sz="2500" spc="-1" strike="noStrike">
                <a:solidFill>
                  <a:srgbClr val="ffff00"/>
                </a:solidFill>
                <a:latin typeface="Arial"/>
                <a:cs typeface="Homa"/>
              </a:rPr>
              <a:t>محصول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14"/>
          <p:cNvSpPr/>
          <p:nvPr/>
        </p:nvSpPr>
        <p:spPr>
          <a:xfrm>
            <a:off x="3120120" y="1981080"/>
            <a:ext cx="3018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ffffff"/>
                </a:solidFill>
                <a:latin typeface="Arial"/>
                <a:cs typeface="Homa"/>
              </a:rPr>
              <a:t>تغييرات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16"/>
          <p:cNvSpPr/>
          <p:nvPr/>
        </p:nvSpPr>
        <p:spPr>
          <a:xfrm>
            <a:off x="6095880" y="3565440"/>
            <a:ext cx="2819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Homa"/>
              </a:rPr>
              <a:t>امكان حذف</a:t>
            </a:r>
            <a:r>
              <a:rPr b="1" lang="ar-SA" sz="30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00"/>
                </a:solidFill>
                <a:latin typeface="Arial"/>
                <a:cs typeface="Homa"/>
              </a:rPr>
              <a:t>تلرانس هاي اضاف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7"/>
          <p:cNvSpPr/>
          <p:nvPr/>
        </p:nvSpPr>
        <p:spPr>
          <a:xfrm>
            <a:off x="228600" y="5394240"/>
            <a:ext cx="27432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" spc="-1" strike="noStrike">
                <a:solidFill>
                  <a:srgbClr val="ff9900"/>
                </a:solidFill>
                <a:latin typeface="Arial"/>
                <a:cs typeface="Homa"/>
              </a:rPr>
              <a:t>طراحي قطعات ب</a:t>
            </a:r>
            <a:r>
              <a:rPr b="1" lang="fa-IR" sz="2500" spc="-1" strike="noStrike">
                <a:solidFill>
                  <a:srgbClr val="ff9900"/>
                </a:solidFill>
                <a:latin typeface="Arial"/>
                <a:cs typeface="Homa"/>
              </a:rPr>
              <a:t>منظور</a:t>
            </a:r>
            <a:r>
              <a:rPr b="1" lang="ar-SA" sz="2500" spc="-1" strike="noStrike">
                <a:solidFill>
                  <a:srgbClr val="ff9900"/>
                </a:solidFill>
                <a:latin typeface="Arial"/>
                <a:ea typeface="Homa"/>
              </a:rPr>
              <a:t> ساده شد</a:t>
            </a:r>
            <a:r>
              <a:rPr b="1" lang="fa-IR" sz="2500" spc="-1" strike="noStrike">
                <a:solidFill>
                  <a:srgbClr val="ff9900"/>
                </a:solidFill>
                <a:latin typeface="Arial"/>
                <a:cs typeface="Homa"/>
              </a:rPr>
              <a:t>ن</a:t>
            </a:r>
            <a:r>
              <a:rPr b="1" lang="ar-SA" sz="2500" spc="-1" strike="noStrike">
                <a:solidFill>
                  <a:srgbClr val="ff9900"/>
                </a:solidFill>
                <a:latin typeface="Arial"/>
                <a:ea typeface="Homa"/>
              </a:rPr>
              <a:t> مونتا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8"/>
          <p:cNvSpPr/>
          <p:nvPr/>
        </p:nvSpPr>
        <p:spPr>
          <a:xfrm>
            <a:off x="3075120" y="3657600"/>
            <a:ext cx="2921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9900"/>
                </a:solidFill>
                <a:latin typeface="Arial"/>
                <a:cs typeface="Homa"/>
              </a:rPr>
              <a:t>كاهش كيفيت</a:t>
            </a:r>
            <a:r>
              <a:rPr b="1" lang="fa-IR" sz="3000" spc="-1" strike="noStrike">
                <a:solidFill>
                  <a:srgbClr val="ff9900"/>
                </a:solidFill>
                <a:latin typeface="Arial"/>
                <a:ea typeface="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ff9900"/>
                </a:solidFill>
                <a:latin typeface="Arial"/>
                <a:cs typeface="Homa"/>
              </a:rPr>
              <a:t>باتوجه به مکا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20"/>
          <p:cNvSpPr/>
          <p:nvPr/>
        </p:nvSpPr>
        <p:spPr>
          <a:xfrm>
            <a:off x="3352680" y="518148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تغيير جنس</a:t>
            </a:r>
            <a:r>
              <a:rPr b="1" lang="ar-SA" sz="27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قطعات</a:t>
            </a:r>
            <a:r>
              <a:rPr b="1" lang="fa-IR" sz="2700" spc="-1" strike="noStrike">
                <a:solidFill>
                  <a:srgbClr val="ffff00"/>
                </a:solidFill>
                <a:latin typeface="Arial"/>
                <a:ea typeface="Homa"/>
              </a:rPr>
              <a:t> بدون</a:t>
            </a:r>
            <a:r>
              <a:rPr b="1" lang="fa-IR" sz="2700" spc="-1" strike="noStrike">
                <a:solidFill>
                  <a:srgbClr val="ffff00"/>
                </a:solidFill>
                <a:latin typeface="Arial"/>
                <a:ea typeface="Hom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700" spc="-1" strike="noStrike">
                <a:solidFill>
                  <a:srgbClr val="ffff00"/>
                </a:solidFill>
                <a:latin typeface="Arial"/>
                <a:cs typeface="Homa"/>
              </a:rPr>
              <a:t>نياز به </a:t>
            </a:r>
            <a:r>
              <a:rPr b="1" lang="ar-SA" sz="2700" spc="-1" strike="noStrike">
                <a:solidFill>
                  <a:srgbClr val="ffff00"/>
                </a:solidFill>
                <a:latin typeface="Arial"/>
                <a:cs typeface="Homa"/>
              </a:rPr>
              <a:t>كيفيت بال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2000"/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Andalus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3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2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چه قطعاتی بهتر است خریداری شوند؟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304920" y="1752120"/>
            <a:ext cx="869616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 استاندارد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پیچ، مهره، میخ، واشر و . .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تکنولوژی ساخت آنها در دسترس ما نی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فرآیند ساخت آنها کلاً با فرآیند ساخت کارخانه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تفاوت هستن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دیگر شرکت ها تخصص بالاتری در تولید آنها دارند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دیگر شرکت ها آن ها را با مقیاس بالا و در نتیجه ارزان تر تولید می کنن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10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0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0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10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 u="sng">
                <a:solidFill>
                  <a:srgbClr val="595959"/>
                </a:solidFill>
                <a:uFillTx/>
                <a:latin typeface="Times New Roman"/>
                <a:cs typeface="B Titr"/>
              </a:rPr>
              <a:t>چه قطعاتی بهتر است تولید شوند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228600" y="1981080"/>
            <a:ext cx="8772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تولید آنها باعث بالا رفتن تکنولوژی می شو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ید این قطعات باعث می شوند که در آینده به شرکتی قدرتمند در آن زمینه تبدیل شوی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واگذار کردن تولید آن به خارج از کارخانه باعث لو رفتن اطلاعات محرمانه شو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قطعاتی که براساس سیاست های دولت تولید آنها الزامی است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0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0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0" fill="hold"/>
                                        <p:tgtEl>
                                          <p:spTgt spid="10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0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1288800" y="-360"/>
            <a:ext cx="749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595959"/>
                </a:solidFill>
                <a:latin typeface="Times New Roman"/>
                <a:cs typeface="B Titr"/>
              </a:rPr>
              <a:t>تصمیم گیری در قبال خرید یا تولید بر اساس تکنولوژی محصو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0" name="Object 1"/>
          <p:cNvGraphicFramePr/>
          <p:nvPr/>
        </p:nvGraphicFramePr>
        <p:xfrm>
          <a:off x="1000080" y="1600200"/>
          <a:ext cx="7983720" cy="50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600200"/>
                    <a:ext cx="7983720" cy="50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945" name="TextBox 5"/>
          <p:cNvSpPr/>
          <p:nvPr/>
        </p:nvSpPr>
        <p:spPr>
          <a:xfrm>
            <a:off x="1066680" y="20016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وزارت علوم تحقیقات و فناو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TextBox 3"/>
          <p:cNvSpPr/>
          <p:nvPr/>
        </p:nvSpPr>
        <p:spPr>
          <a:xfrm>
            <a:off x="1066680" y="198108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موزشکده فنی و حرفه ای دختران ارومی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5"/>
          <p:cNvSpPr/>
          <p:nvPr/>
        </p:nvSpPr>
        <p:spPr>
          <a:xfrm>
            <a:off x="1044720" y="30492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انشگاه فنی و حرفه ا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TextBox 4"/>
          <p:cNvSpPr/>
          <p:nvPr/>
        </p:nvSpPr>
        <p:spPr>
          <a:xfrm>
            <a:off x="1103400" y="3084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رس : مدیریت تولی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3"/>
          <p:cNvSpPr/>
          <p:nvPr/>
        </p:nvSpPr>
        <p:spPr>
          <a:xfrm>
            <a:off x="1103400" y="5181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استاد مربوطه : خانم جهت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5"/>
          <p:cNvSpPr/>
          <p:nvPr/>
        </p:nvSpPr>
        <p:spPr>
          <a:xfrm>
            <a:off x="1103400" y="609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مقطع تحصیلی کارشناس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6"/>
          <p:cNvSpPr/>
          <p:nvPr/>
        </p:nvSpPr>
        <p:spPr>
          <a:xfrm>
            <a:off x="1103400" y="17812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رشته حسابدا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-360" y="3879360"/>
            <a:ext cx="9001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0000"/>
                </a:solidFill>
                <a:latin typeface="Times New Roman"/>
                <a:cs typeface="B Davat"/>
              </a:rPr>
              <a:t>طراحی محصول و فرآیند تولید آن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240120" indent="-24012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92040" y="182880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7200" spc="-1" strike="noStrike">
                <a:solidFill>
                  <a:srgbClr val="ffffff"/>
                </a:solidFill>
                <a:latin typeface="IranNastaliq"/>
                <a:cs typeface="IranNastaliq"/>
              </a:rPr>
              <a:t>فصل دوم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TextBox 3"/>
          <p:cNvSpPr/>
          <p:nvPr/>
        </p:nvSpPr>
        <p:spPr>
          <a:xfrm>
            <a:off x="1197000" y="3459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جلسه دوم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عریف طراحی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152280" y="1676520"/>
            <a:ext cx="8848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یندی که با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تعریف دقیق محصو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عملکردها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کاربردهای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آن به تعیین خصوصیات کلی و جزئی محصول پرداخته و طی آن با رعایت خواسته های مشتری و استاندارها و با توجه به توجیه اقتصادی تولید محصول به </a:t>
            </a:r>
            <a:r>
              <a:rPr b="1" lang="ar-SA" sz="2800" spc="-1" strike="noStrike">
                <a:solidFill>
                  <a:srgbClr val="4f6228"/>
                </a:solidFill>
                <a:latin typeface="Times New Roman"/>
                <a:cs typeface="B Nazanin"/>
              </a:rPr>
              <a:t>تهیه نقشه های فنی و نمونه اولیه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 منجر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واسته های مشتر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لزام آو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عملکرد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نگیزش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Diagram 52" descr=""/>
          <p:cNvPicPr/>
          <p:nvPr/>
        </p:nvPicPr>
        <p:blipFill>
          <a:blip r:embed="rId1"/>
          <a:stretch/>
        </p:blipFill>
        <p:spPr>
          <a:xfrm>
            <a:off x="1420920" y="1395360"/>
            <a:ext cx="6327720" cy="4067280"/>
          </a:xfrm>
          <a:prstGeom prst="rect">
            <a:avLst/>
          </a:prstGeom>
          <a:ln w="0">
            <a:noFill/>
          </a:ln>
        </p:spPr>
      </p:pic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نياز هاي مشتريان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Rounded Rectangle 6"/>
          <p:cNvSpPr/>
          <p:nvPr/>
        </p:nvSpPr>
        <p:spPr>
          <a:xfrm>
            <a:off x="76320" y="1676520"/>
            <a:ext cx="3047760" cy="1752480"/>
          </a:xfrm>
          <a:prstGeom prst="roundRect">
            <a:avLst>
              <a:gd name="adj" fmla="val 16667"/>
            </a:avLst>
          </a:prstGeom>
          <a:solidFill>
            <a:srgbClr val="4172ad"/>
          </a:solidFill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اساسي (الزام آو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عملكرد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ffff"/>
                </a:solidFill>
                <a:latin typeface="Calibri"/>
                <a:cs typeface="B Titr"/>
              </a:rPr>
              <a:t>انگيزش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0" name="Picture 4" descr="C:\Documents and Settings\EHSAN\My Documents\My Music\New Folder\untitled.jpg"/>
          <p:cNvPicPr/>
          <p:nvPr/>
        </p:nvPicPr>
        <p:blipFill>
          <a:blip r:embed="rId2"/>
          <a:stretch/>
        </p:blipFill>
        <p:spPr>
          <a:xfrm>
            <a:off x="3157560" y="1700280"/>
            <a:ext cx="5910120" cy="4395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5" descr=""/>
          <p:cNvPicPr/>
          <p:nvPr/>
        </p:nvPicPr>
        <p:blipFill>
          <a:blip r:embed="rId3"/>
          <a:stretch/>
        </p:blipFill>
        <p:spPr>
          <a:xfrm>
            <a:off x="228600" y="5921280"/>
            <a:ext cx="88390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7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288800" y="2743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پیش نیازهای طراحی محصول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1071720" y="19810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طالعات امکان سنج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یش بینی فروش و تقاضا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رزیابی مالی و اقتصادی ط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karifar</dc:creator>
  <dc:description/>
  <dc:language>en-US</dc:language>
  <cp:lastModifiedBy>Toka</cp:lastModifiedBy>
  <dcterms:modified xsi:type="dcterms:W3CDTF">2020-04-12T19:47:38Z</dcterms:modified>
  <cp:revision>1403</cp:revision>
  <dc:subject/>
  <dc:title>Slide 1</dc:title>
</cp:coreProperties>
</file>