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DDCAE-D40C-4C94-956B-FD141EA67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49A70-10A9-4345-9F5D-A6E76A3F02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1FEB1B8-1D1B-4B6F-A10B-86F354C1E8E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9A3CA97-E0CE-4877-B7FF-FB25DBA6EF9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D908776-A27E-44F4-AA89-18FDD634228B}"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4261808-AC79-46B4-AD3E-DC91922C9B7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636D473-B66E-4986-98A1-42916328359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2CB7B9D-AF21-4205-A832-DE739510AAD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E317BD2-10E0-47E6-94D8-78039DA390C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506603F-DADF-4770-9F0D-420B1AEAB71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66783AD8-F80D-4317-A657-2586D3DD6BC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1AB1E600-1AD4-415B-B85D-97FBA03063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5BE01-3B71-496C-A4B0-79413C7AE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B364A4B-4761-4799-952B-5CAF0636B0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8C9436E-F29D-4272-8521-1722694F78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288027F-EEF1-493E-8E0A-248A3BDCD7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488CED7-C6D4-43AD-8EEC-E55F45DA85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8E462856-3016-484A-812D-B99567CA5F9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C8434B7-D619-4C41-AC20-A67CFABBF8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3CBF122-4261-4DD6-833F-37A659B29F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9E813E0-18B0-49C8-A175-6CB4953761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A13A7EA-C7E0-44EF-9CE2-E5D9902049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7B1D0C5-DA13-4AD1-8ED6-9C8F6E6A60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D4815-64AB-43D9-AE11-CD783DB05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98E9300-7EFE-4F71-851E-7376E9897BF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2F427865-D68B-45CC-BE97-2D0D1BE24A8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0ED6F4F7-5118-4795-BF8E-BB733F4685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164CC5E9-162C-412E-9C6E-47E3A8FDBF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9F853C4D-2DED-4A81-A317-FF84BFD979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1924BDA4-F4E5-47F4-9D47-44F132FFE06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45BCBF4-1656-4585-B663-BD46A16826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E4121648-A8AF-4A3D-9012-660FDFB957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E948781A-B1A2-432A-8F8B-07B2CB0EDE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5C85A3A7-5340-410C-9A75-FE3A99B4060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9F428F-C507-42A6-8EC0-BE8835F023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BD111537-69B7-4271-82E9-E17E504377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1FD670A3-D44C-4E95-8386-B2344E6F7C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F80DB52F-767A-4509-BC1B-F3D039006B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AE54935-A34E-4CC6-9873-14C2F715FB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57C028A-6EC2-4936-8983-4971E9FD5A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991992B-16C2-4E2A-8885-3F9324AC1F7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DC50616-056D-4056-9A90-73A25AA4DB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A4566A9-F9C6-49BC-AB9D-FD8E496526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E856703-6DC5-4ED2-BFDC-6E3AC6C96A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685B6AD-2FC9-4680-9F85-2CA6694DD2F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F0A19-4B4E-4084-8467-04269EC30D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23CA2F9-EBC0-4E12-BD37-1043F99A78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E547175-8BA4-4C18-9C25-2B6094A3839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6901907-AC41-4444-8259-19BD055E21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3650EA6-7582-45A6-8975-D6719B86B82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798D4B5E-3F0A-44FD-9E80-44CAB47AB9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63DB2-45E9-402A-969E-93C3B4526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82E98-B6A4-44A1-BECA-726D176C21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66B1CD-2CE7-4B35-842D-4C54BFF33D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9B6215-8B1B-4588-A376-25178F50F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80E091-9545-4918-AAFB-6824C2183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83181-F436-415F-8F86-2572A133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454DC0-321E-4EE1-A2D7-A9727DBEC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59525-F04C-4217-BBED-67F7B6F79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A51EA5-8100-4C0D-A977-ADF1E92315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C7B30F-82D5-45FB-AF86-449E8ACB05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8C3879-0E21-45A6-B661-6441564A6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5BCD50-9CDF-47C9-9B1B-2F828F0B93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51D174-2008-4EF8-A6EE-35DE7CAB57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8A4991-D7E4-4BA8-ABC5-1D2009632D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921CFC-9776-4173-A3A9-D58EC3BA98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9CDA5A-2E3D-45A7-B580-0E96EBDACB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129668-ED31-4CE0-970A-E7561D843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4202CE-CD4E-4360-9A0A-7F81FA88EE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459A3F-83A6-4D44-83A8-1420B883D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46DE8-C695-484D-932F-A1176044D8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FE156E-6A12-4D9F-BDC0-887103AAC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0A695C-ED03-4123-8B0A-F15BCAFB0E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AB1E95F-9435-49C8-B79A-4A9B908BDFB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5219EA-0FFD-492A-807B-8389A102E1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05048277-F89A-4A59-AC6E-3DF752D6711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A11D87F9-2B96-4E31-AF15-388718276B9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6140BB8D-1A94-4E8B-80E8-FFFC0C2CD9F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19B29-8A9F-452B-A3B7-08878BF95B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C9ECF611-84FF-486A-ABB2-630DF55AB8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40D9F5EF-C1C4-4CC1-BCE6-37B89EE255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7D910F81-D0D0-417C-B045-DD53A500B3F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917A25F6-508C-44FF-87CC-687E127A57A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70602FB7-2D6A-4D52-89B0-F365FB4CA9A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F2EE0CCF-9BDB-43DC-9B17-B0066F4B86A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1F3D7D15-69C0-4402-82F8-5921C30583A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9604607D-65B5-42CA-B995-6F6BFC30215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8725F0BA-B4B6-4630-BEA4-83A68EB6167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3"/>
          </p:nvPr>
        </p:nvSpPr>
        <p:spPr/>
        <p:txBody>
          <a:bodyPr/>
          <a:p>
            <a:fld id="{5B156E74-386F-4534-A32F-096C43C3E673}"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DF0E9-9223-400F-97F6-C889A3813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22598B02-DD7E-4337-94B4-A166A5BD471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3"/>
          </p:nvPr>
        </p:nvSpPr>
        <p:spPr/>
        <p:txBody>
          <a:bodyPr/>
          <a:p>
            <a:fld id="{F62F2E92-26B1-40EB-855A-E1CDE2035BD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E5251E0D-06EA-458E-B228-9678496E6A6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B3A66299-73DB-49BE-855D-0A8F94C0C1E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3"/>
          </p:nvPr>
        </p:nvSpPr>
        <p:spPr/>
        <p:txBody>
          <a:bodyPr/>
          <a:p>
            <a:fld id="{7E14DD60-AA2C-49DB-84E4-75410972D4F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4BFF7B90-F597-4F2B-A4D1-60E9CF05CFD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64CB9BEA-AF44-4EC0-A62E-B8C9F532BDF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3"/>
          </p:nvPr>
        </p:nvSpPr>
        <p:spPr/>
        <p:txBody>
          <a:bodyPr/>
          <a:p>
            <a:fld id="{51972E31-B2DF-47DD-A7CF-2AE8F65698C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3"/>
          </p:nvPr>
        </p:nvSpPr>
        <p:spPr/>
        <p:txBody>
          <a:bodyPr/>
          <a:p>
            <a:fld id="{9D0E1E3B-3C3C-4A3B-B8CC-95E81C9B37A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3"/>
          </p:nvPr>
        </p:nvSpPr>
        <p:spPr/>
        <p:txBody>
          <a:bodyPr/>
          <a:p>
            <a:fld id="{C0776E77-2004-4199-BA4F-89834569101C}"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ADD14-753C-4297-B152-258135EFE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3"/>
          </p:nvPr>
        </p:nvSpPr>
        <p:spPr/>
        <p:txBody>
          <a:bodyPr/>
          <a:p>
            <a:fld id="{216B3991-D6A1-4025-A90D-E06EB6AFF09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F45F992C-2314-4F34-9FE3-CE4DD183389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1B4D7B9-0AEF-4005-A34C-0FFB38E7931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22BD8DC7-EC9F-4711-93F2-4DE69B02AC0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E0FFD5B6-338E-4A6F-BDD1-366B3957B65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0963C3D5-1414-4E02-9C52-973F3F0CEB2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A7E9BFB4-A07B-48A6-A5CF-DD2CF5B6A78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79600FFD-2390-4385-BFDD-CA9375B9754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1065EA00-CFB3-47F0-84DB-078BFFB9DF2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FBDCE950-9C8A-4AA4-84F9-77B6FE6B318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D693B-1D46-4F5F-99B6-CE57B4923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4E451D78-84E7-47D4-A37D-6A3970B25E4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A84BCDA1-75A4-466D-BFE0-EE324C81414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5C56D64D-D40E-4FF5-BB43-64395DD6970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19"/>
          </p:nvPr>
        </p:nvSpPr>
        <p:spPr/>
        <p:txBody>
          <a:bodyPr/>
          <a:p>
            <a:fld id="{7E3D719A-C225-4EC5-8B4B-64990514070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ECF93CD4-20D0-4B00-9CDA-035DC1D55EE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19"/>
          </p:nvPr>
        </p:nvSpPr>
        <p:spPr/>
        <p:txBody>
          <a:bodyPr/>
          <a:p>
            <a:fld id="{DFFAF495-01D1-4473-A154-533BB4B13ED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31E37E2D-3E68-4198-8462-EF235871339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0D342C9A-4003-4BC2-AC99-93AFCFF3978C}"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19"/>
          </p:nvPr>
        </p:nvSpPr>
        <p:spPr/>
        <p:txBody>
          <a:bodyPr/>
          <a:p>
            <a:fld id="{AFB7805D-76AE-4A00-A945-04E9D95E77C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6536FA24-44B8-4204-9052-0D6F2BD2E7E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3D1FA-7C8E-48F7-9EFA-FE835A3A9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2B2F1327-3FB3-4F6F-B215-E53228581AA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19"/>
          </p:nvPr>
        </p:nvSpPr>
        <p:spPr/>
        <p:txBody>
          <a:bodyPr/>
          <a:p>
            <a:fld id="{0B8A9380-7726-4970-9179-14DC4B5EF67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19"/>
          </p:nvPr>
        </p:nvSpPr>
        <p:spPr/>
        <p:txBody>
          <a:bodyPr/>
          <a:p>
            <a:fld id="{1B16F91C-DDEC-468E-8779-2BD574F9733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19"/>
          </p:nvPr>
        </p:nvSpPr>
        <p:spPr/>
        <p:txBody>
          <a:bodyPr/>
          <a:p>
            <a:fld id="{2F13EB23-1559-4B2F-8325-DE74C88DD72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19"/>
          </p:nvPr>
        </p:nvSpPr>
        <p:spPr/>
        <p:txBody>
          <a:bodyPr/>
          <a:p>
            <a:fld id="{ED0B49B2-7AE3-4A48-91FF-AB3577887152}"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2"/>
          </p:nvPr>
        </p:nvSpPr>
        <p:spPr/>
        <p:txBody>
          <a:bodyPr/>
          <a:p>
            <a:fld id="{B1CC3B2E-2091-4514-A0D0-A2484F0989B1}"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F55AC2AF-234C-452F-874F-A73A4CE1DAC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2"/>
          </p:nvPr>
        </p:nvSpPr>
        <p:spPr/>
        <p:txBody>
          <a:bodyPr/>
          <a:p>
            <a:fld id="{377E1807-8BD9-487B-A465-897658D7C55C}"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9DBB0A97-E0FD-47AC-BB29-F1E054FC74D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4AAF4D63-DAC4-4170-AA1D-0EE94B44DAA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11B9E-D289-472C-85B6-F753DE51B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2"/>
          </p:nvPr>
        </p:nvSpPr>
        <p:spPr/>
        <p:txBody>
          <a:bodyPr/>
          <a:p>
            <a:fld id="{80A9ECCB-B38E-4C90-9EF5-7306D1DCAE5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53785D0C-DDE0-41AE-A4C8-3B82716FD4F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A9005501-11CE-4646-8CA4-B38C3EA7EF0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2"/>
          </p:nvPr>
        </p:nvSpPr>
        <p:spPr/>
        <p:txBody>
          <a:bodyPr/>
          <a:p>
            <a:fld id="{8DABB418-EF5C-492C-8D07-B4DF3D64F41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2"/>
          </p:nvPr>
        </p:nvSpPr>
        <p:spPr/>
        <p:txBody>
          <a:bodyPr/>
          <a:p>
            <a:fld id="{3B0291F3-EAC8-4762-8E2A-FE4638E8F47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2"/>
          </p:nvPr>
        </p:nvSpPr>
        <p:spPr/>
        <p:txBody>
          <a:bodyPr/>
          <a:p>
            <a:fld id="{1F92D700-F4E5-4CDC-9F33-FF508549034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2"/>
          </p:nvPr>
        </p:nvSpPr>
        <p:spPr/>
        <p:txBody>
          <a:bodyPr/>
          <a:p>
            <a:fld id="{5F98FF24-B894-48F8-B3C8-466CAD09A719}"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EE63064-B88A-487D-B3CD-A1779AB7A77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EB7884F-9327-4E1A-944B-865079B0732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86BF6F9-47BA-4097-9C04-F62DC55B02A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C8DBA-5334-4DFC-9B91-E43DB3E6ABB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65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1"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0CFD6-7CB9-4C3A-97F1-819A84B61F4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00" name="PlaceHolder 4"/>
          <p:cNvSpPr>
            <a:spLocks noGrp="1"/>
          </p:cNvSpPr>
          <p:nvPr>
            <p:ph type="dt" idx="29"/>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01" name="PlaceHolder 5"/>
          <p:cNvSpPr>
            <a:spLocks noGrp="1"/>
          </p:cNvSpPr>
          <p:nvPr>
            <p:ph type="ftr" idx="30"/>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73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9" name="PlaceHolder 3"/>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A8EA0-796C-484E-9A88-7E877056F6D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780" name="PlaceHolder 4"/>
          <p:cNvSpPr>
            <a:spLocks noGrp="1"/>
          </p:cNvSpPr>
          <p:nvPr>
            <p:ph type="dt" idx="32"/>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81" name="PlaceHolder 5"/>
          <p:cNvSpPr>
            <a:spLocks noGrp="1"/>
          </p:cNvSpPr>
          <p:nvPr>
            <p:ph type="ftr" idx="33"/>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19"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1" name="PlaceHolder 3"/>
          <p:cNvSpPr>
            <a:spLocks noGrp="1"/>
          </p:cNvSpPr>
          <p:nvPr>
            <p:ph type="sldNum" idx="34"/>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6709D-0B82-4495-B7ED-D962FA26909D}"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862" name="PlaceHolder 4"/>
          <p:cNvSpPr>
            <a:spLocks noGrp="1"/>
          </p:cNvSpPr>
          <p:nvPr>
            <p:ph type="dt" idx="35"/>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863" name="PlaceHolder 5"/>
          <p:cNvSpPr>
            <a:spLocks noGrp="1"/>
          </p:cNvSpPr>
          <p:nvPr>
            <p:ph type="ftr" idx="36"/>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3" name="Rectangle 7"/>
          <p:cNvSpPr/>
          <p:nvPr/>
        </p:nvSpPr>
        <p:spPr>
          <a:xfrm>
            <a:off x="0" y="0"/>
            <a:ext cx="9144000" cy="6019920"/>
          </a:xfrm>
          <a:prstGeom prst="rect">
            <a:avLst/>
          </a:prstGeom>
          <a:solidFill>
            <a:srgbClr val="59595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8"/>
          <p:cNvSpPr/>
          <p:nvPr/>
        </p:nvSpPr>
        <p:spPr>
          <a:xfrm>
            <a:off x="0" y="6172200"/>
            <a:ext cx="65530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6705720" y="6172200"/>
            <a:ext cx="243828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0"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190AE-23B0-4334-8A1E-43C61D4F914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89"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8"/>
          <p:cNvSpPr/>
          <p:nvPr/>
        </p:nvSpPr>
        <p:spPr>
          <a:xfrm>
            <a:off x="8339040" y="1447920"/>
            <a:ext cx="82728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1" name="PlaceHolder 3"/>
          <p:cNvSpPr>
            <a:spLocks noGrp="1"/>
          </p:cNvSpPr>
          <p:nvPr>
            <p:ph type="dt" idx="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08B75-35B0-4F8E-AD27-2135A0F76D3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171" name="Rectangle 7"/>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9"/>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10"/>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3" name="PlaceHolder 3"/>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A863-7377-4603-A88C-7DED0CFD9D9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14" name="PlaceHolder 4"/>
          <p:cNvSpPr>
            <a:spLocks noGrp="1"/>
          </p:cNvSpPr>
          <p:nvPr>
            <p:ph type="dt" idx="11"/>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15" name="PlaceHolder 5"/>
          <p:cNvSpPr>
            <a:spLocks noGrp="1"/>
          </p:cNvSpPr>
          <p:nvPr>
            <p:ph type="ftr" idx="12"/>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253"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5" name="PlaceHolder 3"/>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7B999-7F4B-4C17-A73C-4C6061BF023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296" name="PlaceHolder 4"/>
          <p:cNvSpPr>
            <a:spLocks noGrp="1"/>
          </p:cNvSpPr>
          <p:nvPr>
            <p:ph type="dt" idx="14"/>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297" name="PlaceHolder 5"/>
          <p:cNvSpPr>
            <a:spLocks noGrp="1"/>
          </p:cNvSpPr>
          <p:nvPr>
            <p:ph type="ftr" idx="15"/>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335"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9"/>
          <p:cNvSpPr/>
          <p:nvPr/>
        </p:nvSpPr>
        <p:spPr>
          <a:xfrm>
            <a:off x="0" y="1447920"/>
            <a:ext cx="8229600" cy="15228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0"/>
          <p:cNvSpPr/>
          <p:nvPr/>
        </p:nvSpPr>
        <p:spPr>
          <a:xfrm>
            <a:off x="8339040" y="1447920"/>
            <a:ext cx="790560" cy="15228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1"/>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2"/>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13"/>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14"/>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15"/>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16"/>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17"/>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Rectangle 18"/>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19"/>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20"/>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21"/>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22"/>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23"/>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24"/>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25"/>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26"/>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27"/>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8"/>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9"/>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30"/>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31"/>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32"/>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33"/>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34"/>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35"/>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36"/>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37"/>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8"/>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39"/>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0"/>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41"/>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42"/>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43"/>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44"/>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45"/>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46"/>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7" name="PlaceHolder 3"/>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5F6A-0185-48A4-B3E9-F4706A7E4EA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378" name="PlaceHolder 4"/>
          <p:cNvSpPr>
            <a:spLocks noGrp="1"/>
          </p:cNvSpPr>
          <p:nvPr>
            <p:ph type="dt" idx="17"/>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79" name="PlaceHolder 5"/>
          <p:cNvSpPr>
            <a:spLocks noGrp="1"/>
          </p:cNvSpPr>
          <p:nvPr>
            <p:ph type="ftr" idx="18"/>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1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7" name="PlaceHolder 3"/>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D18A-F854-4FAF-A90B-84708E76EA3E}"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58" name="PlaceHolder 4"/>
          <p:cNvSpPr>
            <a:spLocks noGrp="1"/>
          </p:cNvSpPr>
          <p:nvPr>
            <p:ph type="dt" idx="20"/>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59" name="PlaceHolder 5"/>
          <p:cNvSpPr>
            <a:spLocks noGrp="1"/>
          </p:cNvSpPr>
          <p:nvPr>
            <p:ph type="ftr" idx="21"/>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49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7" name="PlaceHolder 3"/>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45FD7-3F45-41E2-8C09-ED44A6F575E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538" name="PlaceHolder 4"/>
          <p:cNvSpPr>
            <a:spLocks noGrp="1"/>
          </p:cNvSpPr>
          <p:nvPr>
            <p:ph type="dt" idx="23"/>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9" name="PlaceHolder 5"/>
          <p:cNvSpPr>
            <a:spLocks noGrp="1"/>
          </p:cNvSpPr>
          <p:nvPr>
            <p:ph type="ftr" idx="24"/>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TextBox 1"/>
          <p:cNvSpPr/>
          <p:nvPr/>
        </p:nvSpPr>
        <p:spPr>
          <a:xfrm>
            <a:off x="162000" y="63360"/>
            <a:ext cx="3600360" cy="82548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ahoma"/>
                <a:cs typeface="B Titr"/>
              </a:rPr>
              <a:t>بانک پاورپوینت: </a:t>
            </a:r>
            <a:r>
              <a:rPr b="1" lang="en-US" sz="2400" spc="-1" strike="noStrike">
                <a:solidFill>
                  <a:srgbClr val="ff0000"/>
                </a:solidFill>
                <a:latin typeface="Tahoma"/>
                <a:ea typeface="B Titr"/>
              </a:rPr>
              <a:t>@</a:t>
            </a:r>
            <a:r>
              <a:rPr b="1" lang="en-US" sz="2400" spc="-1" strike="noStrike">
                <a:solidFill>
                  <a:srgbClr val="ff0000"/>
                </a:solidFill>
                <a:latin typeface="Tahoma"/>
                <a:ea typeface="B Titr"/>
              </a:rPr>
              <a:t>PptBank</a:t>
            </a:r>
            <a:endParaRPr b="0" lang="en-US" sz="2400" spc="-1" strike="noStrike">
              <a:solidFill>
                <a:srgbClr val="000000"/>
              </a:solidFill>
              <a:latin typeface="Arial"/>
            </a:endParaRPr>
          </a:p>
        </p:txBody>
      </p:sp>
      <p:sp>
        <p:nvSpPr>
          <p:cNvPr id="577" name="Rectangle 7"/>
          <p:cNvSpPr/>
          <p:nvPr/>
        </p:nvSpPr>
        <p:spPr>
          <a:xfrm>
            <a:off x="0" y="6172200"/>
            <a:ext cx="8207280" cy="612720"/>
          </a:xfrm>
          <a:prstGeom prst="rect">
            <a:avLst/>
          </a:prstGeom>
          <a:solidFill>
            <a:srgbClr val="558e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
          <p:cNvSpPr/>
          <p:nvPr/>
        </p:nvSpPr>
        <p:spPr>
          <a:xfrm>
            <a:off x="8323200" y="6172200"/>
            <a:ext cx="828720" cy="6127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
          <p:cNvSpPr/>
          <p:nvPr/>
        </p:nvSpPr>
        <p:spPr>
          <a:xfrm>
            <a:off x="282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10"/>
          <p:cNvSpPr/>
          <p:nvPr/>
        </p:nvSpPr>
        <p:spPr>
          <a:xfrm>
            <a:off x="4986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11"/>
          <p:cNvSpPr/>
          <p:nvPr/>
        </p:nvSpPr>
        <p:spPr>
          <a:xfrm>
            <a:off x="7142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Rectangle 12"/>
          <p:cNvSpPr/>
          <p:nvPr/>
        </p:nvSpPr>
        <p:spPr>
          <a:xfrm>
            <a:off x="92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Rectangle 13"/>
          <p:cNvSpPr/>
          <p:nvPr/>
        </p:nvSpPr>
        <p:spPr>
          <a:xfrm>
            <a:off x="1146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14"/>
          <p:cNvSpPr/>
          <p:nvPr/>
        </p:nvSpPr>
        <p:spPr>
          <a:xfrm>
            <a:off x="13622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5"/>
          <p:cNvSpPr/>
          <p:nvPr/>
        </p:nvSpPr>
        <p:spPr>
          <a:xfrm>
            <a:off x="15778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Rectangle 16"/>
          <p:cNvSpPr/>
          <p:nvPr/>
        </p:nvSpPr>
        <p:spPr>
          <a:xfrm>
            <a:off x="1793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Rectangle 17"/>
          <p:cNvSpPr/>
          <p:nvPr/>
        </p:nvSpPr>
        <p:spPr>
          <a:xfrm>
            <a:off x="20098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Rectangle 18"/>
          <p:cNvSpPr/>
          <p:nvPr/>
        </p:nvSpPr>
        <p:spPr>
          <a:xfrm>
            <a:off x="222552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19"/>
          <p:cNvSpPr/>
          <p:nvPr/>
        </p:nvSpPr>
        <p:spPr>
          <a:xfrm>
            <a:off x="2441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20"/>
          <p:cNvSpPr/>
          <p:nvPr/>
        </p:nvSpPr>
        <p:spPr>
          <a:xfrm>
            <a:off x="2657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21"/>
          <p:cNvSpPr/>
          <p:nvPr/>
        </p:nvSpPr>
        <p:spPr>
          <a:xfrm>
            <a:off x="28735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22"/>
          <p:cNvSpPr/>
          <p:nvPr/>
        </p:nvSpPr>
        <p:spPr>
          <a:xfrm>
            <a:off x="30891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23"/>
          <p:cNvSpPr/>
          <p:nvPr/>
        </p:nvSpPr>
        <p:spPr>
          <a:xfrm>
            <a:off x="33051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24"/>
          <p:cNvSpPr/>
          <p:nvPr/>
        </p:nvSpPr>
        <p:spPr>
          <a:xfrm>
            <a:off x="3519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25"/>
          <p:cNvSpPr/>
          <p:nvPr/>
        </p:nvSpPr>
        <p:spPr>
          <a:xfrm>
            <a:off x="3736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26"/>
          <p:cNvSpPr/>
          <p:nvPr/>
        </p:nvSpPr>
        <p:spPr>
          <a:xfrm>
            <a:off x="39528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27"/>
          <p:cNvSpPr/>
          <p:nvPr/>
        </p:nvSpPr>
        <p:spPr>
          <a:xfrm>
            <a:off x="4168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28"/>
          <p:cNvSpPr/>
          <p:nvPr/>
        </p:nvSpPr>
        <p:spPr>
          <a:xfrm>
            <a:off x="438480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9"/>
          <p:cNvSpPr/>
          <p:nvPr/>
        </p:nvSpPr>
        <p:spPr>
          <a:xfrm>
            <a:off x="460044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30"/>
          <p:cNvSpPr/>
          <p:nvPr/>
        </p:nvSpPr>
        <p:spPr>
          <a:xfrm>
            <a:off x="4816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31"/>
          <p:cNvSpPr/>
          <p:nvPr/>
        </p:nvSpPr>
        <p:spPr>
          <a:xfrm>
            <a:off x="5032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32"/>
          <p:cNvSpPr/>
          <p:nvPr/>
        </p:nvSpPr>
        <p:spPr>
          <a:xfrm>
            <a:off x="524844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33"/>
          <p:cNvSpPr/>
          <p:nvPr/>
        </p:nvSpPr>
        <p:spPr>
          <a:xfrm>
            <a:off x="546408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34"/>
          <p:cNvSpPr/>
          <p:nvPr/>
        </p:nvSpPr>
        <p:spPr>
          <a:xfrm>
            <a:off x="5680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35"/>
          <p:cNvSpPr/>
          <p:nvPr/>
        </p:nvSpPr>
        <p:spPr>
          <a:xfrm>
            <a:off x="58960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36"/>
          <p:cNvSpPr/>
          <p:nvPr/>
        </p:nvSpPr>
        <p:spPr>
          <a:xfrm>
            <a:off x="611028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37"/>
          <p:cNvSpPr/>
          <p:nvPr/>
        </p:nvSpPr>
        <p:spPr>
          <a:xfrm>
            <a:off x="6327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38"/>
          <p:cNvSpPr/>
          <p:nvPr/>
        </p:nvSpPr>
        <p:spPr>
          <a:xfrm>
            <a:off x="6543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39"/>
          <p:cNvSpPr/>
          <p:nvPr/>
        </p:nvSpPr>
        <p:spPr>
          <a:xfrm>
            <a:off x="675972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40"/>
          <p:cNvSpPr/>
          <p:nvPr/>
        </p:nvSpPr>
        <p:spPr>
          <a:xfrm>
            <a:off x="697536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41"/>
          <p:cNvSpPr/>
          <p:nvPr/>
        </p:nvSpPr>
        <p:spPr>
          <a:xfrm>
            <a:off x="7191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42"/>
          <p:cNvSpPr/>
          <p:nvPr/>
        </p:nvSpPr>
        <p:spPr>
          <a:xfrm>
            <a:off x="7407360" y="6261120"/>
            <a:ext cx="15228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43"/>
          <p:cNvSpPr/>
          <p:nvPr/>
        </p:nvSpPr>
        <p:spPr>
          <a:xfrm>
            <a:off x="7623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44"/>
          <p:cNvSpPr/>
          <p:nvPr/>
        </p:nvSpPr>
        <p:spPr>
          <a:xfrm>
            <a:off x="7839000" y="6261120"/>
            <a:ext cx="152640" cy="457200"/>
          </a:xfrm>
          <a:prstGeom prst="rect">
            <a:avLst/>
          </a:prstGeom>
          <a:solidFill>
            <a:srgbClr val="5b7fb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8F26-EE74-4788-83FE-F3269B2D5FA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618" name="PlaceHolder 4"/>
          <p:cNvSpPr>
            <a:spLocks noGrp="1"/>
          </p:cNvSpPr>
          <p:nvPr>
            <p:ph type="dt" idx="26"/>
          </p:nvPr>
        </p:nvSpPr>
        <p:spPr>
          <a:xfrm>
            <a:off x="663120" y="6292800"/>
            <a:ext cx="2133720" cy="365040"/>
          </a:xfrm>
          <a:prstGeom prst="rect">
            <a:avLst/>
          </a:prstGeom>
          <a:solidFill>
            <a:srgbClr val="5b7fb9"/>
          </a:solid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19" name="PlaceHolder 5"/>
          <p:cNvSpPr>
            <a:spLocks noGrp="1"/>
          </p:cNvSpPr>
          <p:nvPr>
            <p:ph type="ftr" idx="27"/>
          </p:nvPr>
        </p:nvSpPr>
        <p:spPr>
          <a:xfrm>
            <a:off x="3330360" y="6292800"/>
            <a:ext cx="2895480" cy="365040"/>
          </a:xfrm>
          <a:prstGeom prst="rect">
            <a:avLst/>
          </a:prstGeom>
          <a:solidFill>
            <a:srgbClr val="5b7fb9"/>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0" name="12" descr=""/>
          <p:cNvPicPr/>
          <p:nvPr/>
        </p:nvPicPr>
        <p:blipFill>
          <a:blip r:embed="rId1"/>
          <a:stretch/>
        </p:blipFill>
        <p:spPr>
          <a:xfrm>
            <a:off x="0" y="0"/>
            <a:ext cx="9144000" cy="6858000"/>
          </a:xfrm>
          <a:prstGeom prst="rect">
            <a:avLst/>
          </a:prstGeom>
          <a:ln w="0">
            <a:noFill/>
          </a:ln>
        </p:spPr>
      </p:pic>
    </p:spTree>
  </p:cSld>
  <p:transition>
    <p:fade/>
  </p:transition>
  <p:timing>
    <p:tnLst>
      <p:par>
        <p:cTn id="1" dur="indefinite" restart="never" nodeType="tmRoot">
          <p:childTnLst>
            <p:seq>
              <p:cTn id="2" restart="whenNotActive" nodeType="interactiveSeq" fill="hold">
                <p:stCondLst>
                  <p:cond evt="onClick">
                    <p:tgtEl>
                      <p:spTgt spid="900"/>
                    </p:tgtEl>
                  </p:cond>
                </p:stCondLst>
                <p:childTnLst>
                  <p:par>
                    <p:cTn id="3" fill="hold">
                      <p:stCondLst>
                        <p:cond evt="onClick">
                          <p:tgtEl>
                            <p:spTgt spid="90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8" name=""/>
          <p:cNvSpPr txBox="1"/>
          <p:nvPr/>
        </p:nvSpPr>
        <p:spPr>
          <a:xfrm>
            <a:off x="152280" y="228240"/>
            <a:ext cx="8686800" cy="6629400"/>
          </a:xfrm>
          <a:prstGeom prst="rect">
            <a:avLst/>
          </a:prstGeom>
          <a:noFill/>
          <a:ln w="0">
            <a:noFill/>
          </a:ln>
        </p:spPr>
        <p:txBody>
          <a:bodyPr anchor="t">
            <a:normAutofit fontScale="85000"/>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اكتورهاي ارزيابي منطقه:</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نيروي انساني:</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نيروي انساني بالقوه در منطقه چه اندازه اس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مهارت و تعليم و تربيت نيروي انساني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حقوق و دستمزد و مزاياي نقدي و غير نقدي كاركنان بالقو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سطح استاندارد زندگي در منطقه</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وند غيبت از كار نيروي انساني و همچنين ميزان تأخيرات</a:t>
            </a:r>
            <a:endParaRPr b="0" lang="en-US" sz="2800" spc="-1" strike="noStrike">
              <a:solidFill>
                <a:srgbClr val="000000"/>
              </a:solidFill>
              <a:latin typeface="Calibri"/>
            </a:endParaRPr>
          </a:p>
          <a:p>
            <a:pPr algn="r"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گرايشات نيروي كار به عضويت در اتحاديه هاي كارگري</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9" name=""/>
          <p:cNvSpPr txBox="1"/>
          <p:nvPr/>
        </p:nvSpPr>
        <p:spPr>
          <a:xfrm>
            <a:off x="152280" y="609120"/>
            <a:ext cx="8686800" cy="579132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كان بازار: (بازاري كه قرار است سرويس داده شود )</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هزينه حمل و نقل كالا از كار خانه تا بازار</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دوام و طول عمر محصول از نظر فاسد شدن  (در صورتي كه كالاي توليدي فاسد شدني باشد بايد محل كارخانه به بازار مصرف نزديك باشد)</a:t>
            </a:r>
            <a:endParaRPr b="0" lang="en-US" sz="2800" spc="-1" strike="noStrike">
              <a:solidFill>
                <a:srgbClr val="000000"/>
              </a:solidFill>
              <a:latin typeface="Calibri"/>
            </a:endParaRPr>
          </a:p>
          <a:p>
            <a:pPr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يزان تردي و شكنندگي (براي كالا هاي شكستني هر چه بازار به كارخانه نزديكتر باشد بهتر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0"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1" name=""/>
          <p:cNvSpPr txBox="1"/>
          <p:nvPr/>
        </p:nvSpPr>
        <p:spPr>
          <a:xfrm>
            <a:off x="152280" y="228240"/>
            <a:ext cx="8686800" cy="6629400"/>
          </a:xfrm>
          <a:prstGeom prst="rect">
            <a:avLst/>
          </a:prstGeom>
          <a:noFill/>
          <a:ln w="0">
            <a:noFill/>
          </a:ln>
        </p:spPr>
        <p:txBody>
          <a:bodyPr anchor="t">
            <a:normAutofit fontScale="85000"/>
          </a:bodyPr>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جم يا وزن :در صورتي كه كالاي مورد نظر از نوع كالاهايي است كه حجم آن در طي فرايند توليد افزايش مي‌يابد كار خانه بايد نزديك بازارهاي مصرف باشد. در صورتي كه كالاي مورد نظر از نوع كالاهايي باشد كه حجم آن در طي فرايند توليد كاهش مي‌يابد كارخانه بايد نزديك به مواد اوليه باش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صورتي كه سرويس‌دهي (خدمتدهي) فعاليت اصلي باشد در اين حالت نزديكي به بازار مصرف ارجحيت دارد.</a:t>
            </a:r>
            <a:endParaRPr b="0" lang="en-US" sz="2800" spc="-1" strike="noStrike">
              <a:solidFill>
                <a:srgbClr val="000000"/>
              </a:solidFill>
              <a:latin typeface="Calibri"/>
            </a:endParaRPr>
          </a:p>
          <a:p>
            <a:pPr marL="291600" indent="-291600" algn="r" rtl="1">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گر توليد برمبناي سفارش باشد و يا توليد برمبناي سليقه مصرف‌كننده باشد، نزديكي به بازار مصرف ارجحيت دارد</a:t>
            </a:r>
            <a:endParaRPr b="0" lang="en-US" sz="2800" spc="-1" strike="noStrike">
              <a:solidFill>
                <a:srgbClr val="000000"/>
              </a:solidFill>
              <a:latin typeface="Calibri"/>
            </a:endParaRPr>
          </a:p>
          <a:p>
            <a:pPr marL="291600" indent="-291600"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2" name=""/>
          <p:cNvSpPr txBox="1"/>
          <p:nvPr/>
        </p:nvSpPr>
        <p:spPr>
          <a:xfrm>
            <a:off x="152280" y="228240"/>
            <a:ext cx="8686800" cy="6629400"/>
          </a:xfrm>
          <a:prstGeom prst="rect">
            <a:avLst/>
          </a:prstGeom>
          <a:noFill/>
          <a:ln w="0">
            <a:noFill/>
          </a:ln>
        </p:spPr>
        <p:txBody>
          <a:bodyPr anchor="t">
            <a:normAutofit fontScale="95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حمل ونقل:</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در تعيين وسيله حمل ونقل مواد و كالاها دو فاكتور هزينه و سرعت از اهميت بالائي برخوردارن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هاي آبي ( كشتي ارزانترين وسيله حمل ونقل اما كندترين وسيله حمل ونقل مي باشد)</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راه‌آهن( از كشتي گرانتر  اما سريعتر است)</a:t>
            </a:r>
            <a:endParaRPr b="0" lang="en-US" sz="2800" spc="-1" strike="noStrike">
              <a:solidFill>
                <a:srgbClr val="000000"/>
              </a:solidFill>
              <a:latin typeface="Calibri"/>
            </a:endParaRPr>
          </a:p>
          <a:p>
            <a:pPr algn="just" rtl="1">
              <a:lnSpc>
                <a:spcPct val="15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جاده‌اي ( بسيار منعطف است)</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مل ونقل هوائي ( سريعترين وسيله حمل ونقل است اما هزينه بالائي دارد)</a:t>
            </a:r>
            <a:endParaRPr b="0" lang="en-US" sz="2800" spc="-1" strike="noStrike">
              <a:solidFill>
                <a:srgbClr val="000000"/>
              </a:solidFill>
              <a:latin typeface="Calibri"/>
            </a:endParaRPr>
          </a:p>
          <a:p>
            <a:pPr algn="just" rtl="1">
              <a:lnSpc>
                <a:spcPct val="100000"/>
              </a:lnSpc>
              <a:spcBef>
                <a:spcPts val="700"/>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لوله‌گذاري: از لوله‌گذاري صرفاً براي انتقال مايعات و مواد فله‌اي استفاده مي شو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3" name=""/>
          <p:cNvSpPr txBox="1"/>
          <p:nvPr/>
        </p:nvSpPr>
        <p:spPr>
          <a:xfrm>
            <a:off x="152280" y="228240"/>
            <a:ext cx="8686800" cy="6629400"/>
          </a:xfrm>
          <a:prstGeom prst="rect">
            <a:avLst/>
          </a:prstGeom>
          <a:noFill/>
          <a:ln w="0">
            <a:noFill/>
          </a:ln>
        </p:spPr>
        <p:txBody>
          <a:bodyPr anchor="t">
            <a:normAutofit/>
          </a:bodyPr>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آب و هوا:</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ين عامل در رابطه با كارخانجاتي مطرح مي‌باشد كه به آب و هواي خاصي نياز دارند. اين فاكتور در صنعت كشاورزي بسيار مطرح مي‌با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4" name=""/>
          <p:cNvSpPr txBox="1"/>
          <p:nvPr/>
        </p:nvSpPr>
        <p:spPr>
          <a:xfrm>
            <a:off x="152280" y="228240"/>
            <a:ext cx="8686800" cy="6629400"/>
          </a:xfrm>
          <a:prstGeom prst="rect">
            <a:avLst/>
          </a:prstGeom>
          <a:noFill/>
          <a:ln w="0">
            <a:noFill/>
          </a:ln>
        </p:spPr>
        <p:txBody>
          <a:bodyPr anchor="t">
            <a:normAutofit fontScale="94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حكومتهاي محلي و وضعيت مالياتها: </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سئولين محلي چه امتيازاتي را براي كارخانجاتي كه در ناحيه استقرارمي‌يابند قائل هستن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وامل مؤثر در انتخاب مكان</a:t>
            </a:r>
            <a:endParaRPr b="0" lang="en-US" sz="28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ندازه محل: آيا ميزان زميني كه در حال حاضر  نياز داريم در محل وجود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پيش بيني نياز هاي آينده براي توسعه: آيا اندازه زمين، ظرفيت توسعه دارد ؟</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وضعيت زمين و فاضلاب: آيا زمين از سختي مورد نياز برخوردار است؟ آيا سيستم فاضلاب بر روي سختي زمين تأثيري دارد؟</a:t>
            </a:r>
            <a:endParaRPr b="0" lang="en-US" sz="2800" spc="-1" strike="noStrike">
              <a:solidFill>
                <a:srgbClr val="000000"/>
              </a:solidFill>
              <a:latin typeface="Calibri"/>
            </a:endParaRPr>
          </a:p>
          <a:p>
            <a:pPr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آب: آيا آب مناسب و كافي براي تأمين نياز ها وجود دارد ؟</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25" name=""/>
          <p:cNvSpPr txBox="1"/>
          <p:nvPr/>
        </p:nvSpPr>
        <p:spPr>
          <a:xfrm>
            <a:off x="152280" y="228240"/>
            <a:ext cx="8686800" cy="6629400"/>
          </a:xfrm>
          <a:prstGeom prst="rect">
            <a:avLst/>
          </a:prstGeom>
          <a:noFill/>
          <a:ln w="0">
            <a:noFill/>
          </a:ln>
        </p:spPr>
        <p:txBody>
          <a:bodyPr anchor="t">
            <a:normAutofit fontScale="96000"/>
          </a:bodyPr>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كانات تأمين نيروي (برق و گاز )و يا هر نيروي ديگري كه در خط توليد لازم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عامل انهدام ضايعات: آيا مكاني براي دفع ضايعات صنعتي وجود دارد؟</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خريد زمين: پولي كه بابت خريد زمين داده مي‌شود نسبت به كل سرمايه‌گذاري چقدر است؟</a:t>
            </a:r>
            <a:endParaRPr b="0" lang="en-US" sz="2800" spc="-1" strike="noStrike">
              <a:solidFill>
                <a:srgbClr val="000000"/>
              </a:solidFill>
              <a:latin typeface="Calibri"/>
            </a:endParaRPr>
          </a:p>
          <a:p>
            <a:pPr marL="329040" indent="-329040" algn="r" rtl="1">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29040" indent="-32904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بطور کلی جهت طراحی یک محل تولیدی، باید مؤلفه های بسیاری را مورد بررسی قرار داد. این پارامترها شامل ارزیابی فرآیندهای تولید هر کالا، مشخصات هر محصول (شامل ابعاد، فسادپذیری و طول عمر و ...)، ارزیابی کار و زمان تولید، انبارداری، حمل و نقل و غیره می باشند.</a:t>
            </a:r>
            <a:endParaRPr b="0" lang="en-US" sz="2800" spc="-1" strike="noStrike">
              <a:solidFill>
                <a:srgbClr val="000000"/>
              </a:solidFill>
              <a:latin typeface="Calibri"/>
            </a:endParaRPr>
          </a:p>
          <a:p>
            <a:pPr marL="329040" indent="-329040"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1" name="TextBox 4"/>
          <p:cNvSpPr/>
          <p:nvPr/>
        </p:nvSpPr>
        <p:spPr>
          <a:xfrm>
            <a:off x="1066680" y="1981080"/>
            <a:ext cx="670572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9600" spc="-1" strike="noStrike">
                <a:solidFill>
                  <a:srgbClr val="002060"/>
                </a:solidFill>
                <a:latin typeface="IranNastaliq"/>
                <a:cs typeface="IranNastaliq"/>
              </a:rPr>
              <a:t>بسم الله الرحمن الرحیم</a:t>
            </a:r>
            <a:endParaRPr b="0" lang="en-US" sz="96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pic>
        <p:nvPicPr>
          <p:cNvPr id="902" name="Picture 3" descr=""/>
          <p:cNvPicPr/>
          <p:nvPr/>
        </p:nvPicPr>
        <p:blipFill>
          <a:blip r:embed="rId1"/>
          <a:stretch/>
        </p:blipFill>
        <p:spPr>
          <a:xfrm>
            <a:off x="0" y="1676520"/>
            <a:ext cx="9144000" cy="5181480"/>
          </a:xfrm>
          <a:prstGeom prst="rect">
            <a:avLst/>
          </a:prstGeom>
          <a:ln w="0">
            <a:noFill/>
          </a:ln>
        </p:spPr>
      </p:pic>
      <p:sp>
        <p:nvSpPr>
          <p:cNvPr id="903" name="TextBox 5"/>
          <p:cNvSpPr/>
          <p:nvPr/>
        </p:nvSpPr>
        <p:spPr>
          <a:xfrm>
            <a:off x="1066680" y="20016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وزارت علوم تحقیقات و فناوری</a:t>
            </a:r>
            <a:endParaRPr b="0" lang="en-US" sz="8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4" name="TextBox 3"/>
          <p:cNvSpPr/>
          <p:nvPr/>
        </p:nvSpPr>
        <p:spPr>
          <a:xfrm>
            <a:off x="1066680" y="1981080"/>
            <a:ext cx="6705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آموزشکده فنی و حرفه ای دختران ارومیه</a:t>
            </a:r>
            <a:endParaRPr b="0" lang="en-US" sz="8000" spc="-1" strike="noStrike">
              <a:solidFill>
                <a:srgbClr val="000000"/>
              </a:solidFill>
              <a:latin typeface="Arial"/>
            </a:endParaRPr>
          </a:p>
        </p:txBody>
      </p:sp>
      <p:sp>
        <p:nvSpPr>
          <p:cNvPr id="905" name="TextBox 5"/>
          <p:cNvSpPr/>
          <p:nvPr/>
        </p:nvSpPr>
        <p:spPr>
          <a:xfrm>
            <a:off x="1044720" y="30492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انشگاه فنی و حرفه ای</a:t>
            </a:r>
            <a:endParaRPr b="0" lang="en-US" sz="80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06" name="TextBox 4"/>
          <p:cNvSpPr/>
          <p:nvPr/>
        </p:nvSpPr>
        <p:spPr>
          <a:xfrm>
            <a:off x="1103400" y="3084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درس : مدیریت تولید</a:t>
            </a:r>
            <a:endParaRPr b="0" lang="en-US" sz="8000" spc="-1" strike="noStrike">
              <a:solidFill>
                <a:srgbClr val="000000"/>
              </a:solidFill>
              <a:latin typeface="Arial"/>
            </a:endParaRPr>
          </a:p>
        </p:txBody>
      </p:sp>
      <p:sp>
        <p:nvSpPr>
          <p:cNvPr id="907" name="TextBox 3"/>
          <p:cNvSpPr/>
          <p:nvPr/>
        </p:nvSpPr>
        <p:spPr>
          <a:xfrm>
            <a:off x="1103400" y="5181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استاد مربوطه : خانم جهتی</a:t>
            </a:r>
            <a:endParaRPr b="0" lang="en-US" sz="8000" spc="-1" strike="noStrike">
              <a:solidFill>
                <a:srgbClr val="000000"/>
              </a:solidFill>
              <a:latin typeface="Arial"/>
            </a:endParaRPr>
          </a:p>
        </p:txBody>
      </p:sp>
      <p:sp>
        <p:nvSpPr>
          <p:cNvPr id="908" name="TextBox 5"/>
          <p:cNvSpPr/>
          <p:nvPr/>
        </p:nvSpPr>
        <p:spPr>
          <a:xfrm>
            <a:off x="1103400" y="6094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مقطع تحصیلی کارشناسی</a:t>
            </a:r>
            <a:endParaRPr b="0" lang="en-US" sz="8000" spc="-1" strike="noStrike">
              <a:solidFill>
                <a:srgbClr val="000000"/>
              </a:solidFill>
              <a:latin typeface="Arial"/>
            </a:endParaRPr>
          </a:p>
        </p:txBody>
      </p:sp>
      <p:sp>
        <p:nvSpPr>
          <p:cNvPr id="909" name="TextBox 6"/>
          <p:cNvSpPr/>
          <p:nvPr/>
        </p:nvSpPr>
        <p:spPr>
          <a:xfrm>
            <a:off x="1103400" y="1781280"/>
            <a:ext cx="670536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8000" spc="-1" strike="noStrike">
                <a:solidFill>
                  <a:srgbClr val="ffffff"/>
                </a:solidFill>
                <a:latin typeface="IranNastaliq"/>
                <a:cs typeface="IranNastaliq"/>
              </a:rPr>
              <a:t>رشته حسابداری</a:t>
            </a:r>
            <a:endParaRPr b="0" lang="en-US" sz="80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533520" y="2362320"/>
            <a:ext cx="8229600" cy="12492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ffff"/>
                </a:solidFill>
                <a:latin typeface="IranNastaliq"/>
                <a:cs typeface="IranNastaliq"/>
              </a:rPr>
              <a:t>فصل سوم</a:t>
            </a:r>
            <a:endParaRPr b="0" lang="en-US" sz="5400" spc="-1" strike="noStrike">
              <a:solidFill>
                <a:srgbClr val="000000"/>
              </a:solidFill>
              <a:latin typeface="Calibri"/>
            </a:endParaRPr>
          </a:p>
        </p:txBody>
      </p:sp>
      <p:sp>
        <p:nvSpPr>
          <p:cNvPr id="911" name=""/>
          <p:cNvSpPr txBox="1"/>
          <p:nvPr/>
        </p:nvSpPr>
        <p:spPr>
          <a:xfrm>
            <a:off x="228240" y="4267080"/>
            <a:ext cx="8839080" cy="1447920"/>
          </a:xfrm>
          <a:prstGeom prst="rect">
            <a:avLst/>
          </a:prstGeom>
          <a:noFill/>
          <a:ln w="0">
            <a:noFill/>
          </a:ln>
        </p:spPr>
        <p:txBody>
          <a:bodyPr anchor="t">
            <a:normAutofit fontScale="82000"/>
          </a:bodyPr>
          <a:p>
            <a:pPr algn="ctr" rtl="1">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Times New Roman"/>
                <a:cs typeface="B Nazanin"/>
              </a:rPr>
              <a:t>طراحی موقعیت و محل کارخانه</a:t>
            </a:r>
            <a:endParaRPr b="0" lang="en-US" sz="5400" spc="-1" strike="noStrike">
              <a:solidFill>
                <a:srgbClr val="000000"/>
              </a:solidFill>
              <a:latin typeface="Calibri"/>
            </a:endParaRPr>
          </a:p>
        </p:txBody>
      </p:sp>
      <p:sp>
        <p:nvSpPr>
          <p:cNvPr id="912" name="Title 1"/>
          <p:cNvSpPr/>
          <p:nvPr/>
        </p:nvSpPr>
        <p:spPr>
          <a:xfrm>
            <a:off x="509760" y="609480"/>
            <a:ext cx="8229600" cy="124956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6000" spc="-1" strike="noStrike">
                <a:solidFill>
                  <a:srgbClr val="ffffff"/>
                </a:solidFill>
                <a:latin typeface="IranNastaliq"/>
                <a:cs typeface="IranNastaliq"/>
              </a:rPr>
              <a:t>جلسه سوم</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151920"/>
            <a:ext cx="8229600" cy="1265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مكان يابي</a:t>
            </a:r>
            <a:endParaRPr b="0" lang="en-US" sz="4800" spc="-1" strike="noStrike">
              <a:solidFill>
                <a:srgbClr val="000000"/>
              </a:solidFill>
              <a:latin typeface="Calibri"/>
            </a:endParaRPr>
          </a:p>
        </p:txBody>
      </p:sp>
      <p:sp>
        <p:nvSpPr>
          <p:cNvPr id="914" name=""/>
          <p:cNvSpPr txBox="1"/>
          <p:nvPr/>
        </p:nvSpPr>
        <p:spPr>
          <a:xfrm>
            <a:off x="152280" y="1600200"/>
            <a:ext cx="8839440" cy="4525920"/>
          </a:xfrm>
          <a:prstGeom prst="rect">
            <a:avLst/>
          </a:prstGeom>
          <a:noFill/>
          <a:ln w="0">
            <a:noFill/>
          </a:ln>
        </p:spPr>
        <p:txBody>
          <a:bodyPr anchor="t">
            <a:normAutofit fontScale="9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مكان يابي: يك فرايند كيفي و كمي مي‌باشد كه از طريق آن مي‌توان نقطه مطلوب يا مناسب را براي استقرار واحد صنعتي پيدا كرد.</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فرايند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يابي در طي سه مرحله انجام مي‌</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شود. در مرحله اول بايد از بين مناطق موجود يك منطقه را انتخاب كرد و سپس  در مرحله دوم از بي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ea typeface="B Nazanin"/>
              </a:rPr>
              <a:t> نواحي موجود در منطقة انتخاب شده يك ناحيه را انتخاب كرده و سپس در نهايت از بين مكان</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هاي موجود در ناحية انتخاب شده يك </a:t>
            </a:r>
            <a:r>
              <a:rPr b="1" lang="en-US" sz="2800" spc="-1" strike="noStrike">
                <a:solidFill>
                  <a:srgbClr val="000000"/>
                </a:solidFill>
                <a:latin typeface="Times New Roman"/>
                <a:ea typeface="B Nazanin"/>
              </a:rPr>
              <a:t> </a:t>
            </a:r>
            <a:r>
              <a:rPr b="1" lang="fa-IR" sz="2800" spc="-1" strike="noStrike">
                <a:solidFill>
                  <a:srgbClr val="000000"/>
                </a:solidFill>
                <a:latin typeface="Times New Roman"/>
                <a:cs typeface="B Nazanin"/>
              </a:rPr>
              <a:t>مكان را انتخاب كني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800" spc="-1" strike="noStrike">
                <a:solidFill>
                  <a:srgbClr val="595959"/>
                </a:solidFill>
                <a:latin typeface="Times New Roman"/>
                <a:cs typeface="B Titr"/>
              </a:rPr>
              <a:t>عوامل موثر بر تصميمات مكان يابي</a:t>
            </a:r>
            <a:endParaRPr b="0" lang="en-US" sz="4800" spc="-1" strike="noStrike">
              <a:solidFill>
                <a:srgbClr val="000000"/>
              </a:solidFill>
              <a:latin typeface="Calibri"/>
            </a:endParaRPr>
          </a:p>
        </p:txBody>
      </p:sp>
      <p:sp>
        <p:nvSpPr>
          <p:cNvPr id="916" name=""/>
          <p:cNvSpPr txBox="1"/>
          <p:nvPr/>
        </p:nvSpPr>
        <p:spPr>
          <a:xfrm>
            <a:off x="152280" y="1600200"/>
            <a:ext cx="8839440" cy="4525920"/>
          </a:xfrm>
          <a:prstGeom prst="rect">
            <a:avLst/>
          </a:prstGeom>
          <a:noFill/>
          <a:ln w="0">
            <a:noFill/>
          </a:ln>
        </p:spPr>
        <p:txBody>
          <a:bodyPr anchor="t">
            <a:normAutofit fontScale="92000"/>
          </a:bodyPr>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جو كاري و نيروي كار مناسب</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بازارهاي مصرف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كيفيت زندگي</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عرضه كنندگا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نزديكي به تاسيسات اصلي شركت </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مکانات آب، برق، تلفن</a:t>
            </a:r>
            <a:endParaRPr b="0" lang="en-US" sz="2800" spc="-1" strike="noStrike">
              <a:solidFill>
                <a:srgbClr val="000000"/>
              </a:solidFill>
              <a:latin typeface="Calibri"/>
            </a:endParaRPr>
          </a:p>
          <a:p>
            <a:pPr marL="315360" indent="-315360" algn="r" rtl="1">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هزينه هاي ساخت و ساز، وجود شيوهای چندگانه  حمل و نقل، هزينه هاي جابه جايي مواد و نيروي انساني بين كارخانه ها، هزينه هاي بيمه، مقررات محلي (كنترل آلودگي صدا) معافیت های مختل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6f9fc"/>
            </a:gs>
            <a:gs pos="100000">
              <a:srgbClr val="cad9eb"/>
            </a:gs>
          </a:gsLst>
          <a:lin ang="5400000"/>
        </a:gradFill>
      </p:bgPr>
    </p:bg>
    <p:spTree>
      <p:nvGrpSpPr>
        <p:cNvPr id="1" name=""/>
        <p:cNvGrpSpPr/>
        <p:nvPr/>
      </p:nvGrpSpPr>
      <p:grpSpPr>
        <a:xfrm>
          <a:off x="0" y="0"/>
          <a:ext cx="0" cy="0"/>
          <a:chOff x="0" y="0"/>
          <a:chExt cx="0" cy="0"/>
        </a:xfrm>
      </p:grpSpPr>
      <p:sp>
        <p:nvSpPr>
          <p:cNvPr id="917" name=""/>
          <p:cNvSpPr txBox="1"/>
          <p:nvPr/>
        </p:nvSpPr>
        <p:spPr>
          <a:xfrm>
            <a:off x="152280" y="228240"/>
            <a:ext cx="8686800" cy="6629400"/>
          </a:xfrm>
          <a:prstGeom prst="rect">
            <a:avLst/>
          </a:prstGeom>
          <a:noFill/>
          <a:ln w="0">
            <a:noFill/>
          </a:ln>
        </p:spPr>
        <p:txBody>
          <a:bodyPr anchor="t">
            <a:normAutofit fontScale="77000"/>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قبل از انجام فرايند مكان‌يابي ابتدا بايد به چند سئوال اساسي پاسخ داد كه عبارتند از:</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1</a:t>
            </a:r>
            <a:r>
              <a:rPr b="1" lang="fa-IR" sz="2800" spc="-1" strike="noStrike">
                <a:solidFill>
                  <a:srgbClr val="000000"/>
                </a:solidFill>
                <a:latin typeface="Times New Roman"/>
                <a:ea typeface="B Nazanin"/>
              </a:rPr>
              <a:t>. چه بازارهايي توسط اين كارخانه (محل جديد) سرويس داده خواهند ش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2</a:t>
            </a:r>
            <a:r>
              <a:rPr b="1" lang="fa-IR" sz="2800" spc="-1" strike="noStrike">
                <a:solidFill>
                  <a:srgbClr val="000000"/>
                </a:solidFill>
                <a:latin typeface="Times New Roman"/>
                <a:ea typeface="B Nazanin"/>
              </a:rPr>
              <a:t>. مواد اوليه مورد مصرف كارخانه چه چيزهايي هستند و از چه مكاني تأمين مي‌شون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3</a:t>
            </a:r>
            <a:r>
              <a:rPr b="1" lang="fa-IR" sz="2800" spc="-1" strike="noStrike">
                <a:solidFill>
                  <a:srgbClr val="000000"/>
                </a:solidFill>
                <a:latin typeface="Times New Roman"/>
                <a:ea typeface="B Nazanin"/>
              </a:rPr>
              <a:t>. چه نوع نيروي انساني و با چه تخصصهايي مورد نياز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4</a:t>
            </a:r>
            <a:r>
              <a:rPr b="1" lang="fa-IR" sz="2800" spc="-1" strike="noStrike">
                <a:solidFill>
                  <a:srgbClr val="000000"/>
                </a:solidFill>
                <a:latin typeface="Times New Roman"/>
                <a:ea typeface="B Nazanin"/>
              </a:rPr>
              <a:t>. چه نوع شيوه‌ هاي حمل و نقل براي انتقال مواد اوليه لازم است.</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5</a:t>
            </a:r>
            <a:r>
              <a:rPr b="1" lang="fa-IR" sz="2800" spc="-1" strike="noStrike">
                <a:solidFill>
                  <a:srgbClr val="000000"/>
                </a:solidFill>
                <a:latin typeface="Times New Roman"/>
                <a:ea typeface="B Nazanin"/>
              </a:rPr>
              <a:t>. چه نوع نيرويي (برق،گاز…و اتمي) براي خط توليد بايد به كار رود.</a:t>
            </a:r>
            <a:endParaRPr b="0" lang="en-US" sz="2800" spc="-1" strike="noStrike">
              <a:solidFill>
                <a:srgbClr val="000000"/>
              </a:solidFill>
              <a:latin typeface="Calibri"/>
            </a:endParaRPr>
          </a:p>
          <a:p>
            <a:pPr algn="r" rtl="1">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Nazanin"/>
              </a:rPr>
              <a:t>6</a:t>
            </a:r>
            <a:r>
              <a:rPr b="1" lang="fa-IR" sz="2800" spc="-1" strike="noStrike">
                <a:solidFill>
                  <a:srgbClr val="000000"/>
                </a:solidFill>
                <a:latin typeface="Times New Roman"/>
                <a:ea typeface="B Nazanin"/>
              </a:rPr>
              <a:t>. آيا براي توليد كالاي مورد نظر شرايط آب و هوايي خاصي لازم است.</a:t>
            </a:r>
            <a:endParaRPr b="0" lang="en-US" sz="2800" spc="-1" strike="noStrike">
              <a:solidFill>
                <a:srgbClr val="000000"/>
              </a:solidFill>
              <a:latin typeface="Calibri"/>
            </a:endParaRPr>
          </a:p>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Askarifar</dc:creator>
  <dc:description/>
  <dc:language>en-US</dc:language>
  <cp:lastModifiedBy>Toka</cp:lastModifiedBy>
  <dcterms:modified xsi:type="dcterms:W3CDTF">2020-04-12T19:48:22Z</dcterms:modified>
  <cp:revision>1412</cp:revision>
  <dc:subject/>
  <dc:title>Slide 1</dc:title>
</cp:coreProperties>
</file>