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68E0F-504A-4FCD-B998-492A44A68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BEE34-2436-4B46-BE08-6CD67C6C2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4EBF10D-BD47-4825-B711-7A51FE10DA0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DA826EB-4709-455C-BFCB-D80C3E6CF98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3839FB2-7CC3-4067-BA5E-93D88214E9F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CA2DE3A-15F3-4C20-BB04-BA44968E364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7D62DF-A2C3-4D75-8C7C-35EE403B153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F115E9C-63DF-463A-BBA0-C471C230D4E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4FB4A8A-F471-47AC-9950-8B2D38102D3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E918E6B-96ED-4E4B-A678-D79DCE285B67}"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B25B49E-CABB-40B3-9C28-DF0508678A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242D9E78-198E-426B-85C3-1741608CB2E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AC20F-D2C5-4087-B658-BB272973C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7642975-9D43-4898-84D1-AD424D3B7E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09065DE-9E66-49EE-A69F-076FD4E378D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B78BD6E-5E0C-4237-AEF8-36ADBF99C0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C6659D1-0D49-44D6-83F6-2724DE7FF7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17ACDFA-1851-46CC-80E5-31E557C06B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397CBF5-06BB-4ACC-A505-43C5A64B55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3A1F09F-C3F5-40D5-9637-85E12518DC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8C21912-E53B-4A2C-96D2-18AFC209EB1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AF5E14E9-C187-4694-A046-88C23DFD08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CA0A0E82-8F20-4E8E-8D4D-127F741A042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337BB-2A33-4932-A1E3-0DFDDD554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D87949F-0793-4AAA-AD76-DD2165E85BA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991FEA9C-B85A-471F-BCAE-29616491671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8C08B777-A08C-41FF-A0A2-3D4C1D067F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91B8B13-7F1A-4A57-8C35-88B83B93171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EB122D5-6273-4779-9FCF-897D875DD8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55847A92-8BF3-44C6-839B-558D2837CB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9CBDEEA6-61C0-4200-90A3-6F6375368D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9D84C3C-F77F-4234-9966-6BF4F1F677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D38DECE-3C58-42ED-8639-B8A0B3BF7E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EC2227D-AC43-45C7-B0C0-B01F95FF8E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2EF1B-E471-4DEB-A1E5-98E5F3FC66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63FBFDD3-97F9-411B-903D-6EF1222921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8A5B6BEA-AD4B-4219-AD33-96850F08A32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ABC7C78B-6427-4486-B32E-D96EE89E7F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F619624-EED9-4E04-9797-75F21D04CA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7C436D5-56A9-4C2E-9AAB-4B3D1B349E9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B079E47-DA0B-48FE-AC7B-F8A12CA6E4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3E15A85-1356-4A42-B6D8-67A045509F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5A4821B-9EFB-43E3-A55D-70128468837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D2506C6-C0AD-467C-93F6-1418B6CC78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26EFB88-CB66-456B-BC86-90D60D5659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0DBD2-455B-4E35-8143-ED8C09E36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686722E-1B93-4E45-B4C8-EA47A744DF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1837646-156B-4AC1-B925-C5D349541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58FFC7-DF3B-48F7-8C74-C26090BC74A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A270886A-C475-42D0-BB84-E851B13B1A9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0DBB496-FD5B-43AC-8916-E98BCBBF179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387E94-F865-4E88-AC33-A543E34B0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9707E4-FA8D-406A-BC8E-CC853B783F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03B1F-FDFB-4973-B665-57E3D2FE1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A804E0-D3DA-42B9-860B-1EA5F84A9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C08CE-AE17-4C59-A217-500DBA0A3B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1B1E4-96E4-4744-AD4D-9318C48F7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8B8B6-AECF-454E-98D2-E5D872F6F7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9D824-9E68-43B7-8EF1-113ED45CF8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A3F53A-4090-4CC8-874F-399F195BE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7AEDAB-0768-45D5-943B-9BD376FF71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053A09-4F11-4E72-BE91-3A08C292DC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AA46AD-A1DD-4F51-9725-189641540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8B083E-42E4-4F3E-9A16-9996485B10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95AA39-78B3-46B8-95C0-84BA475E9A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6D3795-0B10-4FB9-B21F-E2185AFFB7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C48EA-BEE4-46A6-AF4C-34EEB0238C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5650B-8E20-4CAB-BFA3-7EE8C249E8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F2D37-099F-49C7-90CA-C81E5A7FF4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1EE6E-B8EA-4872-868C-F1947C167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BAD38-3306-4D7E-80F7-7A7EFC1961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ECF8D0-6067-4008-8F54-A99846537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1A2410-A255-4CE5-97D0-B37B72183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02F3E13-8109-49CA-897F-9BBD546F3A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874D7C-DA04-4028-A9F7-E2CD330E43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C7C49771-CD7E-47B6-91A1-7E392648E15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AE2B2195-0BE0-44C5-A090-5B0CD0C35CF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460FF988-C97E-4BA3-8F48-DE5DE34AF42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E5400-B4B3-4551-BD3D-79BE7016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60E99AE9-A847-4999-BF39-3259F371A7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C51223D-AAFD-4B63-8635-BC14894B990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C025C40A-5A82-4BED-B977-91A2C9C62BD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B9D257D9-6A3C-4F29-95D9-347513AFF07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852CE584-A7C8-40F6-B85A-0ABE275B46E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6B4BDB04-48F4-4E59-9793-7BF5C0D0319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92B74287-41CE-4A61-A11B-2B0038D8B3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D4F5BC24-8AFB-4ED3-A1AA-376B38AD3CD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702D9171-1C15-40E4-BE83-B281238F94A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4DB1C084-C2DD-41DD-974F-27DF89FF0BB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91013-71F1-46D1-A1C9-340226215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A0F77DDB-064B-4802-A860-C7BEF560BA9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DE227C6-E1DE-4073-9AB7-838F7AEF7EB4}"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8BAC76F0-E133-44D3-AAFC-35D5A870A5E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8804F7DD-7AF0-41F7-9CE2-CEF31386558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D079C60E-3C6F-426C-923A-234D805DB7D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3E61710-6142-4E66-BA4E-22A77BA5F929}"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BF1AE105-7163-4990-8E7D-A93DCF90249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82FCCB57-1598-47A5-B811-EE7B19235CE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69153F4-505B-4C48-A597-281277B753F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619FA47E-5BCE-49E0-B2E9-70E2EA558F9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47B6E-E28F-4CB2-8857-8973ABD81C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33A34886-B2BE-40F0-AAA8-FFD1C8CDA516}"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6040EA62-F097-4B20-9EF8-929509749E0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7BD84B3-D394-47C0-930F-DB53F161191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4822D3B6-D902-418C-8C30-C4D1071BF82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CD46ACC-FFE3-4945-877F-AC151A447B3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CFFF2A84-6AA2-469D-8951-77E7C385ACA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D785738D-1822-4A67-900B-25D48CD878C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0FD6CAEE-446A-4717-B4E5-1875560A628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66244E66-19BB-402C-A690-5B0E7F5DA32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8E56B185-838D-48DB-AACA-2DB1793279F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DA58D-1CA4-4594-A889-E7020F2AE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3A7F2023-BA6F-439D-9839-F368363D36C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BD8FF5A8-B1E2-41AC-9FDD-17782F8F989C}"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DF73143B-B9BD-49ED-A1A4-783175EF2B94}"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99CC8073-AAA3-4E58-A6FE-9D6CA8468FB6}"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9D64EA6D-43B9-481D-8B85-46CB627424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7497AE80-F407-4AC4-9FAF-41664260016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5DDF8440-8E63-4DA3-BE36-524B9F12D13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C176E57-6CA8-43CC-A047-B85D81FBE014}"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5906A693-3DD0-4945-B53D-D4680ECB375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A591975-F593-4941-847D-3C16BE7A471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2AD71-63E5-415C-AB16-6E5CA0D7D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DD0AFFA-A70D-4878-91A7-BBBB3298EC8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7BDDC673-6700-4C92-9488-10F679DAAAAA}"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92529BE8-548A-4D2A-8963-F66D7042D47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8800C7D5-F9E7-4C27-B054-CE79867AEA1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18535AF0-CEBD-44E5-94D2-6DD8CB6CD39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093A1B0C-59FC-42A5-B1A9-23C70638E8F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69D221DD-FFDA-44E2-84EC-AFB87ADA29F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7E5D31CA-025B-4BD7-BE9F-A316F727848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715D6FBD-CE33-474E-B73B-40DBB7A83C0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CB2FA581-35CF-48E0-94A8-C76B815276D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CC8D-7CF5-4B9F-959E-D660257CD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DE5FDEA3-96EA-4C0D-ABC0-947502EDDC3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5F51B25-9CFE-41D5-8EB1-94EF7AE9588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FA621FA-A115-4F38-81FB-E5123AFCB3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70EA00C7-9699-4CBC-8647-137C2DD9DED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CEF6FBA-29D3-4D72-AC2C-30791F9DDA1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32800A9C-1AA2-4C31-94A7-824855D542B0}"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C300521F-FDC5-4911-9A7B-E66A73697B8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A0B63F4-FD63-4FDA-A872-EC499D3DF84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9D4625A-44E8-473A-A780-1C3AF51FA2B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7D63EA4-CFE5-4CB4-925B-1299B04A5FD0}"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B8C2-D362-4AC8-9B89-59DC8847E6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7FA77-AC6F-4DB5-B475-1FF6E6C5004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F994-D375-453D-A496-D49A521E4D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8EA2-2CDD-4701-B39A-9F4B6B316F6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E8192-B6CE-49A9-B3AA-F2FB7A49A09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C9F95-4D5C-4C67-9029-D0911C3A25D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20152-5705-409B-8965-1ADDD4DBA1C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80E01-A131-417A-8790-B4FF275BBCF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DF21-1C3F-4F08-9498-D5FA7CF5139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D055C-73A3-4E43-9DB3-8E542423EA4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52B1C-3E84-4973-90A2-A10192FCCFC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4156E-7495-4BAE-9491-ECA0C56FF29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8" name="Content Placeholder 3" descr=""/>
          <p:cNvPicPr/>
          <p:nvPr/>
        </p:nvPicPr>
        <p:blipFill>
          <a:blip r:embed="rId1"/>
          <a:stretch/>
        </p:blipFill>
        <p:spPr>
          <a:xfrm>
            <a:off x="304920" y="380880"/>
            <a:ext cx="85057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انواع شيوه های پيش بينی</a:t>
            </a:r>
            <a:endParaRPr b="0" lang="en-US" sz="4800" spc="-1" strike="noStrike">
              <a:solidFill>
                <a:srgbClr val="000000"/>
              </a:solidFill>
              <a:latin typeface="Calibri"/>
            </a:endParaRPr>
          </a:p>
        </p:txBody>
      </p:sp>
      <p:sp>
        <p:nvSpPr>
          <p:cNvPr id="920" name=""/>
          <p:cNvSpPr txBox="1"/>
          <p:nvPr/>
        </p:nvSpPr>
        <p:spPr>
          <a:xfrm>
            <a:off x="152280" y="1523880"/>
            <a:ext cx="8839440" cy="5181840"/>
          </a:xfrm>
          <a:prstGeom prst="rect">
            <a:avLst/>
          </a:prstGeom>
          <a:noFill/>
          <a:ln w="0">
            <a:noFill/>
          </a:ln>
        </p:spPr>
        <p:txBody>
          <a:bodyPr anchor="t">
            <a:normAutofit fontScale="75000"/>
          </a:bodyPr>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یفی: از تجربه و قضاوت افراد خبره استفاده می‌کنند. برخی از این روش ها عبارتند از :</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 نظرخواهی از فروش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2</a:t>
            </a:r>
            <a:r>
              <a:rPr b="1" lang="fa-IR" sz="3200" spc="-1" strike="noStrike">
                <a:solidFill>
                  <a:srgbClr val="000000"/>
                </a:solidFill>
                <a:latin typeface="Times New Roman"/>
                <a:ea typeface="B Nazanin"/>
              </a:rPr>
              <a:t>. روش توافق جمع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3</a:t>
            </a:r>
            <a:r>
              <a:rPr b="1" lang="fa-IR" sz="3200" spc="-1" strike="noStrike">
                <a:solidFill>
                  <a:srgbClr val="000000"/>
                </a:solidFill>
                <a:latin typeface="Times New Roman"/>
                <a:ea typeface="B Nazanin"/>
              </a:rPr>
              <a:t>. انتظارات مصرف کنندگان</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4</a:t>
            </a:r>
            <a:r>
              <a:rPr b="1" lang="fa-IR" sz="3200" spc="-1" strike="noStrike">
                <a:solidFill>
                  <a:srgbClr val="000000"/>
                </a:solidFill>
                <a:latin typeface="Times New Roman"/>
                <a:ea typeface="B Nazanin"/>
              </a:rPr>
              <a:t>. روش دلفی</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روش های کمّی: از روش های ریاضی و آمار استفاده می‌کنند. که دسته بندی های زیر را شامل می شو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روش های کیفی</a:t>
            </a:r>
            <a:endParaRPr b="0" lang="en-US" sz="4800" spc="-1" strike="noStrike">
              <a:solidFill>
                <a:srgbClr val="000000"/>
              </a:solidFill>
              <a:latin typeface="Calibri"/>
            </a:endParaRPr>
          </a:p>
        </p:txBody>
      </p:sp>
      <p:graphicFrame>
        <p:nvGraphicFramePr>
          <p:cNvPr id="922" name=""/>
          <p:cNvGraphicFramePr/>
          <p:nvPr/>
        </p:nvGraphicFramePr>
        <p:xfrm>
          <a:off x="533520" y="1600200"/>
          <a:ext cx="8458200" cy="4191120"/>
        </p:xfrm>
        <a:graphic>
          <a:graphicData uri="http://schemas.openxmlformats.org/drawingml/2006/table">
            <a:tbl>
              <a:tblPr/>
              <a:tblGrid>
                <a:gridCol w="2003400"/>
                <a:gridCol w="2781360"/>
                <a:gridCol w="2368440"/>
                <a:gridCol w="1305000"/>
              </a:tblGrid>
              <a:tr h="40788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ضعف</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نقاط قو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ويژگي ها</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Nazanin"/>
                        </a:rPr>
                        <a:t>روش</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عقيده يک مدير مي‌تواند نتيجه پيش‌بيني را تحت تاثير قرارده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ناسب براي پيش‌بيني‌هاي راهبردي و محصول جدي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پيش‌بيني با توجه به نظر گروهي از مديران تعيين 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گروه مشورتي مديرا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180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مشکل بودن طراحي پرسشنامه خوب.</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عيين کننده مناسب ترجيحات مشتر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ا استفاده از پيمايش و مصاحبه، ترجيحات مشتري‌شناسايي‌مي‌شود</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تحقيق بازار</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1260720">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زمان بر بودن</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عالي براي پيش‌بيني تقاضاي بلند مدت محصول، تحولات تکنولوژيک و پيشرفتهاي علم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به دنبال ايجاد اجماع بين متخصصين است.</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tabLst>
                          <a:tab algn="l" pos="0"/>
                          <a:tab algn="r"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Times New Roman"/>
                          <a:cs typeface="Nazanin"/>
                        </a:rPr>
                        <a:t>روش دلفي</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57200" y="28951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پنجم</a:t>
            </a:r>
            <a:endParaRPr b="0" lang="en-US" sz="6000" spc="-1" strike="noStrike">
              <a:solidFill>
                <a:srgbClr val="000000"/>
              </a:solidFill>
              <a:latin typeface="Calibri"/>
            </a:endParaRPr>
          </a:p>
        </p:txBody>
      </p:sp>
      <p:sp>
        <p:nvSpPr>
          <p:cNvPr id="911" name=""/>
          <p:cNvSpPr txBox="1"/>
          <p:nvPr/>
        </p:nvSpPr>
        <p:spPr>
          <a:xfrm>
            <a:off x="152280" y="5105520"/>
            <a:ext cx="8839440" cy="914400"/>
          </a:xfrm>
          <a:prstGeom prst="rect">
            <a:avLst/>
          </a:prstGeom>
          <a:noFill/>
          <a:ln w="0">
            <a:noFill/>
          </a:ln>
        </p:spPr>
        <p:txBody>
          <a:bodyPr anchor="t">
            <a:normAutofit/>
          </a:bodyPr>
          <a:p>
            <a:pPr algn="ctr" rtl="1">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000000"/>
                </a:solidFill>
                <a:latin typeface="Times New Roman"/>
                <a:cs typeface="B Nazanin"/>
              </a:rPr>
              <a:t>مدلهای پیش بینی</a:t>
            </a:r>
            <a:endParaRPr b="0" lang="en-US" sz="4800" spc="-1" strike="noStrike">
              <a:solidFill>
                <a:srgbClr val="000000"/>
              </a:solidFill>
              <a:latin typeface="Calibri"/>
            </a:endParaRPr>
          </a:p>
        </p:txBody>
      </p:sp>
      <p:sp>
        <p:nvSpPr>
          <p:cNvPr id="912" name="Title 2"/>
          <p:cNvSpPr/>
          <p:nvPr/>
        </p:nvSpPr>
        <p:spPr>
          <a:xfrm>
            <a:off x="457200" y="6476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پنج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پیش بینی</a:t>
            </a:r>
            <a:endParaRPr b="0" lang="en-US" sz="4800" spc="-1" strike="noStrike">
              <a:solidFill>
                <a:srgbClr val="000000"/>
              </a:solidFill>
              <a:latin typeface="Calibri"/>
            </a:endParaRPr>
          </a:p>
        </p:txBody>
      </p:sp>
      <p:sp>
        <p:nvSpPr>
          <p:cNvPr id="914" name=""/>
          <p:cNvSpPr txBox="1"/>
          <p:nvPr/>
        </p:nvSpPr>
        <p:spPr>
          <a:xfrm>
            <a:off x="152280" y="1599840"/>
            <a:ext cx="8839440" cy="4876920"/>
          </a:xfrm>
          <a:prstGeom prst="rect">
            <a:avLst/>
          </a:prstGeom>
          <a:noFill/>
          <a:ln w="0">
            <a:noFill/>
          </a:ln>
        </p:spPr>
        <p:txBody>
          <a:bodyPr anchor="t">
            <a:normAutofit fontScale="92000"/>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یش بینی اولین ابزار برای برنامه ‌ریزی در سازمان است. زمانی برنامه ریزی این معنا را پیدا می کند که از هم اکنون تکلیف میزان و نوع منابع مورد نیاز محدود در اختیار مان را برای آینده مشخص کنیم، در نتیجه اصلی ‌ترین چیزی که باید بدانیم این است که چه مقدار تقاضا داریم یا اینکه چقدر احتمال فروش داریم که بر اساس آن میزان تولید و یا خریدمان را مشخص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ه همین دلیل است که گفته می شود: پیش ‌بینی تقاضا اولین قدم در برنامه ‌ریزی است، که در برنامه ‌ریزی تولید معمولا برای افق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ه در نظر گرفته می‌ شود. یعنی تقاضای </a:t>
            </a: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سال را پیش ‌بینی می ‌کنیم.</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ea typeface="B Titr"/>
              </a:rPr>
              <a:t> مدل های پیش بینی</a:t>
            </a:r>
            <a:endParaRPr b="0" lang="en-US" sz="4800" spc="-1" strike="noStrike">
              <a:solidFill>
                <a:srgbClr val="000000"/>
              </a:solidFill>
              <a:latin typeface="Calibri"/>
            </a:endParaRPr>
          </a:p>
        </p:txBody>
      </p:sp>
      <p:sp>
        <p:nvSpPr>
          <p:cNvPr id="916" name=""/>
          <p:cNvSpPr txBox="1"/>
          <p:nvPr/>
        </p:nvSpPr>
        <p:spPr>
          <a:xfrm>
            <a:off x="152280" y="1599840"/>
            <a:ext cx="8839440" cy="4876920"/>
          </a:xfrm>
          <a:prstGeom prst="rect">
            <a:avLst/>
          </a:prstGeom>
          <a:noFill/>
          <a:ln w="0">
            <a:noFill/>
          </a:ln>
        </p:spPr>
        <p:txBody>
          <a:bodyPr anchor="t">
            <a:normAutofit/>
          </a:bodyPr>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واردی که بايد در انتخاب مدل مناسب پيش  بينی در نظر گرفته شوند :</a:t>
            </a:r>
            <a:endParaRPr b="0" lang="en-US" sz="2800" spc="-1" strike="noStrike">
              <a:solidFill>
                <a:srgbClr val="000000"/>
              </a:solidFill>
              <a:latin typeface="Calibri"/>
            </a:endParaRPr>
          </a:p>
          <a:p>
            <a:pPr algn="just" rtl="1">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محدوده زمانی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آمار و ارقام داده شد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ارتباط اطلاعات با متغير مورد نظر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هزينه </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دقت</a:t>
            </a: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 سادگی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17" name="Content Placeholder 2" descr=""/>
          <p:cNvPicPr/>
          <p:nvPr/>
        </p:nvPicPr>
        <p:blipFill>
          <a:blip r:embed="rId1"/>
          <a:stretch/>
        </p:blipFill>
        <p:spPr>
          <a:xfrm>
            <a:off x="228600" y="457200"/>
            <a:ext cx="8721720" cy="6019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50:16Z</dcterms:modified>
  <cp:revision>1413</cp:revision>
  <dc:subject/>
  <dc:title>Slide 1</dc:title>
</cp:coreProperties>
</file>