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6.wmf" ContentType="image/x-wmf"/>
  <Override PartName="/ppt/media/image7.png" ContentType="image/png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AE9F-BA3E-4BB1-95B5-00A15CEB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7BAF-570E-4C1E-9B68-5B31C599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5B71D-615D-4327-BCE2-86DFDD2F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D4B62-40F2-4B47-9670-716A4723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F77B3C-360B-462E-933B-C1E309DA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CBD63-EE54-47E3-B5E8-54004298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BD517-22D4-451C-86F9-6B515A02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DFB24-A022-44E9-9578-B23F3E77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50434-6C22-4540-8449-81EB9AA2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5B4DD-F086-4BE6-8952-FAAA5F20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463AD-6AA0-4BC2-858E-CE9CE903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EAEFE-2545-46DE-9060-8C5DD1FB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493-FC89-43A6-B25A-23DA69C3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FBACD9-9F86-410F-875C-18CF5BB9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B81759-4476-4C57-95B8-CAAFDA49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6465A-C1BC-4D87-8CD3-CE5D2E0C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119898-3131-4D94-A139-34DF8018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66DAB-69F6-413F-BA6D-031BD516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7DFE5F-7512-406F-AFF3-86B9AD27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EB717-66F8-4D1D-BC78-915F0BCF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1F61BB-07BF-4564-9AE7-168644F2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73CD32-0361-49CA-965A-11E2B5A4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076A3-2746-4B77-8658-47DBC262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7BD9-D42A-4E47-A8F2-1C5E2880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6A9AA7-30EB-4D9B-9C1A-548C5559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BB75D9-DEA5-44BC-ADC4-336CACED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21CC67-ECD3-4F0F-98D8-04C72B08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A710CA-2D2B-4102-86BC-D30D0418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5872BE-974C-48D5-BB0D-61471E82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C65E14-55B2-4F75-A805-C8895295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48BBD9-0AA5-4183-B0EF-F034CC61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F292D9-F8D0-4721-B0F6-E829A16D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F4176F-5D4D-47B6-BF56-5CD5F7D0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BF7C65-9CFE-45C5-8B05-343670C8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CC15-FB39-4905-82B6-73BF8CC3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65FF24-B4A6-4A96-B90F-2C20F549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88A3C7-F826-44B3-BC44-C80C865A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5DAE73-3A32-4D0D-9B3F-73BD098C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6827D-3DFC-43A5-A501-506B6237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43F8BE-1862-4618-B64A-DE5378DA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5C155-FFE2-4B7F-A199-FAF8FC97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E67A1C-ADC4-47E1-84AE-FDCDD3C5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0C3C96-7CC6-417F-82F8-9EAE7FEE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3B4C8-61D9-44A5-AF41-7B1B6476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FEC4B5-6ADC-48A3-8EAE-AD11B059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73E7-8F58-45FB-BC86-6C5E9CB0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1259C-C38F-4C31-82FA-D6C4A437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FE100-22BE-4953-A5AB-DE65B7C2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CE995-C9CF-47E1-BD77-2A7D64B4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F79563-7495-4244-816A-8A2A34DD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8855E8-CFD3-4817-A9D1-1CECCAF3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615EC-3E4E-4462-A205-F4029AD0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45E50-A686-411C-8DB8-89358830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BD325-73AE-4EF6-8C23-85CF3087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CEC48-3020-4704-AE3F-09A14431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DDDBC-988D-47F1-AF31-A806D791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58F8-1AFE-46EC-9468-CADD5592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8690F-2DD6-48D4-9AEF-36C7F9CC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0AA47-B7FA-4577-A5E5-14A9306C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10F3D2-7B6B-4EB7-9038-77019B6A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43A9F6-E2CC-4A20-9F51-D2AC6D2B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78634-E938-4FFC-93C9-80F741FA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F8D49-4598-486C-88CF-62A6BF34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D28A77-E2F8-4E6A-951A-6ECD4C5C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4227-6BB4-414A-9A1E-7610D385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7506-F024-4D21-B9AE-4DFA7594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DD04-32F8-4D17-8418-D6F4DC67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7652-56D4-48A5-8795-E2A791AC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9EB9-1C0D-44FA-82BF-4987B8C8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0D3C-EF6C-43E8-BA74-A90126D2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BF16-2603-4FE9-83D9-6A549946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42B3-C84D-4151-9EE5-BFDFA205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0D23-EB14-4EE3-B81D-4F9E45EE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B63B-084E-4460-B585-3B9FE8C7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ED17E-6BDB-47CA-8DF0-9E8E8697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522CD-4F20-4027-B820-71C687AD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FF69A-AE33-40D6-BBA9-A00D6B3E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166CE-2A1A-43A4-AA9A-C0C93BDA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45AD0-93F0-46C7-BE0C-3B99F1D2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0794-30E3-4B7F-A34C-4BB53C58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C7F52-65BE-4E40-9015-C78E42CF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A00C7-AC2F-48BD-BC19-E4F9231F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7C4EE-B313-4C87-9A1F-FBE400EA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F5BD1-4BDA-4A76-AA01-20C856B7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4B6F8-38AA-499A-BFCC-430BAE8C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D7207-58B8-4735-B707-E7D90401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D6180-DDB8-480C-A3B5-13E9E88C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09774B-4F17-4147-A525-E5BDF5A4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0C4835-0C30-449F-BBD2-00371E26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C1D30A-8F19-4AF3-A493-C454A06D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AFF8-5C55-461A-837F-EA00435A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6F0137-1A48-4473-88A4-643F2AF3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451484-B5E5-4C0F-944C-8C661689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56C3C6-CCFA-43C2-8001-0E6F16CA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9F4F52-1678-461D-B4CC-C9C38683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F88666-77F1-4DC3-B7B4-F181793C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CF684D-71B3-466A-8B6E-05658280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C47B9A-F522-43A6-9345-C85F77E9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5BED92-DFCC-4AC9-ABB5-8B89A1E1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0E96F4-0C9B-487F-8906-8424217C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D84BD8-8430-4013-96A8-AF8F05AF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31C-A168-4191-979F-56BDBA61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F290A1-A6D5-4F47-95F9-C1E24D19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636F42-50DA-4049-AF82-AA468BD5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2C1B92-034A-4BFE-9D22-82D9773E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8B53F0-D18E-4880-AC5A-55388AA9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6971EE-B9DD-434A-BB1A-8701EFD3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5D467D-DF6A-483A-B83A-3CECAA3A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E35B39-A6CA-4C18-8BC7-1164CB86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6DA5A9-1663-4FC6-B0F5-5A0DE774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BC0C3B-5B35-422D-BFFF-81FCAB52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CA0AE0-11AA-4A01-8954-52F4FA9A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A11-2882-415B-AA9A-A9DAC9C1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634473-A55D-41F7-ABEB-E7D84E24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B3DC26-E1B8-4640-9F5A-190F19DB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48C43D-6753-4719-8A57-B4BC7816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83B41F-16DB-45A9-B390-0EA4D899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377121-C294-48AB-9552-E7A482C2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66C08D-8BEC-4F04-8A5C-A0E73543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EA2134-662B-4AC8-BDB5-C00C534A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9A5350-7847-473A-A6AC-3275EC42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91F74E-567E-44A5-AAD3-77174689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BA7860-AD16-4200-83F9-CBD8707F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32AC-4446-48D5-A0AB-DCBE4352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E42FA6-685C-4904-A386-64E0015D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8E32CB-B8B8-4FFA-AC15-7E03F3A6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F8D8B9-28F1-4F81-98A3-8EAFA9D2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F50784-5323-4628-9BF9-334155CF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70EA6F-4DD1-456E-8109-1D703D0F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9CDA88-9255-481F-90B7-3CEFA9C0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32CD4E-02CE-4281-8598-2ECE4A7A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44544C-9115-4248-8891-EF1F4B21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451A82-7026-44B1-A598-5DDEE4BE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6BF326-2D87-474C-8C5D-3331D26A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2309-FB2E-4576-A4D3-59E73989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47891A-78B4-41B8-A86E-24BE9900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69C645-D409-42DE-9D1F-DC945118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42BE42-F229-4008-8996-B5B0513D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F7D522-FF97-4949-8BF0-BE603A0F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3D6B32-0873-4F91-84EE-CDA0FBEC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4A4465-2D41-4DA0-8E36-8C150435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2B2C3A-A5F7-49F5-A37D-C8C9B526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004E01-8722-425D-BC20-E68E988A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272870-5D93-4C11-9CDE-1E96B6AF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DE0A8B-2AC8-4739-84F9-EDD0A400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7FF-A0C9-4A19-A189-4D395342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B2E921-68E9-434B-84E3-79AB9873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9E9CB1-8BE2-4290-A560-0B877B97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D3FDFE-C067-41D8-9D13-60FD4771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8CB3C6-2FFE-40D3-BD0B-B1C9EC96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8C7612-6FFC-475F-BFE1-F97AF2A4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196B25-5213-43C6-94C8-62C2BB75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212111-4900-4174-9CB8-C4462B2F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4D4E4F-7425-433B-83A7-3B500C4B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171D7-BD4A-4920-90F3-3A6A5D29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2BAAD2-720A-4765-949F-B3FFA55D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8FC4-779C-4B10-BB81-68BD76508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4ECE-2403-4894-BCFE-64254E78F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dt" idx="29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30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D424-1526-421C-9340-B9077B8D7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dt" idx="32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3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ABEB-FE7B-4C72-A98C-30BA5C05E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dt" idx="35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ftr" idx="36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B10B-15DF-4608-B27F-F20D8EF3A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6019920"/>
          </a:xfrm>
          <a:prstGeom prst="rect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172200"/>
            <a:ext cx="65530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705720" y="6172200"/>
            <a:ext cx="243828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76A5-1232-4509-8F0D-91B28F43A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8339040" y="1447920"/>
            <a:ext cx="82728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EE72-9D64-48EA-870C-549BEB418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C1A0-13E6-4C86-8AAC-559011847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1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643C-FF90-4C53-94A6-EFA0F4B88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dt" idx="14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15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48B4-CCF0-46F3-B109-9ED6E4C84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dt" idx="1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E710-DF56-4502-8113-37FB4BF5E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0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21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A79F-C73C-4787-BCAD-F64BE534B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dt" idx="23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24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8D5A-315F-4266-9457-52094E8C1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dt" idx="26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27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595959"/>
                </a:solidFill>
                <a:latin typeface="Times New Roman"/>
                <a:cs typeface="B Titr"/>
              </a:rPr>
              <a:t>در واقع این مرحله شناخت محصول اس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1071720" y="1828440"/>
            <a:ext cx="7929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ناخت بازار مصر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ربرد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مول و نقشه های فنی و روش ساخ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واد اولی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ناخت سازمان های حمایت کنند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لای مشاب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اضای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یفیت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شناخت دوره ی عمر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1071720" y="1676520"/>
            <a:ext cx="79293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ر محصولی یک روز متولد و روزی می میر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9" name="Object 1"/>
          <p:cNvGraphicFramePr/>
          <p:nvPr/>
        </p:nvGraphicFramePr>
        <p:xfrm>
          <a:off x="1000080" y="2357280"/>
          <a:ext cx="7842240" cy="39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2357280"/>
                    <a:ext cx="7842240" cy="39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 txBox="1"/>
          <p:nvPr/>
        </p:nvSpPr>
        <p:spPr>
          <a:xfrm>
            <a:off x="1000080" y="3200400"/>
            <a:ext cx="8143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6228"/>
                </a:solidFill>
                <a:latin typeface="Times New Roman"/>
                <a:cs typeface="B Nazanin"/>
              </a:rPr>
              <a:t>معرف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دوره کسی از محصول شناخت ندارد و رغبتی هم برای خرید ندار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بسیاری با شکست مواجه می شوند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رکت به خرده فروشان تخفیف می دهد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تبلیغات زیاد مورد نیاز است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حتی شاید شرکت ضرر بده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رده فروشان تا حد امکان از خرید و انبار کردن محصول خودداری می کنن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مهندسان کارخانه اینجا معلوم می شو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2" name="Object 2"/>
          <p:cNvGraphicFramePr/>
          <p:nvPr/>
        </p:nvGraphicFramePr>
        <p:xfrm>
          <a:off x="1219320" y="106668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 txBox="1"/>
          <p:nvPr/>
        </p:nvSpPr>
        <p:spPr>
          <a:xfrm>
            <a:off x="785520" y="185688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6228"/>
                </a:solidFill>
                <a:latin typeface="Times New Roman"/>
                <a:cs typeface="B Nazanin"/>
              </a:rPr>
              <a:t>رش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دف در این مرحله افزایش حجم توزیع در بازار و جلب اعتماد اس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مشتریان محصول را آزمایش می کنند و در صورت کیفیت مشتری دائم می شون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Delay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داری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مرحله فروشنده قيمت كالا را كمي بالا مي كش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Nazanin"/>
              </a:rPr>
              <a:t>.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مرحله ی معرفی قیمت را تا جایی که حداقل ضرر را داشته باشیم پایین می آوریم. اما در مرحله رشد قیمت باید حداقل هزینه را پوشش ده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به هیچ عنوان نباید کمبود به وجود آی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مراحل تولد (معرفی) و رشد نباید توقع سود داش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5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 txBox="1"/>
          <p:nvPr/>
        </p:nvSpPr>
        <p:spPr>
          <a:xfrm>
            <a:off x="228240" y="1714320"/>
            <a:ext cx="8915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100000"/>
              </a:lnSpc>
              <a:spcBef>
                <a:spcPts val="9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f6228"/>
                </a:solidFill>
                <a:latin typeface="Times New Roman"/>
                <a:cs typeface="B Nazanin"/>
              </a:rPr>
              <a:t>بلوغ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مرحله نرخ رشد كل بازار رو به كاهش مي نه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کیفیت محصول تعیین کننده اس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فزایش هزینه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ی بازاریابی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در این دوره رقابت کاملاً محسوس است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باید قیمت ها شکسته شو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ائه محصول جدید: به محض مشاهده کاهش سود شرکت باید به دنبال تحقق به تولید محصول جدید بر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رکت های رقیب در این مرحله محصولشان به بازار می رس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3300"/>
                </a:solidFill>
                <a:latin typeface="Times New Roman"/>
                <a:cs typeface="Nazanin"/>
              </a:rPr>
              <a:t>شركت بايد به دنبال تحقيق و توسعه در محصول باشد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Nazani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اساسی را بازار یابی ایفا می کن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8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 txBox="1"/>
          <p:nvPr/>
        </p:nvSpPr>
        <p:spPr>
          <a:xfrm>
            <a:off x="228240" y="185688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6228"/>
                </a:solidFill>
                <a:latin typeface="Times New Roman"/>
                <a:cs typeface="B Nazanin"/>
              </a:rPr>
              <a:t>اشبا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(در این مرحله حداکثر تقاضا را داریم) اما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حداکثر سود را نداری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 عرضه &gt; تقاض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وش شرکت اصلی به دلیل وجود رقبا کم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قابت بر سر کیفیت، قیمت و بازاریابی ا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ولي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كنند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د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اين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مرحل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اي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فك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ايجا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نوع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و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غيي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د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محصول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اش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1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4f6228"/>
                </a:solidFill>
                <a:latin typeface="Times New Roman"/>
                <a:cs typeface="B Nazanin"/>
              </a:rPr>
              <a:t>نزول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اضا و فروش با سرعت زیادی کاهش می یاب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مکن است کالاهای جدید نیاز مشتریان را برآورده نسازد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حمایت از محصول بستگی به تثبیت هزینه ها دار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حسابداری صنعتی برای صرفه جویی در هزینه ها مهم ا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4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Times New Roman"/>
                <a:cs typeface="B Nazanin"/>
              </a:rPr>
              <a:t>مرگ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هش تقاضا به گونه ای می شود که دیگر تولید محصول از توجیه اقتصادی برخوردار نیس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لایل: ورود تکنولوژی جدید، تغییر سلیقه مشتری، فرهنگ مشتری، رقبا و 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7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288800" y="-3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مهندس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1071720" y="1676520"/>
            <a:ext cx="79293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عالیتی است به منظور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طراح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یا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تجدی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طراح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حصول با اهدا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آورده کردن نیاز مشتر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قتصادی بود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یفی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ثلا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فع خطاهای احتمالی در طراحی اولی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رسی ابعاد محصول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کیفیت و نیاز مشتری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 ظرفیت محصول و تعداد قابل قبول برای تولید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قتصاد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شکلات و هزینه های اضافی برای برخی مشخصات خاص محصول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قتصاد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288800" y="0"/>
            <a:ext cx="74977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مراحل طراح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2" name="Content Placeholder 3" descr=""/>
          <p:cNvPicPr/>
          <p:nvPr/>
        </p:nvPicPr>
        <p:blipFill>
          <a:blip r:embed="rId1"/>
          <a:stretch/>
        </p:blipFill>
        <p:spPr>
          <a:xfrm>
            <a:off x="938160" y="927000"/>
            <a:ext cx="8120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Box 4"/>
          <p:cNvSpPr/>
          <p:nvPr/>
        </p:nvSpPr>
        <p:spPr>
          <a:xfrm>
            <a:off x="1066680" y="198108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02060"/>
                </a:solidFill>
                <a:latin typeface="IranNastaliq"/>
                <a:cs typeface="IranNastaliq"/>
              </a:rPr>
              <a:t>بسم الله الرحمن الرحی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آنالیز ارز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228600" y="1981080"/>
            <a:ext cx="8772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ز مراحل طراحی محصول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قبل از مرحله ی ساخت انجام می ش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زیابی محصول با هدف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کاهش هزینه ها (ارزان تر کردن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فزایش کیفی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دف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تولید محصول ارزان تر و با کیفیت ت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جایگزینی مواد اولی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غییر در روش تولی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Picture 21" descr="LOOK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3" descr="BACK003"/>
          <p:cNvPicPr/>
          <p:nvPr/>
        </p:nvPicPr>
        <p:blipFill>
          <a:blip r:embed="rId2"/>
          <a:stretch/>
        </p:blipFill>
        <p:spPr>
          <a:xfrm>
            <a:off x="304920" y="1719360"/>
            <a:ext cx="8686800" cy="4833720"/>
          </a:xfrm>
          <a:prstGeom prst="rect">
            <a:avLst/>
          </a:prstGeom>
          <a:ln w="0">
            <a:noFill/>
          </a:ln>
        </p:spPr>
      </p:pic>
      <p:sp>
        <p:nvSpPr>
          <p:cNvPr id="997" name="Text Box 4"/>
          <p:cNvSpPr/>
          <p:nvPr/>
        </p:nvSpPr>
        <p:spPr>
          <a:xfrm>
            <a:off x="6400800" y="5334120"/>
            <a:ext cx="2438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9900"/>
                </a:solidFill>
                <a:latin typeface="Arial"/>
                <a:cs typeface="Homa"/>
              </a:rPr>
              <a:t>امكان استفاده از مواد اوليه ارزانت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457200" y="3581280"/>
            <a:ext cx="236232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بكارگيري روش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بهتر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جهت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توليد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محصو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4"/>
          <p:cNvSpPr/>
          <p:nvPr/>
        </p:nvSpPr>
        <p:spPr>
          <a:xfrm>
            <a:off x="3120120" y="1981080"/>
            <a:ext cx="301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ffffff"/>
                </a:solidFill>
                <a:latin typeface="Arial"/>
                <a:cs typeface="Homa"/>
              </a:rPr>
              <a:t>تغيير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6"/>
          <p:cNvSpPr/>
          <p:nvPr/>
        </p:nvSpPr>
        <p:spPr>
          <a:xfrm>
            <a:off x="6095880" y="356544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Homa"/>
              </a:rPr>
              <a:t>امكان حذف</a:t>
            </a:r>
            <a:r>
              <a:rPr b="1" lang="ar-SA" sz="30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Homa"/>
              </a:rPr>
              <a:t>تلرانس هاي اضاف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7"/>
          <p:cNvSpPr/>
          <p:nvPr/>
        </p:nvSpPr>
        <p:spPr>
          <a:xfrm>
            <a:off x="228600" y="5394240"/>
            <a:ext cx="27432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9900"/>
                </a:solidFill>
                <a:latin typeface="Arial"/>
                <a:cs typeface="Homa"/>
              </a:rPr>
              <a:t>طراحي قطعات ب</a:t>
            </a:r>
            <a:r>
              <a:rPr b="1" lang="fa-IR" sz="2500" spc="-1" strike="noStrike">
                <a:solidFill>
                  <a:srgbClr val="ff9900"/>
                </a:solidFill>
                <a:latin typeface="Arial"/>
                <a:cs typeface="Homa"/>
              </a:rPr>
              <a:t>منظور</a:t>
            </a:r>
            <a:r>
              <a:rPr b="1" lang="ar-SA" sz="2500" spc="-1" strike="noStrike">
                <a:solidFill>
                  <a:srgbClr val="ff9900"/>
                </a:solidFill>
                <a:latin typeface="Arial"/>
                <a:ea typeface="Homa"/>
              </a:rPr>
              <a:t> ساده شد</a:t>
            </a:r>
            <a:r>
              <a:rPr b="1" lang="fa-IR" sz="2500" spc="-1" strike="noStrike">
                <a:solidFill>
                  <a:srgbClr val="ff9900"/>
                </a:solidFill>
                <a:latin typeface="Arial"/>
                <a:cs typeface="Homa"/>
              </a:rPr>
              <a:t>ن</a:t>
            </a:r>
            <a:r>
              <a:rPr b="1" lang="ar-SA" sz="2500" spc="-1" strike="noStrike">
                <a:solidFill>
                  <a:srgbClr val="ff9900"/>
                </a:solidFill>
                <a:latin typeface="Arial"/>
                <a:ea typeface="Homa"/>
              </a:rPr>
              <a:t> مونتا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18"/>
          <p:cNvSpPr/>
          <p:nvPr/>
        </p:nvSpPr>
        <p:spPr>
          <a:xfrm>
            <a:off x="3075120" y="3657600"/>
            <a:ext cx="2921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9900"/>
                </a:solidFill>
                <a:latin typeface="Arial"/>
                <a:cs typeface="Homa"/>
              </a:rPr>
              <a:t>كاهش كيفيت</a:t>
            </a:r>
            <a:r>
              <a:rPr b="1" lang="fa-IR" sz="3000" spc="-1" strike="noStrike">
                <a:solidFill>
                  <a:srgbClr val="ff9900"/>
                </a:solidFill>
                <a:latin typeface="Arial"/>
                <a:ea typeface="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ff9900"/>
                </a:solidFill>
                <a:latin typeface="Arial"/>
                <a:cs typeface="Homa"/>
              </a:rPr>
              <a:t>باتوجه به مکا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0"/>
          <p:cNvSpPr/>
          <p:nvPr/>
        </p:nvSpPr>
        <p:spPr>
          <a:xfrm>
            <a:off x="3352680" y="518148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تغيير جنس</a:t>
            </a:r>
            <a:r>
              <a:rPr b="1" lang="ar-SA" sz="27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قطعات</a:t>
            </a:r>
            <a:r>
              <a:rPr b="1" lang="fa-IR" sz="2700" spc="-1" strike="noStrike">
                <a:solidFill>
                  <a:srgbClr val="ffff00"/>
                </a:solidFill>
                <a:latin typeface="Arial"/>
                <a:ea typeface="Homa"/>
              </a:rPr>
              <a:t> بدون</a:t>
            </a:r>
            <a:r>
              <a:rPr b="1" lang="fa-IR" sz="27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ffff00"/>
                </a:solidFill>
                <a:latin typeface="Arial"/>
                <a:cs typeface="Homa"/>
              </a:rPr>
              <a:t>نياز به </a:t>
            </a: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كيفيت بال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2000"/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Andalus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3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چه قطعاتی بهتر است خریداری شوند؟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04920" y="1752120"/>
            <a:ext cx="8696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 استاندارد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پیچ، مهره، میخ، واشر و . .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تکنولوژی ساخت آنها در دسترس ما نی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فرآیند ساخت آنها کلاً با فرآیند ساخت کارخانه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تفاوت هستن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دیگر شرکت ها تخصص بالاتری در تولید آنها دارند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دیگر شرکت ها آن ها را با مقیاس بالا و در نتیجه ارزان تر تولید می کنن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چه قطعاتی بهتر است تولید شوند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228600" y="1981080"/>
            <a:ext cx="8772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تولید آنها باعث بالا رفتن تکنولوژی می شو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ید این قطعات باعث می شوند که در آینده به شرکتی قدرتمند در آن زمینه تبدیل شوی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واگذار کردن تولید آن به خارج از کارخانه باعث لو رفتن اطلاعات محرمانه شو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براساس سیاست های دولت تولید آنها الزامی است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88800" y="-360"/>
            <a:ext cx="7497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595959"/>
                </a:solidFill>
                <a:latin typeface="Times New Roman"/>
                <a:cs typeface="B Titr"/>
              </a:rPr>
              <a:t>تصمیم گیری در قبال خرید یا تولید بر اساس تکنولوژی محصو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Object 1"/>
          <p:cNvGraphicFramePr/>
          <p:nvPr/>
        </p:nvGraphicFramePr>
        <p:xfrm>
          <a:off x="1000080" y="1600200"/>
          <a:ext cx="7983720" cy="50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600200"/>
                    <a:ext cx="7983720" cy="50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3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945" name="TextBox 5"/>
          <p:cNvSpPr/>
          <p:nvPr/>
        </p:nvSpPr>
        <p:spPr>
          <a:xfrm>
            <a:off x="1066680" y="20016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وزارت علوم تحقیقات و فناو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Box 3"/>
          <p:cNvSpPr/>
          <p:nvPr/>
        </p:nvSpPr>
        <p:spPr>
          <a:xfrm>
            <a:off x="1066680" y="198108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موزشکده فنی و حرفه ای دختران ارومی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Box 5"/>
          <p:cNvSpPr/>
          <p:nvPr/>
        </p:nvSpPr>
        <p:spPr>
          <a:xfrm>
            <a:off x="1044720" y="30492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انشگاه فنی و حرفه ا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Box 4"/>
          <p:cNvSpPr/>
          <p:nvPr/>
        </p:nvSpPr>
        <p:spPr>
          <a:xfrm>
            <a:off x="1103400" y="3084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رس : مدیریت تولی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3"/>
          <p:cNvSpPr/>
          <p:nvPr/>
        </p:nvSpPr>
        <p:spPr>
          <a:xfrm>
            <a:off x="1103400" y="5181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استاد مربوطه : خانم جهت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5"/>
          <p:cNvSpPr/>
          <p:nvPr/>
        </p:nvSpPr>
        <p:spPr>
          <a:xfrm>
            <a:off x="1103400" y="609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مقطع تحصیلی کارشناس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6"/>
          <p:cNvSpPr/>
          <p:nvPr/>
        </p:nvSpPr>
        <p:spPr>
          <a:xfrm>
            <a:off x="1103400" y="17812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رشته حسابدا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 txBox="1"/>
          <p:nvPr/>
        </p:nvSpPr>
        <p:spPr>
          <a:xfrm>
            <a:off x="-360" y="3879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cs typeface="B Davat"/>
              </a:rPr>
              <a:t>طراحی محصول و فرآیند تولید آ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2040" y="182880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ffffff"/>
                </a:solidFill>
                <a:latin typeface="IranNastaliq"/>
                <a:cs typeface="IranNastaliq"/>
              </a:rPr>
              <a:t>فصل دوم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TextBox 3"/>
          <p:cNvSpPr/>
          <p:nvPr/>
        </p:nvSpPr>
        <p:spPr>
          <a:xfrm>
            <a:off x="1197000" y="34596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جلسه دو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عریف طراح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152280" y="1676520"/>
            <a:ext cx="8848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یندی که با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تعریف دقیق محصول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عملکرد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کاربردهای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آن به تعیین خصوصیات کلی و جزئی محصول پرداخته و طی آن با رعایت خواسته های مشتری و استاندارها و با توجه به توجیه اقتصادی تولید محصول به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تهیه نقشه های فنی و نمونه اولیه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 منجر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واسته های مشتر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لزام آو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عملکرد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نگیزش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Diagram 52" descr=""/>
          <p:cNvPicPr/>
          <p:nvPr/>
        </p:nvPicPr>
        <p:blipFill>
          <a:blip r:embed="rId1"/>
          <a:stretch/>
        </p:blipFill>
        <p:spPr>
          <a:xfrm>
            <a:off x="1420920" y="1395360"/>
            <a:ext cx="6327720" cy="4067280"/>
          </a:xfrm>
          <a:prstGeom prst="rect">
            <a:avLst/>
          </a:prstGeom>
          <a:ln w="0">
            <a:noFill/>
          </a:ln>
        </p:spPr>
      </p:pic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نياز هاي مشتريا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Rounded Rectangle 6"/>
          <p:cNvSpPr/>
          <p:nvPr/>
        </p:nvSpPr>
        <p:spPr>
          <a:xfrm>
            <a:off x="76320" y="1676520"/>
            <a:ext cx="3047760" cy="1752480"/>
          </a:xfrm>
          <a:prstGeom prst="roundRect">
            <a:avLst>
              <a:gd name="adj" fmla="val 16667"/>
            </a:avLst>
          </a:prstGeom>
          <a:solidFill>
            <a:srgbClr val="4172ad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اساسي (الزام آو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عملكر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انگيزش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Picture 4" descr="C:\Documents and Settings\EHSAN\My Documents\My Music\New Folder\untitled.jpg"/>
          <p:cNvPicPr/>
          <p:nvPr/>
        </p:nvPicPr>
        <p:blipFill>
          <a:blip r:embed="rId2"/>
          <a:stretch/>
        </p:blipFill>
        <p:spPr>
          <a:xfrm>
            <a:off x="3157560" y="1700280"/>
            <a:ext cx="5910120" cy="4395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5" descr=""/>
          <p:cNvPicPr/>
          <p:nvPr/>
        </p:nvPicPr>
        <p:blipFill>
          <a:blip r:embed="rId3"/>
          <a:stretch/>
        </p:blipFill>
        <p:spPr>
          <a:xfrm>
            <a:off x="228600" y="5921280"/>
            <a:ext cx="8839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پیش نیازهای طراحی محصول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1071720" y="19810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طالعات امکان سنج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پیش بینی فروش و تقاض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زیابی مالی و اقتصادی طر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karifar</dc:creator>
  <dc:description/>
  <dc:language>en-US</dc:language>
  <cp:lastModifiedBy>Toka</cp:lastModifiedBy>
  <dcterms:modified xsi:type="dcterms:W3CDTF">2020-04-12T19:47:38Z</dcterms:modified>
  <cp:revision>1403</cp:revision>
  <dc:subject/>
  <dc:title>Slide 1</dc:title>
</cp:coreProperties>
</file>