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5B483-0020-4E48-A4D0-835AAC144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3CF8D-B9B5-4DDF-9649-44EF3DFB3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BFF4340-D272-4B7E-A0A6-F41A07EEB49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7C79BFB-3028-4C4F-A4E3-84EAD00C3E0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AEBE4A9-4A8C-4C74-983B-CD696B2D107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539DF97-779A-44EA-B092-EE79340E871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47C7691-B074-422E-A602-4D381863DCA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B66552B-3A4A-4C02-BFB1-236B6033170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41379F6-7F71-4F76-83E0-E6D1BBA553B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79545E69-6A47-4407-96AC-297AC5C9AF6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B01408D4-D91E-4684-9101-F745E228961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091A48CC-BCC4-4BF9-A71B-EDF035FA022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9C4C2-BCFC-4CD7-BD49-D5544E60B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156C020-1637-4F77-9228-2A0C2E6DA0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9137417-5DEB-471E-BEEE-A8CAB12CA9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8A9B9C3-A0F1-4B13-9EFE-FF4C724B27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28FA19B-8702-4834-8BBB-26F9C4FFDB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7CACA6B-6592-4CE5-98DA-C1101693A1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48E9996-5A48-4D0E-B414-5E08730CE1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E9EF981-D57A-44F9-A507-437EC6D0B0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EFBDE21-0FA7-4E20-9DF2-BF408DE153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FB68842-C201-42E4-A740-A2B0E36129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314E125-4F35-40C2-9F39-CDB8995E704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B2CDC-34F3-4B5D-B6C1-EEC96A264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F5B967D7-DBA7-4CAE-86BF-9F2DCB3AFBF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DC6A4CF8-B944-4002-A61D-B1D4F7758B0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11BA60E0-6FF3-4CE4-9623-6BE23E8FBA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A15F96DF-8FC1-4E06-BA51-E059DAC37A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E88A6478-7A7A-4C99-AD22-083C75EE00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4F0EBD6B-8B30-4843-9FB1-8BA6ED7869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8109071B-DE93-48FB-B1B6-C8DEEDE94B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8A593620-B7CB-4CBD-9167-F2333BB1A4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0A52336E-AEB8-4FCB-807C-26B75E9E72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5286E506-4270-47C4-8568-AD514368A4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B695E8-4233-4301-A4CE-E8A433A212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9FEEC06D-8640-419C-B3A8-B79A11AFD1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8DE1F032-2B20-4B4A-80AD-D19A6AF1C26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58579AEC-FDFB-4865-8D92-EF1771E35DA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84BF0CCB-08C4-458D-8D7B-98198DDE53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DA6715E-A3CB-4544-B52B-FAAEBC7CB8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950953B-7AAF-475F-A41E-32FF638A2D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F2A34D5-2A0F-4930-B570-819BCECCCB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3986A6D-BDAC-42AA-9986-054BF01403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8F86FED-D78D-4F27-AEAE-203F5D5463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BB66705-8891-400A-8DB4-332DF09FB9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3DC13-94DB-4DFC-B438-8E82FB571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F0C4E88-F0BB-4AF5-847B-0C9F602887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6A00197-C679-4BDD-8401-6DB6B8211C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07A31AF-631D-446C-9001-31AEFF31A4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F334FA40-6F3B-4F63-A256-8203799680F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89B0068-FCCC-415B-A862-3E017741441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B9B79-D607-4DAC-9B16-F81CFE119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1F483-C668-41D1-87EB-06AE37162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00DAD-75E8-4797-8BE2-F029D4CF0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60531-A9A5-402E-895D-814EBDA433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C8DDB-D5F0-4E8A-B444-25C9E3E4F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EBB52-1B29-4A23-AB46-13E4B0CC9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DE2F5-4398-4F65-872C-92577ECF1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53668-F919-4AF1-895E-D6143CE92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39494-6901-4351-9325-1EA32CDAF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1C1A7E-6760-47E2-B7E3-62E6BF6A03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F6AA40-B1FD-47F6-B231-93988D6212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424A41-BE19-42F5-803D-32682A47AB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C48AB1-4489-43D4-895B-B827C50CA5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95D9CD-5840-4ED4-9E3F-B404A641D6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796AF3-2CCE-40AE-A5B2-DD9E819B10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C45683-3A72-4919-A9AD-28947CCE9C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F2C1F-E898-44FC-B86F-F97AB0065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6EC8DC-F495-4759-A3E8-686F1327AC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D90EC3-449A-405D-A2DF-0E57D35DCA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152BFF-F429-4505-AD81-70F6124E3F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4C26A3-1285-4416-8A0A-5F31255692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15D80B-4F6D-40B0-84F5-7E08F7E4BE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E6ED72-B514-4AC2-95BC-700700447D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6EEF20-8A31-42FD-88A8-EF86DCEAC4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6ECF8A6B-9C85-46D6-BA2E-088E7D28FF7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44253553-4939-415C-8082-BF6BCE031B0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5E82A33C-FAF1-4926-A409-CF9ED65603E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A228A-7ABD-4AFE-B06B-A9B3D2265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F779EC4F-3942-45B8-BD06-4049F4F0CE3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B48C141B-E3DB-414D-B99A-EFB491A7171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82182F45-0A29-4096-97D4-B689732A81B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86238881-E9A9-49B7-8F25-5CBE0D3CBD3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FB65B105-C380-4A80-91E6-B27D51B04C1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9103C0CF-3F70-4D23-B9C6-CDB5F14F5C0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E59417FE-BC5B-4DD8-BD51-F26085D9AE1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4F21F78D-AC77-4B7A-B575-BCF5A9894E8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64D8BB49-5E3F-41AE-8304-5B70B9BDA7D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6DD0F9D3-C2F8-4E01-8148-15F089D9BAD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AA843-9E51-4061-AE5F-312299222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D07039CA-070B-4405-9F74-31F5115E56C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8851D8FC-A39A-43E6-94DE-0669F6AEB98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548A7045-B703-4A17-AC76-43A12A690B5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31229D09-ACE8-4088-A860-52C195D29D8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CDEAFD5F-91E9-407C-9121-AC1AD81B7E0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ABF0C13B-BE79-483A-A1F7-83325D991CC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4F0CD404-7E86-4A31-B7E9-A324A58335C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6D966A7D-1CE1-4B6A-A857-524CBE2C632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58548925-5D8D-4340-A95B-9834EC39CAB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7E20AACA-21BF-4DC8-9438-385179FAEAAF}"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645F4-EDC0-44C7-B2C8-F917C62A6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00901F67-6327-4D35-B925-2266240FE506}"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D14054E0-D7E8-423E-A836-119EB83D677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34CE4FC6-F14D-4EC6-AAFE-C67B3D748E8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12AC7817-7628-4FFD-BBB7-4D6FDCA1A78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50B1414C-045A-44B7-98E5-61340D26E8C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F7E0016F-EEBE-44A3-A9A3-0293BC002FC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BB8B7C2C-8B16-458E-AF0B-BD0295A6FC8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4044AA7A-885D-4E9D-B84A-E14DE68C1E4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8AA86234-2878-47FA-949E-7CD633AD093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2B99E964-B32E-4163-93E9-F497D8F0B62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3B28F-B33C-4CA3-9F0E-D4160F450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2706EA97-8AF7-4897-84BF-26290D1D347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E28268AC-AEAC-4F0B-9A12-17DBAE302285}"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82CA6FD1-BA4B-4AB5-80A5-CAE7A88AEED3}"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25AF47F1-F9A7-4F03-A143-452225F86A94}"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A56E6208-430F-4072-97A4-03D5DD3C394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CA0EF3D9-2D6C-43C4-9735-57EE5EFD623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FB5285B6-DDBD-4534-A56D-341B72B78C9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EA02ABF2-FDC7-440E-B3CE-A13B484DD8C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CBF686C2-1D3E-44E8-969F-201C49BA444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43A96D32-47BA-4673-9569-DC695C7F238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EBCF6-13CD-40A6-A022-236E58465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190E756A-2C03-48E4-9BFF-6872012B848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C337DEFB-1FA1-4243-8774-266C9E47C41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426CCFC5-2F93-4AC3-8C3C-429FB79B8E3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2AB261AF-8D83-4717-803B-8D5ECB5FF7C5}"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3EAC4779-4365-45B5-99DC-0C7F908E6B4D}"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CC92FFAF-823C-4C6E-BC08-DFC7E20F50B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15FCFDA5-1175-4DCA-8631-1246B0C6805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18A4C473-D4AB-4688-BF27-39BBD4AE197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1108BE7B-F463-4A4C-AC30-72CBA9AC677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22F76B91-5282-46DA-ABDF-62F963E5A4E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B9A3D-9B9E-42E1-A649-3F398CC9A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6F0809EC-1737-4DBA-B70D-5A730AF0AFD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D0B8AEAC-9576-427D-AF30-910FC1D8D61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46C85207-5649-467E-A702-347BCC1F10A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27CE4798-DEBD-4A97-A165-89A920C60A3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1F24A343-E941-4F95-BE24-19FE93EAA28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0C227A33-A1F5-4C17-8C3F-EC083DBE31BE}"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9D5862EC-F37E-479F-91B7-3DC2C054C5CA}"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A910E9F-98F5-41CC-BBF5-2C3C2924F75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CD8419C-7AED-49E8-A808-16A08372C4A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5031949-2C01-46DC-B1BB-42DC0A86273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FAE24-7379-4609-B392-E279785D35F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65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D7A03-B37F-4A2D-992D-14F580BFB16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00" name="PlaceHolder 4"/>
          <p:cNvSpPr>
            <a:spLocks noGrp="1"/>
          </p:cNvSpPr>
          <p:nvPr>
            <p:ph type="dt" idx="29"/>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1" name="PlaceHolder 5"/>
          <p:cNvSpPr>
            <a:spLocks noGrp="1"/>
          </p:cNvSpPr>
          <p:nvPr>
            <p:ph type="ftr" idx="30"/>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73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D16D6-8551-4227-AC33-B30A6BB67CD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80" name="PlaceHolder 4"/>
          <p:cNvSpPr>
            <a:spLocks noGrp="1"/>
          </p:cNvSpPr>
          <p:nvPr>
            <p:ph type="dt" idx="32"/>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81" name="PlaceHolder 5"/>
          <p:cNvSpPr>
            <a:spLocks noGrp="1"/>
          </p:cNvSpPr>
          <p:nvPr>
            <p:ph type="ftr" idx="33"/>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1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1" name="PlaceHolder 3"/>
          <p:cNvSpPr>
            <a:spLocks noGrp="1"/>
          </p:cNvSpPr>
          <p:nvPr>
            <p:ph type="sldNum" idx="3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6FAC-7230-458E-A0C0-C9C989F3DAB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62" name="PlaceHolder 4"/>
          <p:cNvSpPr>
            <a:spLocks noGrp="1"/>
          </p:cNvSpPr>
          <p:nvPr>
            <p:ph type="dt" idx="35"/>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3" name="PlaceHolder 5"/>
          <p:cNvSpPr>
            <a:spLocks noGrp="1"/>
          </p:cNvSpPr>
          <p:nvPr>
            <p:ph type="ftr" idx="36"/>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3" name="Rectangle 7"/>
          <p:cNvSpPr/>
          <p:nvPr/>
        </p:nvSpPr>
        <p:spPr>
          <a:xfrm>
            <a:off x="0" y="0"/>
            <a:ext cx="9144000" cy="60199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172200"/>
            <a:ext cx="65530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6705720" y="6172200"/>
            <a:ext cx="243828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995A6-9668-4997-A59C-435455C470E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9"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8339040" y="1447920"/>
            <a:ext cx="82728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CF50A-933C-49C5-A2CC-79980D29217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171"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B6923-85DE-4976-8F3A-80D6A8BD4CC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14" name="PlaceHolder 4"/>
          <p:cNvSpPr>
            <a:spLocks noGrp="1"/>
          </p:cNvSpPr>
          <p:nvPr>
            <p:ph type="dt" idx="11"/>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5" name="PlaceHolder 5"/>
          <p:cNvSpPr>
            <a:spLocks noGrp="1"/>
          </p:cNvSpPr>
          <p:nvPr>
            <p:ph type="ftr" idx="12"/>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253"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48695-9D16-4F13-8CB0-827983D17FF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6" name="PlaceHolder 4"/>
          <p:cNvSpPr>
            <a:spLocks noGrp="1"/>
          </p:cNvSpPr>
          <p:nvPr>
            <p:ph type="dt" idx="14"/>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5"/>
          <p:cNvSpPr>
            <a:spLocks noGrp="1"/>
          </p:cNvSpPr>
          <p:nvPr>
            <p:ph type="ftr" idx="15"/>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335"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A9701-0A1A-4EEA-9218-0E714B618AF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8" name="PlaceHolder 4"/>
          <p:cNvSpPr>
            <a:spLocks noGrp="1"/>
          </p:cNvSpPr>
          <p:nvPr>
            <p:ph type="dt" idx="1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9" name="PlaceHolder 5"/>
          <p:cNvSpPr>
            <a:spLocks noGrp="1"/>
          </p:cNvSpPr>
          <p:nvPr>
            <p:ph type="ftr" idx="1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1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CD7CA-9B7D-4E5A-99AC-A87847B1759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8" name="PlaceHolder 4"/>
          <p:cNvSpPr>
            <a:spLocks noGrp="1"/>
          </p:cNvSpPr>
          <p:nvPr>
            <p:ph type="dt" idx="20"/>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9" name="PlaceHolder 5"/>
          <p:cNvSpPr>
            <a:spLocks noGrp="1"/>
          </p:cNvSpPr>
          <p:nvPr>
            <p:ph type="ftr" idx="21"/>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9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52B0E-B239-4A3F-B6AE-7D807DB3EEE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8" name="PlaceHolder 4"/>
          <p:cNvSpPr>
            <a:spLocks noGrp="1"/>
          </p:cNvSpPr>
          <p:nvPr>
            <p:ph type="dt" idx="23"/>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5"/>
          <p:cNvSpPr>
            <a:spLocks noGrp="1"/>
          </p:cNvSpPr>
          <p:nvPr>
            <p:ph type="ftr" idx="24"/>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57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C0CCF-8563-40FF-B4D2-6C65FFEBB63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26"/>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27"/>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0" name="12" descr=""/>
          <p:cNvPicPr/>
          <p:nvPr/>
        </p:nvPicPr>
        <p:blipFill>
          <a:blip r:embed="rId1"/>
          <a:stretch/>
        </p:blipFill>
        <p:spPr>
          <a:xfrm>
            <a:off x="0" y="0"/>
            <a:ext cx="9144000" cy="685800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900"/>
                    </p:tgtEl>
                  </p:cond>
                </p:stCondLst>
                <p:childTnLst>
                  <p:par>
                    <p:cTn id="3" fill="hold">
                      <p:stCondLst>
                        <p:cond evt="onClick">
                          <p:tgtEl>
                            <p:spTgt spid="90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8" name=""/>
          <p:cNvSpPr txBox="1"/>
          <p:nvPr/>
        </p:nvSpPr>
        <p:spPr>
          <a:xfrm>
            <a:off x="152280" y="228240"/>
            <a:ext cx="8686800" cy="6629400"/>
          </a:xfrm>
          <a:prstGeom prst="rect">
            <a:avLst/>
          </a:prstGeom>
          <a:noFill/>
          <a:ln w="0">
            <a:noFill/>
          </a:ln>
        </p:spPr>
        <p:txBody>
          <a:bodyPr anchor="t">
            <a:normAutofit fontScale="85000"/>
          </a:bodyPr>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فاكتورهاي ارزيابي منطقه:</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1</a:t>
            </a:r>
            <a:r>
              <a:rPr b="1" lang="fa-IR" sz="2800" spc="-1" strike="noStrike">
                <a:solidFill>
                  <a:srgbClr val="000000"/>
                </a:solidFill>
                <a:latin typeface="Times New Roman"/>
                <a:ea typeface="B Nazanin"/>
              </a:rPr>
              <a:t>. نيروي انساني:</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نيروي انساني بالقوه در منطقه چه اندازه است</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مهارت و تعليم و تربيت نيروي انساني بالقوه</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حقوق و دستمزد و مزاياي نقدي و غير نقدي كاركنان بالقوه</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سطح استاندارد زندگي در منطقه</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روند غيبت از كار نيروي انساني و همچنين ميزان تأخيرات</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گرايشات نيروي كار به عضويت در اتحاديه هاي كارگري</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9" name=""/>
          <p:cNvSpPr txBox="1"/>
          <p:nvPr/>
        </p:nvSpPr>
        <p:spPr>
          <a:xfrm>
            <a:off x="152280" y="609120"/>
            <a:ext cx="8686800" cy="5791320"/>
          </a:xfrm>
          <a:prstGeom prst="rect">
            <a:avLst/>
          </a:prstGeom>
          <a:noFill/>
          <a:ln w="0">
            <a:noFill/>
          </a:ln>
        </p:spPr>
        <p:txBody>
          <a:bodyPr anchor="t">
            <a:normAutofit fontScale="95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2</a:t>
            </a:r>
            <a:r>
              <a:rPr b="1" lang="fa-IR" sz="2800" spc="-1" strike="noStrike">
                <a:solidFill>
                  <a:srgbClr val="000000"/>
                </a:solidFill>
                <a:latin typeface="Times New Roman"/>
                <a:ea typeface="B Nazanin"/>
              </a:rPr>
              <a:t>. مكان بازار: (بازاري كه قرار است سرويس داده شود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هزينه حمل و نقل كالا از كار خانه تا بازار</a:t>
            </a:r>
            <a:endParaRPr b="0" lang="en-US" sz="2800" spc="-1" strike="noStrike">
              <a:solidFill>
                <a:srgbClr val="000000"/>
              </a:solidFill>
              <a:latin typeface="Calibri"/>
            </a:endParaRPr>
          </a:p>
          <a:p>
            <a:pPr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دوام و طول عمر محصول از نظر فاسد شدن  (در صورتي كه كالاي توليدي فاسد شدني باشد بايد محل كارخانه به بازار مصرف نزديك باشد)</a:t>
            </a:r>
            <a:endParaRPr b="0" lang="en-US" sz="2800" spc="-1" strike="noStrike">
              <a:solidFill>
                <a:srgbClr val="000000"/>
              </a:solidFill>
              <a:latin typeface="Calibri"/>
            </a:endParaRPr>
          </a:p>
          <a:p>
            <a:pPr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تردي و شكنندگي (براي كالا هاي شكستني هر چه بازار به كارخانه نزديكتر باشد بهتر است)</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0" name=""/>
          <p:cNvSpPr txBox="1"/>
          <p:nvPr/>
        </p:nvSpPr>
        <p:spPr>
          <a:xfrm>
            <a:off x="152280" y="228240"/>
            <a:ext cx="8686800" cy="6629400"/>
          </a:xfrm>
          <a:prstGeom prst="rect">
            <a:avLst/>
          </a:prstGeom>
          <a:noFill/>
          <a:ln w="0">
            <a:noFill/>
          </a:ln>
        </p:spPr>
        <p:txBody>
          <a:bodyPr anchor="t">
            <a:normAutofit fontScale="85000"/>
          </a:bodyPr>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جم يا وزن :در صورتي كه كالاي مورد نظر از نوع كالاهايي است كه حجم آن در طي فرايند توليد افزايش مي‌يابد كار خانه بايد نزديك بازارهاي مصرف باشد. در صورتي كه كالاي مورد نظر از نوع كالاهايي باشد كه حجم آن در طي فرايند توليد كاهش مي‌يابد كارخانه بايد نزديك به مواد اوليه باشد</a:t>
            </a:r>
            <a:endParaRPr b="0" lang="en-US" sz="2800" spc="-1" strike="noStrike">
              <a:solidFill>
                <a:srgbClr val="000000"/>
              </a:solidFill>
              <a:latin typeface="Calibri"/>
            </a:endParaRPr>
          </a:p>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در صورتي كه سرويس‌دهي (خدمتدهي) فعاليت اصلي باشد در اين حالت نزديكي به بازار مصرف ارجحيت دارد.</a:t>
            </a:r>
            <a:endParaRPr b="0" lang="en-US" sz="2800" spc="-1" strike="noStrike">
              <a:solidFill>
                <a:srgbClr val="000000"/>
              </a:solidFill>
              <a:latin typeface="Calibri"/>
            </a:endParaRPr>
          </a:p>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گر توليد برمبناي سفارش باشد و يا توليد برمبناي سليقه مصرف‌كننده باشد، نزديكي به بازار مصرف ارجحيت دارد</a:t>
            </a:r>
            <a:endParaRPr b="0" lang="en-US" sz="2800" spc="-1" strike="noStrike">
              <a:solidFill>
                <a:srgbClr val="000000"/>
              </a:solidFill>
              <a:latin typeface="Calibri"/>
            </a:endParaRPr>
          </a:p>
          <a:p>
            <a:pPr marL="291600" indent="-2916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1" name=""/>
          <p:cNvSpPr txBox="1"/>
          <p:nvPr/>
        </p:nvSpPr>
        <p:spPr>
          <a:xfrm>
            <a:off x="152280" y="228240"/>
            <a:ext cx="8686800" cy="6629400"/>
          </a:xfrm>
          <a:prstGeom prst="rect">
            <a:avLst/>
          </a:prstGeom>
          <a:noFill/>
          <a:ln w="0">
            <a:noFill/>
          </a:ln>
        </p:spPr>
        <p:txBody>
          <a:bodyPr anchor="t">
            <a:normAutofit fontScale="85000"/>
          </a:bodyPr>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جم يا وزن :در صورتي كه كالاي مورد نظر از نوع كالاهايي است كه حجم آن در طي فرايند توليد افزايش مي‌يابد كار خانه بايد نزديك بازارهاي مصرف باشد. در صورتي كه كالاي مورد نظر از نوع كالاهايي باشد كه حجم آن در طي فرايند توليد كاهش مي‌يابد كارخانه بايد نزديك به مواد اوليه باشد</a:t>
            </a:r>
            <a:endParaRPr b="0" lang="en-US" sz="2800" spc="-1" strike="noStrike">
              <a:solidFill>
                <a:srgbClr val="000000"/>
              </a:solidFill>
              <a:latin typeface="Calibri"/>
            </a:endParaRPr>
          </a:p>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در صورتي كه سرويس‌دهي (خدمتدهي) فعاليت اصلي باشد در اين حالت نزديكي به بازار مصرف ارجحيت دارد.</a:t>
            </a:r>
            <a:endParaRPr b="0" lang="en-US" sz="2800" spc="-1" strike="noStrike">
              <a:solidFill>
                <a:srgbClr val="000000"/>
              </a:solidFill>
              <a:latin typeface="Calibri"/>
            </a:endParaRPr>
          </a:p>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گر توليد برمبناي سفارش باشد و يا توليد برمبناي سليقه مصرف‌كننده باشد، نزديكي به بازار مصرف ارجحيت دارد</a:t>
            </a:r>
            <a:endParaRPr b="0" lang="en-US" sz="2800" spc="-1" strike="noStrike">
              <a:solidFill>
                <a:srgbClr val="000000"/>
              </a:solidFill>
              <a:latin typeface="Calibri"/>
            </a:endParaRPr>
          </a:p>
          <a:p>
            <a:pPr marL="291600" indent="-2916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2" name=""/>
          <p:cNvSpPr txBox="1"/>
          <p:nvPr/>
        </p:nvSpPr>
        <p:spPr>
          <a:xfrm>
            <a:off x="152280" y="228240"/>
            <a:ext cx="8686800" cy="6629400"/>
          </a:xfrm>
          <a:prstGeom prst="rect">
            <a:avLst/>
          </a:prstGeom>
          <a:noFill/>
          <a:ln w="0">
            <a:noFill/>
          </a:ln>
        </p:spPr>
        <p:txBody>
          <a:bodyPr anchor="t">
            <a:normAutofit fontScale="95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3</a:t>
            </a:r>
            <a:r>
              <a:rPr b="1" lang="fa-IR" sz="2800" spc="-1" strike="noStrike">
                <a:solidFill>
                  <a:srgbClr val="000000"/>
                </a:solidFill>
                <a:latin typeface="Times New Roman"/>
                <a:ea typeface="B Nazanin"/>
              </a:rPr>
              <a:t>. حمل ونقل:</a:t>
            </a:r>
            <a:endParaRPr b="0" lang="en-US" sz="2800" spc="-1" strike="noStrike">
              <a:solidFill>
                <a:srgbClr val="000000"/>
              </a:solidFill>
              <a:latin typeface="Calibri"/>
            </a:endParaRPr>
          </a:p>
          <a:p>
            <a:pPr algn="just"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در تعيين وسيله حمل ونقل مواد و كالاها دو فاكتور هزينه و سرعت از اهميت بالائي برخوردارند.</a:t>
            </a:r>
            <a:endParaRPr b="0" lang="en-US" sz="2800" spc="-1" strike="noStrike">
              <a:solidFill>
                <a:srgbClr val="000000"/>
              </a:solidFill>
              <a:latin typeface="Calibri"/>
            </a:endParaRPr>
          </a:p>
          <a:p>
            <a:pPr algn="just"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راههاي آبي ( كشتي ارزانترين وسيله حمل ونقل اما كندترين وسيله حمل ونقل مي باشد)</a:t>
            </a:r>
            <a:endParaRPr b="0" lang="en-US" sz="2800" spc="-1" strike="noStrike">
              <a:solidFill>
                <a:srgbClr val="000000"/>
              </a:solidFill>
              <a:latin typeface="Calibri"/>
            </a:endParaRPr>
          </a:p>
          <a:p>
            <a:pPr algn="just"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راه‌آهن( از كشتي گرانتر  اما سريعتر است)</a:t>
            </a:r>
            <a:endParaRPr b="0" lang="en-US" sz="2800" spc="-1" strike="noStrike">
              <a:solidFill>
                <a:srgbClr val="000000"/>
              </a:solidFill>
              <a:latin typeface="Calibri"/>
            </a:endParaRPr>
          </a:p>
          <a:p>
            <a:pPr algn="just"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مل ونقل جاده‌اي ( بسيار منعطف است)</a:t>
            </a:r>
            <a:endParaRPr b="0" lang="en-US" sz="2800" spc="-1" strike="noStrike">
              <a:solidFill>
                <a:srgbClr val="000000"/>
              </a:solidFill>
              <a:latin typeface="Calibri"/>
            </a:endParaRPr>
          </a:p>
          <a:p>
            <a:pPr algn="just" rtl="1">
              <a:lnSpc>
                <a:spcPct val="10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مل ونقل هوائي ( سريعترين وسيله حمل ونقل است اما هزينه بالائي دارد)</a:t>
            </a:r>
            <a:endParaRPr b="0" lang="en-US" sz="2800" spc="-1" strike="noStrike">
              <a:solidFill>
                <a:srgbClr val="000000"/>
              </a:solidFill>
              <a:latin typeface="Calibri"/>
            </a:endParaRPr>
          </a:p>
          <a:p>
            <a:pPr algn="just" rtl="1">
              <a:lnSpc>
                <a:spcPct val="10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لوله‌گذاري: از لوله‌گذاري صرفاً براي انتقال مايعات و مواد فله‌اي استفاده مي شود</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3" name=""/>
          <p:cNvSpPr txBox="1"/>
          <p:nvPr/>
        </p:nvSpPr>
        <p:spPr>
          <a:xfrm>
            <a:off x="152280" y="228240"/>
            <a:ext cx="8686800" cy="6629400"/>
          </a:xfrm>
          <a:prstGeom prst="rect">
            <a:avLst/>
          </a:prstGeom>
          <a:noFill/>
          <a:ln w="0">
            <a:noFill/>
          </a:ln>
        </p:spPr>
        <p:txBody>
          <a:bodyPr anchor="t">
            <a:normAutofit/>
          </a:bodyPr>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4</a:t>
            </a:r>
            <a:r>
              <a:rPr b="1" lang="fa-IR" sz="2800" spc="-1" strike="noStrike">
                <a:solidFill>
                  <a:srgbClr val="000000"/>
                </a:solidFill>
                <a:latin typeface="Times New Roman"/>
                <a:ea typeface="B Nazanin"/>
              </a:rPr>
              <a:t>. آب و هوا:</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ين عامل در رابطه با كارخانجاتي مطرح مي‌باشد كه به آب و هواي خاصي نياز دارند. اين فاكتور در صنعت كشاورزي بسيار مطرح مي‌باشد.</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4" name=""/>
          <p:cNvSpPr txBox="1"/>
          <p:nvPr/>
        </p:nvSpPr>
        <p:spPr>
          <a:xfrm>
            <a:off x="152280" y="228240"/>
            <a:ext cx="8686800" cy="6629400"/>
          </a:xfrm>
          <a:prstGeom prst="rect">
            <a:avLst/>
          </a:prstGeom>
          <a:noFill/>
          <a:ln w="0">
            <a:noFill/>
          </a:ln>
        </p:spPr>
        <p:txBody>
          <a:bodyPr anchor="t">
            <a:normAutofit fontScale="94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كومتهاي محلي و وضعيت مالياتها: </a:t>
            </a:r>
            <a:endParaRPr b="0" lang="en-US" sz="28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سئولين محلي چه امتيازاتي را براي كارخانجاتي كه در ناحيه استقرارمي‌يابند قائل هستند</a:t>
            </a:r>
            <a:endParaRPr b="0" lang="en-US" sz="2800" spc="-1" strike="noStrike">
              <a:solidFill>
                <a:srgbClr val="000000"/>
              </a:solidFill>
              <a:latin typeface="Calibri"/>
            </a:endParaRPr>
          </a:p>
          <a:p>
            <a:pPr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عوامل مؤثر در انتخاب مكان</a:t>
            </a:r>
            <a:endParaRPr b="0" lang="en-US" sz="28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ندازه محل: آيا ميزان زميني كه در حال حاضر  نياز داريم در محل وجود دارد؟</a:t>
            </a:r>
            <a:endParaRPr b="0" lang="en-US" sz="2800" spc="-1" strike="noStrike">
              <a:solidFill>
                <a:srgbClr val="000000"/>
              </a:solidFill>
              <a:latin typeface="Calibri"/>
            </a:endParaRPr>
          </a:p>
          <a:p>
            <a:pPr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پيش بيني نياز هاي آينده براي توسعه: آيا اندازه زمين، ظرفيت توسعه دارد ؟</a:t>
            </a:r>
            <a:endParaRPr b="0" lang="en-US" sz="2800" spc="-1" strike="noStrike">
              <a:solidFill>
                <a:srgbClr val="000000"/>
              </a:solidFill>
              <a:latin typeface="Calibri"/>
            </a:endParaRPr>
          </a:p>
          <a:p>
            <a:pPr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وضعيت زمين و فاضلاب: آيا زمين از سختي مورد نياز برخوردار است؟ آيا سيستم فاضلاب بر روي سختي زمين تأثيري دارد؟</a:t>
            </a:r>
            <a:endParaRPr b="0" lang="en-US" sz="2800" spc="-1" strike="noStrike">
              <a:solidFill>
                <a:srgbClr val="000000"/>
              </a:solidFill>
              <a:latin typeface="Calibri"/>
            </a:endParaRPr>
          </a:p>
          <a:p>
            <a:pPr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مكانات تأمين آب: آيا آب مناسب و كافي براي تأمين نياز ها وجود دارد ؟</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5" name=""/>
          <p:cNvSpPr txBox="1"/>
          <p:nvPr/>
        </p:nvSpPr>
        <p:spPr>
          <a:xfrm>
            <a:off x="152280" y="228240"/>
            <a:ext cx="8686800" cy="6629400"/>
          </a:xfrm>
          <a:prstGeom prst="rect">
            <a:avLst/>
          </a:prstGeom>
          <a:noFill/>
          <a:ln w="0">
            <a:noFill/>
          </a:ln>
        </p:spPr>
        <p:txBody>
          <a:bodyPr anchor="t">
            <a:normAutofit fontScale="96000"/>
          </a:bodyPr>
          <a:p>
            <a:pPr marL="329040" indent="-329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مكانات تأمين نيروي (برق و گاز )و يا هر نيروي ديگري كه در خط توليد لازم است.</a:t>
            </a:r>
            <a:endParaRPr b="0" lang="en-US" sz="2800" spc="-1" strike="noStrike">
              <a:solidFill>
                <a:srgbClr val="000000"/>
              </a:solidFill>
              <a:latin typeface="Calibri"/>
            </a:endParaRPr>
          </a:p>
          <a:p>
            <a:pPr marL="329040" indent="-329040"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عامل انهدام ضايعات: آيا مكاني براي دفع ضايعات صنعتي وجود دارد؟</a:t>
            </a:r>
            <a:endParaRPr b="0" lang="en-US" sz="2800" spc="-1" strike="noStrike">
              <a:solidFill>
                <a:srgbClr val="000000"/>
              </a:solidFill>
              <a:latin typeface="Calibri"/>
            </a:endParaRPr>
          </a:p>
          <a:p>
            <a:pPr marL="329040" indent="-329040"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هزينه هاي خريد زمين: پولي كه بابت خريد زمين داده مي‌شود نسبت به كل سرمايه‌گذاري چقدر است؟</a:t>
            </a:r>
            <a:endParaRPr b="0" lang="en-US" sz="2800" spc="-1" strike="noStrike">
              <a:solidFill>
                <a:srgbClr val="000000"/>
              </a:solidFill>
              <a:latin typeface="Calibri"/>
            </a:endParaRPr>
          </a:p>
          <a:p>
            <a:pPr marL="329040" indent="-329040"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بطور کلی جهت طراحی یک محل تولیدی، باید مؤلفه های بسیاری را مورد بررسی قرار داد. این پارامترها شامل ارزیابی فرآیندهای تولید هر کالا، مشخصات هر محصول (شامل ابعاد، فسادپذیری و طول عمر و ...)، ارزیابی کار و زمان تولید، انبارداری، حمل و نقل و غیره می باشند.</a:t>
            </a:r>
            <a:endParaRPr b="0" lang="en-US" sz="2800" spc="-1" strike="noStrike">
              <a:solidFill>
                <a:srgbClr val="000000"/>
              </a:solidFill>
              <a:latin typeface="Calibri"/>
            </a:endParaRPr>
          </a:p>
          <a:p>
            <a:pPr marL="329040" indent="-329040"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1" name="TextBox 4"/>
          <p:cNvSpPr/>
          <p:nvPr/>
        </p:nvSpPr>
        <p:spPr>
          <a:xfrm>
            <a:off x="1066680" y="1981080"/>
            <a:ext cx="6705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02060"/>
                </a:solidFill>
                <a:latin typeface="IranNastaliq"/>
                <a:cs typeface="IranNastaliq"/>
              </a:rPr>
              <a:t>بسم الله الرحمن الرحیم</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2" name="Picture 3" descr=""/>
          <p:cNvPicPr/>
          <p:nvPr/>
        </p:nvPicPr>
        <p:blipFill>
          <a:blip r:embed="rId1"/>
          <a:stretch/>
        </p:blipFill>
        <p:spPr>
          <a:xfrm>
            <a:off x="0" y="1676520"/>
            <a:ext cx="9144000" cy="5181480"/>
          </a:xfrm>
          <a:prstGeom prst="rect">
            <a:avLst/>
          </a:prstGeom>
          <a:ln w="0">
            <a:noFill/>
          </a:ln>
        </p:spPr>
      </p:pic>
      <p:sp>
        <p:nvSpPr>
          <p:cNvPr id="903" name="TextBox 5"/>
          <p:cNvSpPr/>
          <p:nvPr/>
        </p:nvSpPr>
        <p:spPr>
          <a:xfrm>
            <a:off x="1066680" y="20016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وزارت علوم تحقیقات و فناوری</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4" name="TextBox 3"/>
          <p:cNvSpPr/>
          <p:nvPr/>
        </p:nvSpPr>
        <p:spPr>
          <a:xfrm>
            <a:off x="1066680" y="198108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آموزشکده فنی و حرفه ای دختران ارومیه</a:t>
            </a:r>
            <a:endParaRPr b="0" lang="en-US" sz="8000" spc="-1" strike="noStrike">
              <a:solidFill>
                <a:srgbClr val="000000"/>
              </a:solidFill>
              <a:latin typeface="Arial"/>
            </a:endParaRPr>
          </a:p>
        </p:txBody>
      </p:sp>
      <p:sp>
        <p:nvSpPr>
          <p:cNvPr id="905" name="TextBox 5"/>
          <p:cNvSpPr/>
          <p:nvPr/>
        </p:nvSpPr>
        <p:spPr>
          <a:xfrm>
            <a:off x="1044720" y="30492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انشگاه فنی و حرفه ای</a:t>
            </a:r>
            <a:endParaRPr b="0" lang="en-US" sz="8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6" name="TextBox 4"/>
          <p:cNvSpPr/>
          <p:nvPr/>
        </p:nvSpPr>
        <p:spPr>
          <a:xfrm>
            <a:off x="1103400" y="3084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رس : مدیریت تولید</a:t>
            </a:r>
            <a:endParaRPr b="0" lang="en-US" sz="8000" spc="-1" strike="noStrike">
              <a:solidFill>
                <a:srgbClr val="000000"/>
              </a:solidFill>
              <a:latin typeface="Arial"/>
            </a:endParaRPr>
          </a:p>
        </p:txBody>
      </p:sp>
      <p:sp>
        <p:nvSpPr>
          <p:cNvPr id="907" name="TextBox 3"/>
          <p:cNvSpPr/>
          <p:nvPr/>
        </p:nvSpPr>
        <p:spPr>
          <a:xfrm>
            <a:off x="1103400" y="5181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استاد مربوطه : خانم جهتی</a:t>
            </a:r>
            <a:endParaRPr b="0" lang="en-US" sz="8000" spc="-1" strike="noStrike">
              <a:solidFill>
                <a:srgbClr val="000000"/>
              </a:solidFill>
              <a:latin typeface="Arial"/>
            </a:endParaRPr>
          </a:p>
        </p:txBody>
      </p:sp>
      <p:sp>
        <p:nvSpPr>
          <p:cNvPr id="908" name="TextBox 5"/>
          <p:cNvSpPr/>
          <p:nvPr/>
        </p:nvSpPr>
        <p:spPr>
          <a:xfrm>
            <a:off x="1103400" y="609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مقطع تحصیلی کارشناسی</a:t>
            </a:r>
            <a:endParaRPr b="0" lang="en-US" sz="8000" spc="-1" strike="noStrike">
              <a:solidFill>
                <a:srgbClr val="000000"/>
              </a:solidFill>
              <a:latin typeface="Arial"/>
            </a:endParaRPr>
          </a:p>
        </p:txBody>
      </p:sp>
      <p:sp>
        <p:nvSpPr>
          <p:cNvPr id="909" name="TextBox 6"/>
          <p:cNvSpPr/>
          <p:nvPr/>
        </p:nvSpPr>
        <p:spPr>
          <a:xfrm>
            <a:off x="1103400" y="17812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رشته حسابداری</a:t>
            </a:r>
            <a:endParaRPr b="0" lang="en-US" sz="8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533520" y="2362320"/>
            <a:ext cx="8229600" cy="1249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IranNastaliq"/>
                <a:cs typeface="IranNastaliq"/>
              </a:rPr>
              <a:t>فصل سوم</a:t>
            </a:r>
            <a:endParaRPr b="0" lang="en-US" sz="5400" spc="-1" strike="noStrike">
              <a:solidFill>
                <a:srgbClr val="000000"/>
              </a:solidFill>
              <a:latin typeface="Calibri"/>
            </a:endParaRPr>
          </a:p>
        </p:txBody>
      </p:sp>
      <p:sp>
        <p:nvSpPr>
          <p:cNvPr id="911" name=""/>
          <p:cNvSpPr txBox="1"/>
          <p:nvPr/>
        </p:nvSpPr>
        <p:spPr>
          <a:xfrm>
            <a:off x="228240" y="4267080"/>
            <a:ext cx="8839080" cy="1447920"/>
          </a:xfrm>
          <a:prstGeom prst="rect">
            <a:avLst/>
          </a:prstGeom>
          <a:noFill/>
          <a:ln w="0">
            <a:noFill/>
          </a:ln>
        </p:spPr>
        <p:txBody>
          <a:bodyPr anchor="t">
            <a:normAutofit fontScale="82000"/>
          </a:bodyPr>
          <a:p>
            <a:pPr algn="ct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0000"/>
                </a:solidFill>
                <a:latin typeface="Times New Roman"/>
                <a:cs typeface="B Nazanin"/>
              </a:rPr>
              <a:t>طراحی موقعیت و محل کارخانه</a:t>
            </a:r>
            <a:endParaRPr b="0" lang="en-US" sz="5400" spc="-1" strike="noStrike">
              <a:solidFill>
                <a:srgbClr val="000000"/>
              </a:solidFill>
              <a:latin typeface="Calibri"/>
            </a:endParaRPr>
          </a:p>
        </p:txBody>
      </p:sp>
      <p:sp>
        <p:nvSpPr>
          <p:cNvPr id="912" name="Title 1"/>
          <p:cNvSpPr/>
          <p:nvPr/>
        </p:nvSpPr>
        <p:spPr>
          <a:xfrm>
            <a:off x="509760" y="609480"/>
            <a:ext cx="8229600" cy="124956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جلسه سو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مكان يابي</a:t>
            </a:r>
            <a:endParaRPr b="0" lang="en-US" sz="4800" spc="-1" strike="noStrike">
              <a:solidFill>
                <a:srgbClr val="000000"/>
              </a:solidFill>
              <a:latin typeface="Calibri"/>
            </a:endParaRPr>
          </a:p>
        </p:txBody>
      </p:sp>
      <p:sp>
        <p:nvSpPr>
          <p:cNvPr id="914" name=""/>
          <p:cNvSpPr txBox="1"/>
          <p:nvPr/>
        </p:nvSpPr>
        <p:spPr>
          <a:xfrm>
            <a:off x="152280" y="1600200"/>
            <a:ext cx="8839440" cy="4525920"/>
          </a:xfrm>
          <a:prstGeom prst="rect">
            <a:avLst/>
          </a:prstGeom>
          <a:noFill/>
          <a:ln w="0">
            <a:noFill/>
          </a:ln>
        </p:spPr>
        <p:txBody>
          <a:bodyPr anchor="t">
            <a:normAutofit fontScale="9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كان يابي: يك فرايند كيفي و كمي مي‌باشد كه از طريق آن مي‌توان نقطه مطلوب يا مناسب را براي استقرار واحد صنعتي پيدا كرد.</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فرايند </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cs typeface="B Nazanin"/>
              </a:rPr>
              <a:t>مكان‌يابي در طي سه مرحله انجام مي‌</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cs typeface="B Nazanin"/>
              </a:rPr>
              <a:t>شود. در مرحله اول بايد از بين مناطق موجود يك منطقه را انتخاب كرد و سپس  در مرحله دوم از بين</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ea typeface="B Nazanin"/>
              </a:rPr>
              <a:t> نواحي موجود در منطقة انتخاب شده يك ناحيه را انتخاب كرده و سپس در نهايت از بين مكان</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cs typeface="B Nazanin"/>
              </a:rPr>
              <a:t>هاي موجود در ناحية انتخاب شده يك </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cs typeface="B Nazanin"/>
              </a:rPr>
              <a:t>مكان را انتخاب كنيم.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عوامل موثر بر تصميمات مكان يابي</a:t>
            </a:r>
            <a:endParaRPr b="0" lang="en-US" sz="4800" spc="-1" strike="noStrike">
              <a:solidFill>
                <a:srgbClr val="000000"/>
              </a:solidFill>
              <a:latin typeface="Calibri"/>
            </a:endParaRPr>
          </a:p>
        </p:txBody>
      </p:sp>
      <p:sp>
        <p:nvSpPr>
          <p:cNvPr id="916" name=""/>
          <p:cNvSpPr txBox="1"/>
          <p:nvPr/>
        </p:nvSpPr>
        <p:spPr>
          <a:xfrm>
            <a:off x="152280" y="1600200"/>
            <a:ext cx="8839440" cy="4525920"/>
          </a:xfrm>
          <a:prstGeom prst="rect">
            <a:avLst/>
          </a:prstGeom>
          <a:noFill/>
          <a:ln w="0">
            <a:noFill/>
          </a:ln>
        </p:spPr>
        <p:txBody>
          <a:bodyPr anchor="t">
            <a:normAutofit fontScale="92000"/>
          </a:bodyPr>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جو كاري و نيروي كار مناسب</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نزديكي به بازارهاي مصرف </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كيفيت زندگي</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نزديكي به عرضه كنندگان</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نزديكي به تاسيسات اصلي شركت </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مکانات آب، برق، تلفن</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هزينه هاي ساخت و ساز، وجود شيوهای چندگانه  حمل و نقل، هزينه هاي جابه جايي مواد و نيروي انساني بين كارخانه ها، هزينه هاي بيمه، مقررات محلي (كنترل آلودگي صدا) معافیت های مختلف</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7" name=""/>
          <p:cNvSpPr txBox="1"/>
          <p:nvPr/>
        </p:nvSpPr>
        <p:spPr>
          <a:xfrm>
            <a:off x="152280" y="228240"/>
            <a:ext cx="8686800" cy="6629400"/>
          </a:xfrm>
          <a:prstGeom prst="rect">
            <a:avLst/>
          </a:prstGeom>
          <a:noFill/>
          <a:ln w="0">
            <a:noFill/>
          </a:ln>
        </p:spPr>
        <p:txBody>
          <a:bodyPr anchor="t">
            <a:normAutofit fontScale="7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قبل از انجام فرايند مكان‌يابي ابتدا بايد به چند سئوال اساسي پاسخ داد كه عبارتند از:</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1</a:t>
            </a:r>
            <a:r>
              <a:rPr b="1" lang="fa-IR" sz="2800" spc="-1" strike="noStrike">
                <a:solidFill>
                  <a:srgbClr val="000000"/>
                </a:solidFill>
                <a:latin typeface="Times New Roman"/>
                <a:ea typeface="B Nazanin"/>
              </a:rPr>
              <a:t>. چه بازارهايي توسط اين كارخانه (محل جديد) سرويس داده خواهند شد.</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2</a:t>
            </a:r>
            <a:r>
              <a:rPr b="1" lang="fa-IR" sz="2800" spc="-1" strike="noStrike">
                <a:solidFill>
                  <a:srgbClr val="000000"/>
                </a:solidFill>
                <a:latin typeface="Times New Roman"/>
                <a:ea typeface="B Nazanin"/>
              </a:rPr>
              <a:t>. مواد اوليه مورد مصرف كارخانه چه چيزهايي هستند و از چه مكاني تأمين مي‌شوند.</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3</a:t>
            </a:r>
            <a:r>
              <a:rPr b="1" lang="fa-IR" sz="2800" spc="-1" strike="noStrike">
                <a:solidFill>
                  <a:srgbClr val="000000"/>
                </a:solidFill>
                <a:latin typeface="Times New Roman"/>
                <a:ea typeface="B Nazanin"/>
              </a:rPr>
              <a:t>. چه نوع نيروي انساني و با چه تخصصهايي مورد نياز است.</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4</a:t>
            </a:r>
            <a:r>
              <a:rPr b="1" lang="fa-IR" sz="2800" spc="-1" strike="noStrike">
                <a:solidFill>
                  <a:srgbClr val="000000"/>
                </a:solidFill>
                <a:latin typeface="Times New Roman"/>
                <a:ea typeface="B Nazanin"/>
              </a:rPr>
              <a:t>. چه نوع شيوه‌ هاي حمل و نقل براي انتقال مواد اوليه لازم است.</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5</a:t>
            </a:r>
            <a:r>
              <a:rPr b="1" lang="fa-IR" sz="2800" spc="-1" strike="noStrike">
                <a:solidFill>
                  <a:srgbClr val="000000"/>
                </a:solidFill>
                <a:latin typeface="Times New Roman"/>
                <a:ea typeface="B Nazanin"/>
              </a:rPr>
              <a:t>. چه نوع نيرويي (برق،گاز…و اتمي) براي خط توليد بايد به كار رود.</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6</a:t>
            </a:r>
            <a:r>
              <a:rPr b="1" lang="fa-IR" sz="2800" spc="-1" strike="noStrike">
                <a:solidFill>
                  <a:srgbClr val="000000"/>
                </a:solidFill>
                <a:latin typeface="Times New Roman"/>
                <a:ea typeface="B Nazanin"/>
              </a:rPr>
              <a:t>. آيا براي توليد كالاي مورد نظر شرايط آب و هوايي خاصي لازم است.</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skarifar</dc:creator>
  <dc:description/>
  <dc:language>en-US</dc:language>
  <cp:lastModifiedBy>Toka</cp:lastModifiedBy>
  <dcterms:modified xsi:type="dcterms:W3CDTF">2020-04-12T19:48:22Z</dcterms:modified>
  <cp:revision>1412</cp:revision>
  <dc:subject/>
  <dc:title>Slide 1</dc:title>
</cp:coreProperties>
</file>