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EC123-B8FF-484B-AAB8-B4A98CA55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3843E-040F-4439-ABFA-CE6F8FD21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A8812A0-EF77-430F-8E9C-2E6018A4D0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56ECA1A-FC88-42B7-A6F0-52E98F25FD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873C9BA-F362-4793-A000-7B37D81B55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7BBF75D-F6AA-46D5-BDAE-B176C7A132E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AC878EB-E1F2-4E4E-A777-68C3AB785F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954EDF-B57A-4486-BA6D-0815424A68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66344EB-FD46-450B-9A7A-A5D30C1F3A8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B7EEC0B-BA10-4CD9-9385-A33154A4B7C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F9A8CD4-7E7C-47B2-9020-3CDB4A5F14B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98E4753-E8C2-4EF9-9095-B5459EE453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6E2CF-0656-4979-8046-51B9CD4A2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79C13A0-B667-49BC-A701-805F969398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E0A275-B951-42BB-AE96-BC7E44FE14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8E78573-DAF6-4195-9431-2D2DD0162F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DE2CAAA-8656-49C5-8C61-5F93CFE5D1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2BC5A38-FE8B-4CB1-BBD8-F14A95E144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9826A1B-2CF2-401F-B62B-BA0AC7D007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CFA094-55DD-4E34-9DCD-DAAE540278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B093C9D-BDB1-42F7-A568-4A7FB4EE7D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C36A279-54EA-4C83-87EF-4692E6560F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DCB1376-732A-4B10-990F-990AB9A0DF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F3C9C-479B-4279-BBAA-2C31685AD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51B7D07-292A-424C-8C48-0E8C3F773B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20B21D68-FB2C-40EB-8F62-914368AE06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EE93D322-1284-4015-ACB3-F754F0522E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5B34AA4-0433-4480-A4EF-05FBF32DE6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1861154-3EEB-49A0-91F4-68D518E03B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60C73B7-B139-438B-8416-292B78373D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49F8FA83-723C-4706-BFF9-F178AC8CEF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E7287D1-4683-455B-9C4F-CD8AB170F2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72AF859-1C11-4848-B695-C87A8AA33F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3EA4244-F5FD-45AE-B76B-789B80FAFD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A4E32-9F5D-4C99-950B-9BCF1B537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5C4FF59-FDBC-4289-B35F-FF683C043F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07F6083F-06E5-440E-AF32-3E54829A0E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17BA0A8F-8D7A-4009-A952-57F79CD04F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EDA2AC9-04A5-4891-B3A2-CAC617A173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6ECC225-B1AC-47D5-B563-47CEFC6EBD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84D32B6-6F10-49EA-9008-A9564B89B5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C55F2FC-E73F-462E-BE28-D258C70CEE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81FB395-4559-496E-B9BA-CD66855253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54C6DE9-EFFB-415C-88AF-58827C1635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2569FD0-CB7A-49B0-B824-3FDC255B2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74A3B-ABAF-4D0C-8566-901357B72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DD62037-F14E-4076-AD9C-A6D5D89235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BCA0EC1-74A9-40C8-A7BA-1B140BFE07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F7795BA-455A-47DE-9CBA-EB902B82CD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0F504C0-DDDB-4432-9966-482C2DD567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FC5DB98-E204-4E67-8ED9-8FE0A96AB7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AE5DB-5590-4E97-82C0-512BFD00D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A3D61-5773-4EE2-975C-A38CD2805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B467F-49B4-4374-930C-6D2518372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C2FD6-8D63-49A1-A854-03BD26ABC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46167-D7D6-4395-86A8-45499E399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465E-34CD-4061-9CA8-D134D7084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D4D78-5658-4DF6-B868-11B255590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CE82E-C3FE-49F6-8DDD-EE45AD1E1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B0500-F6A8-4D3F-909A-10EED04C5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6015A-A45C-4316-AFC3-AE0E51DCE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479AE-41A7-4188-B425-9521B56D7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D48157-0702-41DD-B982-CF8E5C32A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A68DF-073E-47FE-9F7E-4ADF4C45C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30217-715A-4215-A52B-494B56EB4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7C76C0-CD35-47EB-9A80-6C89E603F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2A3E1-B98C-4355-BFDD-6252560CB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763F4-BC54-41AC-8F20-26CFB05CD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C48DD-025C-4C84-AAA9-9E28875C42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D61B8-A1CC-404B-BE18-249CEFC49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8582E-1C17-446A-9622-3A8C46458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C2DB4-0661-4412-9765-6ADD191FA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35001-0887-48E7-AD47-64E8F283DA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F5F00A-0F9C-406B-902B-F743B8C486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90FD1C-970C-4028-AB52-291E33CD2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070C29BE-EB44-4BAD-90CC-DEEA954411C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D4157B79-781C-47F7-9547-158A0FB066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8EF159D3-4F94-441D-8F50-E2C0AAF0F6C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664A7-491F-45DB-8F29-0288909B1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3FC78D52-4B48-49C1-B75D-A5B7A913B9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89325518-9D84-4FDB-B255-136DC71145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344611DE-002C-4157-B50A-EB56E832508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0413C512-F84B-4F61-90F6-B4325F22D9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F8DA395-131E-467E-A335-7618A36F23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748CE58-517D-42E3-A604-857584C7A6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BC8D8484-6AE1-4ED5-BFE7-BFA36E25B7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714BBF88-A0ED-46D4-9947-DC038008535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AC7E9CFA-6D05-4FEC-BDC1-BB16029B270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C6B9EB95-DA05-46EE-870B-E913B544280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B3B7-6432-46B1-89C7-B09964058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83BA5DB-E7C2-4857-8DA6-1FAD0C6F2AA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0C66AD7-2459-4FDD-88D2-2E52B42D2CA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AEFF35A1-B3BD-42AB-BBFC-801A505767D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5D0D31A-87A6-4452-A310-051B8A82DB9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1EC9611-CE3C-436B-B204-2822D325E0F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6AF49FB-E888-4730-A2C7-F09E8FC7482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4842B47-D316-4122-9C66-A91B5E4022A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907F0BD-E84B-4822-B0EA-8612C974805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6D992CD-C931-455B-849C-666AFCA66FF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60A68418-1144-461E-AC8F-C5256833779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AD929-8736-4549-8D3C-8DDA6E449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BDBA43E6-3F32-4543-8644-6157F300C09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DD8F2806-2DF3-4F43-B758-9CF5C962D23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3052AAC-840D-4EFE-9647-A418BCB4667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7640F805-4FF6-4998-B382-5EA409BAADD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9A4C9F73-04FE-496C-BBAC-AE217F5077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C9AB7A9-212E-4FC6-BCC2-527FD28543A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B40945B-CA95-4445-9F29-700F062BB61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D66DDD00-DFDB-403D-8022-D0B3FE6E74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91426C4-1AD2-4D6E-BC14-78CA7FF6371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88E8ABE-14B3-4FE7-B7C0-8B671B494D1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FBE7-CD6E-4667-9658-41A7895FA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251EE154-D78F-4FEF-8DE1-FE86C0DFF04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3037C536-26A3-4017-9AED-B733482F88A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4858F937-7EE5-492F-8334-F1533DC4920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B9297A29-D2E7-4F0B-957A-947C3778343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CF933244-B9B0-47D3-B5F6-EA3F1F7075B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080E62C4-C989-42B9-9846-FC023867040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F5DFC045-2C02-4F50-9908-5CD5344D6D9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DBB3B737-0227-4BDE-A771-C6DF8C14229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24865C62-2590-44D8-ADD7-0AEBD9058A3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9B8C8C6-0666-46AB-B5A1-B7D1FE2E652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147D9-E2D9-40EE-AD15-7C197832C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3A3EC45-FC54-47A3-B888-FA07D816B76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5B7281B-7B12-4B9E-AFEA-BAE85DE781A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6121F526-D898-4B41-B93F-4AD589441D7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220F50D2-D63A-47EE-AA32-8053B677A98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F2D48F2E-E178-4C66-92FD-88325F4EE50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D9C11766-A039-41BA-AA8E-857D6AFD4C2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10C9C511-634B-4EF1-84FA-F592607949E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85360AD-AA77-4B44-8E1B-A3A05DE64B1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3DD7D6B-690C-4130-B93D-598B98B23ED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6DF4291A-27B9-4DB0-96DF-C9E119588F3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89B44-26CC-42E4-827E-5A9B9F417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7E02FB70-A8EB-4CC7-A248-C9A8A87CC1D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457ACB9-206E-4D64-A9CF-DA284AC8470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EAE852E-7A97-450C-9808-552468F3001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15FCE48-36A1-4C6F-B69B-15494568207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D3C92E27-E659-4AF4-91C5-7D350D1EF33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64834499-3AF1-4126-A464-A45824E2FEF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1B93B939-6ACA-4A2E-85AF-F341921E52E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0D337B1-93AE-44EF-90E3-E679B24D209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5D9E8C3-50DC-48BE-8AB8-BD9C7F52C15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4BAB699-CE13-4143-9C76-1A9FCDBDCA4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3795-0B83-4379-B463-84A549A92D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3A98-1326-4432-A023-5537EF00E3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05AA-B90A-4650-B3A6-97180B3A1E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C6F8-60EC-4306-8882-5D6B0548B4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1994-9BB0-4685-BA17-7D89686E86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E5FE-D149-4C65-B82C-C3804906DA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4FEF-C236-4DF9-86BF-9EF5A7F3C3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4E3A-EC02-4E26-96C5-0901784B94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E7A0-69E9-46D0-8237-980F0CAB83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D26C-E4FC-482B-AECE-582B1B1945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EE7C-A28A-44C7-B0EC-6ACB2A6F80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7F71-46EA-478F-8A9E-B68A05EE52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6" name=""/>
          <p:cNvSpPr txBox="1"/>
          <p:nvPr/>
        </p:nvSpPr>
        <p:spPr>
          <a:xfrm>
            <a:off x="152280" y="228600"/>
            <a:ext cx="8839440" cy="6324480"/>
          </a:xfrm>
          <a:prstGeom prst="rect">
            <a:avLst/>
          </a:prstGeom>
          <a:noFill/>
          <a:ln w="0">
            <a:noFill/>
          </a:ln>
        </p:spPr>
        <p:txBody>
          <a:bodyPr anchor="t">
            <a:normAutofit fontScale="93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۲</a:t>
            </a:r>
            <a:r>
              <a:rPr b="1" lang="fa-IR" sz="3200" spc="-1" strike="noStrike">
                <a:solidFill>
                  <a:srgbClr val="000000"/>
                </a:solidFill>
                <a:latin typeface="Times New Roman"/>
                <a:ea typeface="B Nazanin"/>
              </a:rPr>
              <a:t>:به حداقل رساندن زمان فرایند از طریق فرایند زیر:</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طراحی خطوط تولیدی مناسب برای گردش سریع مواد و کالاها</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وسایل مناسب برای حمل و نقل سریع موا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۳</a:t>
            </a:r>
            <a:r>
              <a:rPr b="1" lang="fa-IR" sz="3200" spc="-1" strike="noStrike">
                <a:solidFill>
                  <a:srgbClr val="000000"/>
                </a:solidFill>
                <a:latin typeface="Times New Roman"/>
                <a:ea typeface="B Nazanin"/>
              </a:rPr>
              <a:t>:استفاده بهینه از فضای موج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۴</a:t>
            </a:r>
            <a:r>
              <a:rPr b="1" lang="fa-IR" sz="3200" spc="-1" strike="noStrike">
                <a:solidFill>
                  <a:srgbClr val="000000"/>
                </a:solidFill>
                <a:latin typeface="Times New Roman"/>
                <a:ea typeface="B Nazanin"/>
              </a:rPr>
              <a:t>: استفاده بهینه از نیروی انسانی با فراهم کردن محیط کار مناسب و ایمن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70c0"/>
                </a:solidFill>
                <a:latin typeface="Times New Roman"/>
                <a:cs typeface="B Nazanin"/>
              </a:rPr>
              <a:t>اصل موازنه</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نظور از اصل موازنه  یا توازن در مدیریت تولید  این است که هر ایستگاه کار در خط تولید باید دارای چنان ظرفیتی باشد که بتواند تمام کار مرحله قبلی دریافت ک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وازون تولید باعث کاهش موجودی انبارها و کاهش زمان بیکاری و زیان ناشی از تاخیر تولید محصولات می شود</a:t>
            </a:r>
            <a:endParaRPr b="0" lang="en-US" sz="3200" spc="-1" strike="noStrike">
              <a:solidFill>
                <a:srgbClr val="000000"/>
              </a:solidFill>
              <a:latin typeface="Calibri"/>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ظرفیت هر یک از  ایستگاه های کار باید طوری باشد که به راحتی تمام کار ماشین یا ایستگاه کار قبلی را دریافت کند و خود نیز به اندازه ظرفیت ماشین یا ایستگاه کار بعدی کار  ایجاد نمای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1920" y="304920"/>
            <a:ext cx="8915400" cy="6324480"/>
          </a:xfrm>
          <a:prstGeom prst="rect">
            <a:avLst/>
          </a:prstGeom>
          <a:noFill/>
          <a:ln w="0">
            <a:noFill/>
          </a:ln>
        </p:spPr>
        <p:txBody>
          <a:bodyPr anchor="t">
            <a:normAutofit fontScale="89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215968"/>
                </a:solidFill>
                <a:latin typeface="Times New Roman"/>
                <a:cs typeface="B Nazanin"/>
              </a:rPr>
              <a:t>سطوح عمودي كارخانه :</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بطور كلي شش سطح در يك كارخانه وجود دارد كه عبارتند از:</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زيرزميني: در اين سطح معمولاً وسائل گرمايش، فاضلاب و ضايعات قرار مي‌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همكف: در اين سطح تجهيزات، انبارها و ابزار قرار مي 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حركت محصولات: سطحي است فرضي حدود يك متر بالاتر از سطح زمين قرار دارد مواد در اين سطح بين ماشين‌آلات انتقال مي‌يابن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600"/>
            <a:ext cx="8839440" cy="64771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آزاد: از بالاي بالاترين ماشين تا پايين خرپاي نگهدارندة سقف را شامل مي‌گردد معمولاً از اين سطح براي نقاله‌هاي بالابر و ياجابجا كننده استفاده مي‌ش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اسكلت فلزي: از پايين‌ترين قسمت اسكلت فلزي تا زير سقف را شامل مي‌شود و از اين سطح براي وسائل تهويه، سرمايشي، سيم‌كشي‌ها و لوله‌هاي آب پاشي استفاده مي گرد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پشت بام: براي وسائل تهويه و تانكرهاي آب مورد استفاده قرار مي‌گي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1904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چهارم</a:t>
            </a:r>
            <a:endParaRPr b="0" lang="en-US" sz="6000" spc="-1" strike="noStrike">
              <a:solidFill>
                <a:srgbClr val="000000"/>
              </a:solidFill>
              <a:latin typeface="Calibri"/>
            </a:endParaRPr>
          </a:p>
        </p:txBody>
      </p:sp>
      <p:sp>
        <p:nvSpPr>
          <p:cNvPr id="911" name=""/>
          <p:cNvSpPr txBox="1"/>
          <p:nvPr/>
        </p:nvSpPr>
        <p:spPr>
          <a:xfrm>
            <a:off x="152280" y="4952520"/>
            <a:ext cx="8763120" cy="12193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نحوه استقرار ماشین آلات</a:t>
            </a:r>
            <a:endParaRPr b="0" lang="en-US" sz="5400" spc="-1" strike="noStrike">
              <a:solidFill>
                <a:srgbClr val="000000"/>
              </a:solidFill>
              <a:latin typeface="Calibri"/>
            </a:endParaRPr>
          </a:p>
        </p:txBody>
      </p:sp>
      <p:sp>
        <p:nvSpPr>
          <p:cNvPr id="912" name="Title 1"/>
          <p:cNvSpPr/>
          <p:nvPr/>
        </p:nvSpPr>
        <p:spPr>
          <a:xfrm>
            <a:off x="419040" y="9302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IranNastaliq"/>
                <a:cs typeface="IranNastaliq"/>
              </a:rPr>
              <a:t>جلسه چهار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
          <p:cNvSpPr txBox="1"/>
          <p:nvPr/>
        </p:nvSpPr>
        <p:spPr>
          <a:xfrm>
            <a:off x="152280" y="533160"/>
            <a:ext cx="8839440" cy="56386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قدمه :</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Nazanin"/>
              </a:rPr>
              <a:t> </a:t>
            </a:r>
            <a:r>
              <a:rPr b="1" lang="fa-IR" sz="2800" spc="-1" strike="noStrike">
                <a:solidFill>
                  <a:srgbClr val="000000"/>
                </a:solidFill>
                <a:latin typeface="Times New Roman"/>
                <a:cs typeface="B Nazanin"/>
              </a:rPr>
              <a:t>ماشین آلات بگونه ای استقرار می یابد که تولید ، اقتصادی و مقرون به صرفه باشد. این محل احتیاج به تحلیل هدف ، مراحل کار ، گردش عملیات ، تسهیلات و . . . دار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خط و مشی های مدیریت:</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نظور ، سیاستهای مشخص کننده نوع ، کیفیت محصول ، اندازه کارخانه ، نحوه انعطاف پذیری در کارخانه ، برنامه های توسعه ، میزان موجودی و نوع تسهیلات برای کارکنان است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4" name=""/>
          <p:cNvSpPr txBox="1"/>
          <p:nvPr/>
        </p:nvSpPr>
        <p:spPr>
          <a:xfrm>
            <a:off x="152280" y="456840"/>
            <a:ext cx="8839440" cy="6095880"/>
          </a:xfrm>
          <a:prstGeom prst="rect">
            <a:avLst/>
          </a:prstGeom>
          <a:noFill/>
          <a:ln w="0">
            <a:noFill/>
          </a:ln>
        </p:spPr>
        <p:txBody>
          <a:bodyPr anchor="t">
            <a:normAutofit fontScale="9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حل و موقعیت : </a:t>
            </a:r>
            <a:r>
              <a:rPr b="1" lang="fa-IR" sz="3200" spc="-1" strike="noStrike">
                <a:solidFill>
                  <a:srgbClr val="000000"/>
                </a:solidFill>
                <a:latin typeface="Times New Roman"/>
                <a:cs typeface="B Nazanin"/>
              </a:rPr>
              <a:t>ترکیب عوامل تولید در یک منطقه با منطقه دیگر بکلی متفاوت است. محل کارخانه از نظر وسعت و اندازه و شکل و موقعیت جغرافیایی و نوع ساختمان و ترتیب کلی استقرار و مکان آن به منظور دریافت حمل و نقل مواد و بارگیری صحیح و به منظور جریان صحیح تولید  در داخل و خارج کارخانه موث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فرایند های ساخت: </a:t>
            </a:r>
            <a:r>
              <a:rPr b="1" lang="fa-IR" sz="3200" spc="-1" strike="noStrike">
                <a:solidFill>
                  <a:srgbClr val="000000"/>
                </a:solidFill>
                <a:latin typeface="Times New Roman"/>
                <a:cs typeface="B Nazanin"/>
              </a:rPr>
              <a:t>نوع فرایند ساخت مورد استفاده در کارخانه یا عملیاتی که برای تولید انجام می شود در نوع جا و مکان مورد نظر در کارخانه موثر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
          <p:cNvSpPr txBox="1"/>
          <p:nvPr/>
        </p:nvSpPr>
        <p:spPr>
          <a:xfrm>
            <a:off x="152280" y="228600"/>
            <a:ext cx="8839440" cy="6324480"/>
          </a:xfrm>
          <a:prstGeom prst="rect">
            <a:avLst/>
          </a:prstGeom>
          <a:noFill/>
          <a:ln w="0">
            <a:noFill/>
          </a:ln>
        </p:spPr>
        <p:txBody>
          <a:bodyPr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اهداف و مزایای استفاده از محل و طرز استقرار داخلی:</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تسهیل فرایند تولید از طریق تدابیر زیر:</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تجهیزات در محلی که حداکثر استفاده از آن به عمل آ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کاهش تجمع و تراکم بیهوده مواد و نیروی انسانی از طریق تعیین صحیح ایستگاه های تول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دسترسی سریعتر به وسایل و خدمات تعمیرات و نگهدار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9:01Z</dcterms:modified>
  <cp:revision>1411</cp:revision>
  <dc:subject/>
  <dc:title>Slide 1</dc:title>
</cp:coreProperties>
</file>